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760AE-7574-458E-AD37-AC1DF388C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92F6-A18E-479C-98C8-F1CDB613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6E01E-F6E9-46AF-8A09-47996089C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6B1B6-373C-4D29-8D38-2A1FF421D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844A3-49DB-4A76-BF47-0B6C26AA5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D294-E0AB-46C8-A54A-04B97E1B7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3DAB3-B749-4526-8A1A-11F41EC0B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8C0D1-1E72-450A-8C1F-ADC275187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0986F-E635-4711-A5B3-2F7884C28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0049-F5FD-4F1F-81A4-0A7175E72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8A774-237B-4497-B9C6-FABE8BF1D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1752-FDC7-4485-B321-4508D476B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B589B-6935-4207-BF12-2CCC50869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D4930-372C-4D31-9940-286A3D272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17CBF-441E-4D85-97DB-9343B2010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754D1-D5C7-4B11-874B-2745C55A4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1A9C0-65AF-4692-A272-26EB0B915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4397-899F-4FA5-A29D-8D1980E69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6D446-2F55-4F73-BF1C-5F0A9E17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185DF-702B-4DC1-9675-E06C16ED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F601-29AB-4B6E-A11F-3076AD814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8F81-B41D-4A4C-ABF7-933EFAE96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9790-D2C4-4D85-B825-E51480F2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5959-DFDF-48C4-ADE9-E8132710B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A44A-431C-449C-A8DF-163D4F50E1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AD03-8E87-4CC3-A553-46806A3E4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7920" y="0"/>
            <a:ext cx="6476760" cy="4025880"/>
          </a:xfrm>
          <a:prstGeom prst="rect">
            <a:avLst/>
          </a:prstGeom>
          <a:ln w="0">
            <a:noFill/>
          </a:ln>
        </p:spPr>
      </p:pic>
      <p:pic>
        <p:nvPicPr>
          <p:cNvPr id="149" name="" descr=""/>
          <p:cNvPicPr/>
          <p:nvPr/>
        </p:nvPicPr>
        <p:blipFill>
          <a:blip r:embed="rId2"/>
          <a:stretch/>
        </p:blipFill>
        <p:spPr>
          <a:xfrm>
            <a:off x="1295280" y="3438360"/>
            <a:ext cx="7848720" cy="3419640"/>
          </a:xfrm>
          <a:prstGeom prst="rect">
            <a:avLst/>
          </a:prstGeom>
          <a:ln w="0">
            <a:noFill/>
          </a:ln>
        </p:spPr>
      </p:pic>
      <p:pic>
        <p:nvPicPr>
          <p:cNvPr id="150" name="" descr=""/>
          <p:cNvPicPr/>
          <p:nvPr/>
        </p:nvPicPr>
        <p:blipFill>
          <a:blip r:embed="rId3"/>
          <a:stretch/>
        </p:blipFill>
        <p:spPr>
          <a:xfrm>
            <a:off x="0" y="0"/>
            <a:ext cx="1523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7696080" cy="179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INVESTIGATIF - ORANG JENIS MENGANALISIS</a:t>
            </a:r>
            <a:br>
              <a:rPr sz="2800"/>
            </a:br>
            <a:r>
              <a:rPr b="1" lang="en-US" sz="2800" spc="-1" strike="noStrike">
                <a:solidFill>
                  <a:srgbClr val="7c1302"/>
                </a:solidFill>
                <a:latin typeface="Arial"/>
              </a:rPr>
              <a:t>(Saintifik Dan  Teknikal)</a:t>
            </a:r>
            <a:br>
              <a:rPr sz="2800"/>
            </a:br>
            <a:endParaRPr b="1" lang="en-US" sz="2800" spc="-1" strike="noStrike">
              <a:solidFill>
                <a:srgbClr val="7c1302"/>
              </a:solidFill>
              <a:latin typeface="Arial"/>
            </a:endParaRPr>
          </a:p>
        </p:txBody>
      </p:sp>
      <p:sp>
        <p:nvSpPr>
          <p:cNvPr id="196" name="PlaceHolder 2"/>
          <p:cNvSpPr>
            <a:spLocks noGrp="1"/>
          </p:cNvSpPr>
          <p:nvPr>
            <p:ph/>
          </p:nvPr>
        </p:nvSpPr>
        <p:spPr>
          <a:xfrm>
            <a:off x="380880" y="2133720"/>
            <a:ext cx="8229600" cy="4411440"/>
          </a:xfrm>
          <a:prstGeom prst="rect">
            <a:avLst/>
          </a:prstGeom>
          <a:noFill/>
          <a:ln w="0">
            <a:noFill/>
          </a:ln>
        </p:spPr>
        <p:txBody>
          <a:bodyPr lIns="90000" rIns="90000" tIns="46800" bIns="46800" anchor="t">
            <a:normAutofit/>
          </a:bodyPr>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 </a:t>
            </a:r>
            <a:endParaRPr b="0" lang="en-US" sz="2400" spc="-1" strike="noStrike">
              <a:solidFill>
                <a:srgbClr val="000000"/>
              </a:solidFill>
              <a:latin typeface="Arial"/>
            </a:endParaRPr>
          </a:p>
          <a:p>
            <a:pPr marL="571680" indent="-5716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tik, intelektual, teliti, ingin tahu, bebas, asli, rasional, pasif, pendiam, kritikal, tepat, pesemistik, berdikari, berhati-hati, cekal, introvert, introspektif, sistematik, radikal, tidak popular.</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KA </a:t>
            </a:r>
            <a:endParaRPr b="0" lang="en-US" sz="2400" spc="-1" strike="noStrike">
              <a:solidFill>
                <a:srgbClr val="000000"/>
              </a:solidFill>
              <a:latin typeface="Arial"/>
            </a:endParaRPr>
          </a:p>
          <a:p>
            <a:pPr marL="571680" indent="-5716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abstrak dan simbolik, sains dan matematik, pengamatan dan penyelidikan, penyelesaian masalah, bekerja sendir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8"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sosial, aktiviti berulang-ulang, peraturan yang rigid, memujuk orang lain, bekerja dengan orang lain, kepimpinan.</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yelidikan dan penyelesaian masalah.</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intis, pakar bedah, penyelidik, psikiatri, ahli kaji cuaca, ahli kaji bumi, ahli kaji bintang, optometris, ahli ekonomi, ahli patologi, jurutera elektrik, pembantu makmal, juruteknik perubatan, penulis rencana, penyunting, ahli antropologi, pengaturcara k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ubatan, Sains dan Matematik, ekonomi, geologi, sains industri, sains komputer, psikologi, kejuruteraan kimia, kejuruteraan sumber asli, kejuruteraan sains Geoinformas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saintifik, pemerhatian dan penyiasatan fenomena secara sistematik, ganjaran bernilai saintifi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76212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ARTISTIK - ORANG JENIS BERKARYA </a:t>
            </a:r>
            <a:br>
              <a:rPr sz="2800"/>
            </a:br>
            <a:r>
              <a:rPr b="1" lang="en-US" sz="2800" spc="-1" strike="noStrike">
                <a:solidFill>
                  <a:srgbClr val="7c1302"/>
                </a:solidFill>
                <a:latin typeface="Arial"/>
              </a:rPr>
              <a:t>(Seni, Muzik Dan Penulisan)</a:t>
            </a:r>
            <a:br>
              <a:rPr sz="2800"/>
            </a:br>
            <a:endParaRPr b="1" lang="en-US" sz="2800" spc="-1" strike="noStrike">
              <a:solidFill>
                <a:srgbClr val="7c1302"/>
              </a:solidFill>
              <a:latin typeface="Arial"/>
            </a:endParaRPr>
          </a:p>
        </p:txBody>
      </p:sp>
      <p:sp>
        <p:nvSpPr>
          <p:cNvPr id="202" name="PlaceHolder 2"/>
          <p:cNvSpPr>
            <a:spLocks noGrp="1"/>
          </p:cNvSpPr>
          <p:nvPr>
            <p:ph/>
          </p:nvPr>
        </p:nvSpPr>
        <p:spPr>
          <a:xfrm>
            <a:off x="457200" y="2445840"/>
            <a:ext cx="8229600" cy="441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f, berimaginasi, banyak idea, bebas, lembut, emosi, introspektif, fleksibel, tergesa-gesa, tidak bersistem, berpendirian, kurang bersosial, mudah meluahkan perasaan, suka bersendirian, ekspresif, intuitif, terbuka, idealistik, tidak praktik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80880" y="144792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reativiti, idea, situasi, tidak berstruktur, cenderung aktiviti kesusasteraan, bahasa, muzik, drama, seni lukis, puisi, vokalis, penulisan berkarya, isu kemanusiaan, kerja bersendiri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kerja fizikal, situasi berstruktur, kerja perkeranian, perniagaan dan sistem pengurusan dan pentadbiran, manipulasi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karya, mencipta ide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ru bahasa dan sastera, seniman, ahli muzik, pereka fesyen, komposer, penulis skrip, kartunis, pereka grafik, arkitek, pereka tari, pengarah drama/ teater,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yair, penyunting filem, juru solek, pelukis, wartaw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senian (seni lukis dan seni reka), kesusasteraan dan budaya, muzik, alam bina, pengajian bahasa, seni bina perancangan, falsafa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dalam seni dan situasi kabur, kerja bebas dan tidak bersistematik. Ganjaran bernilai seni. Menggalakkan individu melihat dunia secara kompleks, tidak konvensional dan fleksib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04560"/>
            <a:ext cx="7543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SOSIAL - ORANG JENIS SOSIAL</a:t>
            </a:r>
            <a:br>
              <a:rPr sz="2800"/>
            </a:br>
            <a:r>
              <a:rPr b="1" lang="en-US" sz="2800" spc="-1" strike="noStrike">
                <a:solidFill>
                  <a:srgbClr val="7c1302"/>
                </a:solidFill>
                <a:latin typeface="Arial"/>
              </a:rPr>
              <a:t> (Pendidikan Dan Kebajikan)</a:t>
            </a:r>
            <a:br>
              <a:rPr sz="2800"/>
            </a:br>
            <a:endParaRPr b="1" lang="en-US" sz="2800" spc="-1" strike="noStrike">
              <a:solidFill>
                <a:srgbClr val="7c1302"/>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sama, menolong, rasional, bijaksana, ambil berat, memujuk, prihatin, bertanggunhjawab, peramah, penyabar, baik hati, idealistik, riang, ekstrovert, agresif, memahami orang lain, mudah berinteraksi, suka bergaul, pemurah, kewanita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hatian, berurusan dengan orang lain, bersosial, menolong, kerja-kerja amal dan kemasyarakatan, perbincangan, pendidikan, menghadiri majlis sosial, aktiviti kebajikan, menunjuk ajar, memikirkan masalah masyara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456840"/>
            <a:ext cx="8229600" cy="4411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kerja fizikal, aktiviti luar, kerja dengan peralatan, kerja-kerja terlalu berstruktur, bidang mekanikal dan saintifi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bajikan, kemasyarakatan dan pendidika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syarah, guru, ustaz, ahli politik, jururawat, kaunselor, pegawai kastam, pegawai kebajikan, juruacara, pramugari, ahli psikologi klinikal, diplomat, ahli sosiolog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sial, pentadbiran, pendidikan, sejarah sains, kemasyarakatan, pengajian agama, sains politik, pembangunan sumber manusia, ekologi manus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interpersonal, minat dalam memberitahu, melatih, mengubati, menyedarkan orang la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JIAN PSIKOLOGI UNTUK MENGENALPASTI POTENSI DIRI</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imbing pelajar ke arah matlamat yang benar-benar sesuai dengan personaliti, minat, nilai dan kebolehan merupakan satu proses yang rumit, mencabar dan memerlukan masa yang panjang; lebih-lebih lagi jika tiada alat yang dapat membantu untuk mempermudahkan proses tersebut. Di sinilah kewujudan alat ujian psikologi dan inventori dapat memainkan peranan yang signifikan dan berkesa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75438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ENTERPRISING - ORANG JENIS USAHAWAN </a:t>
            </a:r>
            <a:br>
              <a:rPr sz="2800"/>
            </a:br>
            <a:r>
              <a:rPr b="1" lang="en-US" sz="2800" spc="-1" strike="noStrike">
                <a:solidFill>
                  <a:srgbClr val="7c1302"/>
                </a:solidFill>
                <a:latin typeface="Arial"/>
              </a:rPr>
              <a:t>(Pengurusan Dan Perniagaan)</a:t>
            </a:r>
            <a:br>
              <a:rPr sz="2800"/>
            </a:br>
            <a:endParaRPr b="1" lang="en-US" sz="2800" spc="-1" strike="noStrike">
              <a:solidFill>
                <a:srgbClr val="7c1302"/>
              </a:solidFill>
              <a:latin typeface="Arial"/>
            </a:endParaRPr>
          </a:p>
        </p:txBody>
      </p:sp>
      <p:sp>
        <p:nvSpPr>
          <p:cNvPr id="214"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resif, memujuk, sergas, cita-cita tinggi, ekstrovert, berlagak, bebas, bersungguh-sungguh, suka berbahas, optimistik, yakin, mempengaruhi, menggoda, petah, manipulasi, dominan, kemahiran interpersonal yang baik, kebolehan memimpin, menonjolkan diri, regular, pentingkan diri, maskulin, bermotivasi.</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asa, status, mentadbir dan kepimpinan, keuntungan, ekonomi, regular,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seronokan, suka mengambara, bersosial, suka caba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sistematik, kemahiran saintifik dan teknikal, intelektual, isu-isu abstrak dan simbolik, kerja yang ditentukan dan diawas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pulasi keuntungan dan mempengaruhi orang la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gawai pemasaran, perunding, pengurus, peguam, hakim, pegawai insurans, ahli politik, penerbit, pengarah muzium, pegawai penilai, usahawan, pengurus syarikat, pekerja perhotelan, jurujual pasaran saham, spekulator, pengurus pers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AJIAN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urusan dan pentadbiran, pemasaran perniagaan, perundangan, perhotelan, penyediaan makanan, sains aktuari, perlancongan, rekreasi, kejuruteraan industri, pengurusan perso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mupuk kecekapan mempengaruhi dan memimpin. Pencapaian dan manipulasi orang lain untuk matlamat peribadi dan organisasi/Ganjara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0"/>
            <a:ext cx="7543800" cy="179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KONVENSIONAL - ORANG JENIS SISTEMATIK</a:t>
            </a:r>
            <a:br>
              <a:rPr sz="2800"/>
            </a:br>
            <a:r>
              <a:rPr b="1" lang="en-US" sz="2800" spc="-1" strike="noStrike">
                <a:solidFill>
                  <a:srgbClr val="7c1302"/>
                </a:solidFill>
                <a:latin typeface="Arial"/>
              </a:rPr>
              <a:t>( Perkerjaan Dan Organisasi Pejabat)</a:t>
            </a:r>
            <a:br>
              <a:rPr sz="2800"/>
            </a:br>
            <a:endParaRPr b="1" lang="en-US" sz="2800" spc="-1" strike="noStrike">
              <a:solidFill>
                <a:srgbClr val="7c1302"/>
              </a:solidFill>
              <a:latin typeface="Arial"/>
            </a:endParaRPr>
          </a:p>
        </p:txBody>
      </p:sp>
      <p:sp>
        <p:nvSpPr>
          <p:cNvPr id="222" name="PlaceHolder 2"/>
          <p:cNvSpPr>
            <a:spLocks noGrp="1"/>
          </p:cNvSpPr>
          <p:nvPr>
            <p:ph/>
          </p:nvPr>
        </p:nvSpPr>
        <p:spPr>
          <a:xfrm>
            <a:off x="457200" y="1719360"/>
            <a:ext cx="8229600" cy="5519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jur, berhemat, kemas, akur, cekap, sopan, teliti, tekun, bersungguh-sungguh, suka mempertahankan diri, pandai sesuaikan diri, tidak suka berimaginasi, mendesak, tegas, praktikal, stereotaip, dominan, disiplin, konservatif, kurang berdikari, terancang, rigid, bergantung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ahan, tugas sistematik dan terancang, elak diri daripada masalah, menyusun maklumat, data dan sistem fail. Bekerja dengan data, maklumat dan sistem f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tidak bersistem, arahan kabur, isu-isu imaginatif, situasi yang rumit, kemahiran seni, aktiviti-aktiviti kurang pengstrukturan.</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pulasi data dan sistematik.</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auntan, operator komputer, kerani pos, pustakawan, peguam kredit, pegawai cukai, kerani kewangan, jurutaip, setiausaha, juruaudit, pegawai statistik, pegawai kawalan mutu, juru trengkas, penilai harta, kerani kaunter, guru perdagan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knologi maklumat, sains komputer, pengurusan dan pentadbiran, sains perpustakaan, sains kesetiausahaan, perakaunan, kewangan pendidikan, perniaga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mengikut arahan dan perkeranian, Manipulasi data, rekod atau bahan bertulis. Ganjaran bernilai wang, pergantungan dan aku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Bagaimana perasaan ANDA sekarang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udahkah ANDA merancang masa depan ANDA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000" spc="-1" strike="noStrike">
                <a:solidFill>
                  <a:srgbClr val="000000"/>
                </a:solidFill>
                <a:latin typeface="Arial"/>
              </a:rPr>
              <a:t>Kata motivasi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a:t>
            </a:r>
            <a:r>
              <a:rPr b="0" lang="en" sz="3000" spc="-1" strike="noStrike">
                <a:solidFill>
                  <a:srgbClr val="000000"/>
                </a:solidFill>
                <a:latin typeface="Arial"/>
              </a:rPr>
              <a:t>Hanya ada dua langkah sahaja untuk berjaya. Pertama, tetapkan matlamat yang jelas. Kedua, berani atau sanggup berusaha untuk mendapatkan matlamat tersebu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JIAN MINAT KERJAYA</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i atau Ujian Minat Kerjaya adalah ujian yang dapat mengenalpasti minat anda terhadap sesuatu bidang pekerjaan. Ujian Self-Directed Search (SDS) misainya adalah alat ukuran minat kerjaya yang mempunyai format jawapan 'Ya' dan 'Tidak'. Respons individu terhadap item-item yang terkandung dalam ujian ini akan dapat mengenalpasti minat kerjaya seseorang. Enam bidang minat yang dapat diukur oleh SDS ialah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6" name=""/>
          <p:cNvSpPr/>
          <p:nvPr/>
        </p:nvSpPr>
        <p:spPr>
          <a:xfrm>
            <a:off x="2514600" y="2362320"/>
            <a:ext cx="4876920" cy="3809880"/>
          </a:xfrm>
          <a:prstGeom prst="flowChartPreparation">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txBox="1"/>
          <p:nvPr/>
        </p:nvSpPr>
        <p:spPr>
          <a:xfrm>
            <a:off x="1752480" y="1905120"/>
            <a:ext cx="1600200" cy="101916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Realistik</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58" name=""/>
          <p:cNvSpPr txBox="1"/>
          <p:nvPr/>
        </p:nvSpPr>
        <p:spPr>
          <a:xfrm>
            <a:off x="304920" y="3809880"/>
            <a:ext cx="1981080" cy="147636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Convensional</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59" name=""/>
          <p:cNvSpPr txBox="1"/>
          <p:nvPr/>
        </p:nvSpPr>
        <p:spPr>
          <a:xfrm>
            <a:off x="5486400" y="1295280"/>
            <a:ext cx="1905120" cy="106704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Investigatif</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0" name=""/>
          <p:cNvSpPr txBox="1"/>
          <p:nvPr/>
        </p:nvSpPr>
        <p:spPr>
          <a:xfrm>
            <a:off x="6324480" y="5257800"/>
            <a:ext cx="1600200" cy="8668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Sosial</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1" name=""/>
          <p:cNvSpPr txBox="1"/>
          <p:nvPr/>
        </p:nvSpPr>
        <p:spPr>
          <a:xfrm>
            <a:off x="2666880" y="5715000"/>
            <a:ext cx="1752840" cy="11430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Enterprising</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2" name=""/>
          <p:cNvSpPr txBox="1"/>
          <p:nvPr/>
        </p:nvSpPr>
        <p:spPr>
          <a:xfrm>
            <a:off x="6858000" y="3352680"/>
            <a:ext cx="1600200" cy="8668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Artistik</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64" name=""/>
          <p:cNvSpPr/>
          <p:nvPr/>
        </p:nvSpPr>
        <p:spPr>
          <a:xfrm>
            <a:off x="2666880" y="2362320"/>
            <a:ext cx="4496040" cy="3429000"/>
          </a:xfrm>
          <a:prstGeom prst="flowChartPreparation">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txBox="1"/>
          <p:nvPr/>
        </p:nvSpPr>
        <p:spPr>
          <a:xfrm>
            <a:off x="2133720" y="1600200"/>
            <a:ext cx="1904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Realistik</a:t>
            </a:r>
            <a:endParaRPr b="0" lang="en-US" sz="1800" spc="1" strike="noStrike">
              <a:ln w="9360">
                <a:solidFill>
                  <a:srgbClr val="ffffff"/>
                </a:solidFill>
                <a:miter/>
              </a:ln>
              <a:solidFill>
                <a:srgbClr val="0000ff"/>
              </a:solidFill>
              <a:latin typeface="Arial Black"/>
              <a:ea typeface="Arial Black"/>
            </a:endParaRPr>
          </a:p>
        </p:txBody>
      </p:sp>
      <p:sp>
        <p:nvSpPr>
          <p:cNvPr id="166" name=""/>
          <p:cNvSpPr txBox="1"/>
          <p:nvPr/>
        </p:nvSpPr>
        <p:spPr>
          <a:xfrm>
            <a:off x="5867280" y="144792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Investigatif</a:t>
            </a:r>
            <a:endParaRPr b="0" lang="en-US" sz="1800" spc="1" strike="noStrike">
              <a:ln w="9360">
                <a:solidFill>
                  <a:srgbClr val="ffffff"/>
                </a:solidFill>
                <a:miter/>
              </a:ln>
              <a:solidFill>
                <a:srgbClr val="0000ff"/>
              </a:solidFill>
              <a:latin typeface="Arial Black"/>
              <a:ea typeface="Arial Black"/>
            </a:endParaRPr>
          </a:p>
        </p:txBody>
      </p:sp>
      <p:sp>
        <p:nvSpPr>
          <p:cNvPr id="167" name=""/>
          <p:cNvSpPr txBox="1"/>
          <p:nvPr/>
        </p:nvSpPr>
        <p:spPr>
          <a:xfrm>
            <a:off x="7238880" y="3962520"/>
            <a:ext cx="1524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Artistik</a:t>
            </a:r>
            <a:endParaRPr b="0" lang="en-US" sz="1800" spc="1" strike="noStrike">
              <a:ln w="9360">
                <a:solidFill>
                  <a:srgbClr val="ffffff"/>
                </a:solidFill>
                <a:miter/>
              </a:ln>
              <a:solidFill>
                <a:srgbClr val="0000ff"/>
              </a:solidFill>
              <a:latin typeface="Arial Black"/>
              <a:ea typeface="Arial Black"/>
            </a:endParaRPr>
          </a:p>
        </p:txBody>
      </p:sp>
      <p:sp>
        <p:nvSpPr>
          <p:cNvPr id="168" name=""/>
          <p:cNvSpPr txBox="1"/>
          <p:nvPr/>
        </p:nvSpPr>
        <p:spPr>
          <a:xfrm>
            <a:off x="5715000" y="5867280"/>
            <a:ext cx="1523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Sosial</a:t>
            </a:r>
            <a:endParaRPr b="0" lang="en-US" sz="1800" spc="1" strike="noStrike">
              <a:ln w="9360">
                <a:solidFill>
                  <a:srgbClr val="ffffff"/>
                </a:solidFill>
                <a:miter/>
              </a:ln>
              <a:solidFill>
                <a:srgbClr val="0000ff"/>
              </a:solidFill>
              <a:latin typeface="Arial Black"/>
              <a:ea typeface="Arial Black"/>
            </a:endParaRPr>
          </a:p>
        </p:txBody>
      </p:sp>
      <p:sp>
        <p:nvSpPr>
          <p:cNvPr id="169" name=""/>
          <p:cNvSpPr txBox="1"/>
          <p:nvPr/>
        </p:nvSpPr>
        <p:spPr>
          <a:xfrm>
            <a:off x="2209680" y="571500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Enterprising</a:t>
            </a:r>
            <a:endParaRPr b="0" lang="en-US" sz="1800" spc="1" strike="noStrike">
              <a:ln w="9360">
                <a:solidFill>
                  <a:srgbClr val="ffffff"/>
                </a:solidFill>
                <a:miter/>
              </a:ln>
              <a:solidFill>
                <a:srgbClr val="0000ff"/>
              </a:solidFill>
              <a:latin typeface="Arial Black"/>
              <a:ea typeface="Arial Black"/>
            </a:endParaRPr>
          </a:p>
        </p:txBody>
      </p:sp>
      <p:sp>
        <p:nvSpPr>
          <p:cNvPr id="170" name=""/>
          <p:cNvSpPr txBox="1"/>
          <p:nvPr/>
        </p:nvSpPr>
        <p:spPr>
          <a:xfrm>
            <a:off x="304920" y="3809880"/>
            <a:ext cx="213336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Conventional</a:t>
            </a:r>
            <a:endParaRPr b="0" lang="en-US" sz="1800" spc="1" strike="noStrike">
              <a:ln w="9360">
                <a:solidFill>
                  <a:srgbClr val="ffff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2743200" y="1295280"/>
            <a:ext cx="838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R</a:t>
            </a:r>
            <a:endParaRPr b="0" lang="en-US" sz="1800" spc="1" strike="noStrike">
              <a:ln w="9360">
                <a:solidFill>
                  <a:srgbClr val="ffffff"/>
                </a:solidFill>
                <a:miter/>
              </a:ln>
              <a:solidFill>
                <a:srgbClr val="0000ff"/>
              </a:solidFill>
              <a:latin typeface="Arial Black"/>
              <a:ea typeface="Arial Black"/>
            </a:endParaRPr>
          </a:p>
        </p:txBody>
      </p:sp>
      <p:sp>
        <p:nvSpPr>
          <p:cNvPr id="172" name=""/>
          <p:cNvSpPr txBox="1"/>
          <p:nvPr/>
        </p:nvSpPr>
        <p:spPr>
          <a:xfrm>
            <a:off x="6324480" y="1295280"/>
            <a:ext cx="228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I</a:t>
            </a:r>
            <a:endParaRPr b="0" lang="en-US" sz="1800" spc="1" strike="noStrike">
              <a:ln w="9360">
                <a:solidFill>
                  <a:srgbClr val="ffffff"/>
                </a:solidFill>
                <a:miter/>
              </a:ln>
              <a:solidFill>
                <a:srgbClr val="0000ff"/>
              </a:solidFill>
              <a:latin typeface="Arial Black"/>
              <a:ea typeface="Arial Black"/>
            </a:endParaRPr>
          </a:p>
        </p:txBody>
      </p:sp>
      <p:sp>
        <p:nvSpPr>
          <p:cNvPr id="173" name=""/>
          <p:cNvSpPr txBox="1"/>
          <p:nvPr/>
        </p:nvSpPr>
        <p:spPr>
          <a:xfrm>
            <a:off x="7315200" y="3429000"/>
            <a:ext cx="838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A</a:t>
            </a:r>
            <a:endParaRPr b="0" lang="en-US" sz="1800" spc="1" strike="noStrike">
              <a:ln w="9360">
                <a:solidFill>
                  <a:srgbClr val="ffffff"/>
                </a:solidFill>
                <a:miter/>
              </a:ln>
              <a:solidFill>
                <a:srgbClr val="0000ff"/>
              </a:solidFill>
              <a:latin typeface="Arial Black"/>
              <a:ea typeface="Arial Black"/>
            </a:endParaRPr>
          </a:p>
        </p:txBody>
      </p:sp>
      <p:sp>
        <p:nvSpPr>
          <p:cNvPr id="174" name=""/>
          <p:cNvSpPr txBox="1"/>
          <p:nvPr/>
        </p:nvSpPr>
        <p:spPr>
          <a:xfrm>
            <a:off x="6400800" y="5715000"/>
            <a:ext cx="762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S</a:t>
            </a:r>
            <a:endParaRPr b="0" lang="en-US" sz="1800" spc="1" strike="noStrike">
              <a:ln w="9360">
                <a:solidFill>
                  <a:srgbClr val="ffffff"/>
                </a:solidFill>
                <a:miter/>
              </a:ln>
              <a:solidFill>
                <a:srgbClr val="0000ff"/>
              </a:solidFill>
              <a:latin typeface="Arial Black"/>
              <a:ea typeface="Arial Black"/>
            </a:endParaRPr>
          </a:p>
        </p:txBody>
      </p:sp>
      <p:sp>
        <p:nvSpPr>
          <p:cNvPr id="175" name=""/>
          <p:cNvSpPr txBox="1"/>
          <p:nvPr/>
        </p:nvSpPr>
        <p:spPr>
          <a:xfrm>
            <a:off x="2666880" y="5715000"/>
            <a:ext cx="685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E</a:t>
            </a:r>
            <a:endParaRPr b="0" lang="en-US" sz="1800" spc="1" strike="noStrike">
              <a:ln w="9360">
                <a:solidFill>
                  <a:srgbClr val="ffffff"/>
                </a:solidFill>
                <a:miter/>
              </a:ln>
              <a:solidFill>
                <a:srgbClr val="0000ff"/>
              </a:solidFill>
              <a:latin typeface="Arial Black"/>
              <a:ea typeface="Arial Black"/>
            </a:endParaRPr>
          </a:p>
        </p:txBody>
      </p:sp>
      <p:sp>
        <p:nvSpPr>
          <p:cNvPr id="176" name=""/>
          <p:cNvSpPr txBox="1"/>
          <p:nvPr/>
        </p:nvSpPr>
        <p:spPr>
          <a:xfrm>
            <a:off x="1752480" y="3505320"/>
            <a:ext cx="8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C</a:t>
            </a:r>
            <a:endParaRPr b="0" lang="en-US" sz="1800" spc="1" strike="noStrike">
              <a:ln w="9360">
                <a:solidFill>
                  <a:srgbClr val="ffffff"/>
                </a:solidFill>
                <a:miter/>
              </a:ln>
              <a:solidFill>
                <a:srgbClr val="0000ff"/>
              </a:solidFill>
              <a:latin typeface="Arial Black"/>
              <a:ea typeface="Arial Black"/>
            </a:endParaRPr>
          </a:p>
        </p:txBody>
      </p:sp>
      <p:sp>
        <p:nvSpPr>
          <p:cNvPr id="177" name=""/>
          <p:cNvSpPr/>
          <p:nvPr/>
        </p:nvSpPr>
        <p:spPr>
          <a:xfrm>
            <a:off x="2666880" y="2057400"/>
            <a:ext cx="4572000" cy="3733920"/>
          </a:xfrm>
          <a:prstGeom prst="flowChartPreparation">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3048120" y="1981080"/>
            <a:ext cx="4572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90920" y="3886200"/>
            <a:ext cx="38088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81280" y="1981080"/>
            <a:ext cx="10670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590920" y="3048120"/>
            <a:ext cx="45720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7009920" y="3276360"/>
            <a:ext cx="3049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486400" y="198108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324480" y="1981080"/>
            <a:ext cx="381240" cy="762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486400" y="5867280"/>
            <a:ext cx="914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6400800" y="5105520"/>
            <a:ext cx="38088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934320" y="3962520"/>
            <a:ext cx="38088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3123720" y="5105520"/>
            <a:ext cx="38124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505320" y="5867280"/>
            <a:ext cx="1066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880"/>
            <a:ext cx="7238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REALISTIK- ORANG JENIS PRAKTIKAL</a:t>
            </a:r>
            <a:br>
              <a:rPr sz="2800"/>
            </a:br>
            <a:r>
              <a:rPr b="1" lang="en-US" sz="2800" spc="-1" strike="noStrike">
                <a:solidFill>
                  <a:srgbClr val="7c1302"/>
                </a:solidFill>
                <a:latin typeface="Arial"/>
              </a:rPr>
              <a:t>(Kemahiran Teknikal- Hands-On)</a:t>
            </a:r>
            <a:endParaRPr b="1" lang="en-US" sz="2800" spc="-1" strike="noStrike">
              <a:solidFill>
                <a:srgbClr val="7c1302"/>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 </a:t>
            </a:r>
            <a:endParaRPr b="0" lang="en-US" sz="2400" spc="-1" strike="noStrike">
              <a:solidFill>
                <a:srgbClr val="000000"/>
              </a:solidFill>
              <a:latin typeface="Arial"/>
            </a:endParaRPr>
          </a:p>
          <a:p>
            <a:pPr marL="571680" indent="-5716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il, natural, maskulin, praktikal, tekun, terus terang, berdikari, fizikal, materealistik, jujur, pemalu, akur, tulen, inventif, normal, berpendirian tetap, cermat, keras hati, berulang-ulang, kurang celik akal.</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571680" indent="-5716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mekanikal, kerja luar, atletik (sukan), aktiviti manual, benda konkrit (wang, kuasa dan status), bekerja dengan peralatan, tumbuhan, dan h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akademik, aktiviti sosial, pendedahan kendiri, bekerja dengan orang lai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libatan secara lansung dengan aktiviti konkrit, manipulasi obje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nis pembaikan mekanikal, elektrikal, kejuruteraan, mekanik, guru kemahiran hidup, juruteknik, pegawai perikanan, pegawai perhutanan, pegawai mergastua, tukang masak, pereka fesyen, jurufoto, juruukur, penyelam, pemandu, atendan pam minyak, tukang kayu, tukang paip</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4"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juruteraan awam, kejuruteran mekanikal, perhutanan, teknologi perubatan, penyediaan makanan, bidang teknik dan vokasional, pertanian dan penternakan.</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daripada teknikal dan memanipulasikan benda, mesin, pertanian, dan penternakan.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njaran bernialai seperti wang, kuasa, status, dan sesuatu yang dimiliki.</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ggalakkan individu melihat dunia secara mudah dan tradis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9:19:39Z</dcterms:created>
  <dc:creator>dIN</dc:creator>
  <dc:description/>
  <dc:language>en-US</dc:language>
  <cp:lastModifiedBy>Kementerian Pendidikan</cp:lastModifiedBy>
  <dcterms:modified xsi:type="dcterms:W3CDTF">2004-10-18T00:51:35Z</dcterms:modified>
  <cp:revision>47</cp:revision>
  <dc:subject/>
  <dc:title>Slide 1</dc:title>
</cp:coreProperties>
</file>