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089-E051-4D55-B9CE-8D254BFA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9CF-F101-47B8-AECE-7C1FB95B1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4AE-8DDF-4A11-803F-6F281206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7765-5F2F-4972-BD53-A65C62DF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68DF-10E2-4C55-B7E9-301D3BA7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0ABB-20AA-4128-8C22-2A214B71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9E3-09FA-4DDF-97D9-7F9B33C2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59F-E639-4E37-8A12-7F437F6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A37-DCF7-488A-A50C-96FCF4E4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CE7-7AC4-480C-9857-1BD18180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9C3-7FDD-4CDD-8F57-73DABF9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615-F821-4215-B2E6-9B829A2E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474-F7FD-40CC-9242-8D7351AF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3EB-6EB6-42E7-A837-23D5BE6C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8BA-BDA1-40DF-AD23-94540DE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5BC-B390-478F-BCFC-519D9F0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D51-9257-4D86-B73E-02A9CB4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955-3443-4AEC-A75F-893E8A9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2AC2-4B60-414E-B54A-0152E324C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6E3A-B441-4446-8880-E71F871AE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IRUS REPLIC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3880" y="42670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00400" y="4267080"/>
            <a:ext cx="5791320" cy="190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. DR. MASOOD RABB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Diagnostic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Veterinary &amp; Animal Sciences, La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3B9-B005-4CE4-ACBA-EF755327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1447920"/>
          <a:ext cx="8001000" cy="330192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1942920"/>
                <a:gridCol w="205740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-dependent DNA polymer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reverse transcriptase) in vi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vity of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event in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s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Reverse 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4AF-C4D4-4EDF-84CF-4EF79ABD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OSITIVE-STRANDED RNA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ICORN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FLAVI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10D-12AE-4D33-A243-7B0C0F22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gallery\polio1-mod.jpg"/>
          <p:cNvPicPr/>
          <p:nvPr/>
        </p:nvPicPr>
        <p:blipFill>
          <a:blip r:embed="rId1"/>
          <a:srcRect l="0" t="5426" r="1935" b="0"/>
          <a:stretch/>
        </p:blipFill>
        <p:spPr>
          <a:xfrm>
            <a:off x="3657600" y="1523880"/>
            <a:ext cx="5181480" cy="3803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ORNA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osa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sitive sens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n-en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A10-CCC9-4495-8A50-60A9FAC42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AND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5715000" y="266688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514600" y="213372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581280" y="4952880"/>
            <a:ext cx="259092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97680" y="4800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1447920" y="35812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10"/>
          <p:cNvCxnSpPr/>
          <p:nvPr/>
        </p:nvCxnSpPr>
        <p:spPr>
          <a:xfrm>
            <a:off x="2361960" y="4495320"/>
            <a:ext cx="1028880" cy="4201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Line 11"/>
          <p:cNvSpPr/>
          <p:nvPr/>
        </p:nvSpPr>
        <p:spPr>
          <a:xfrm flipV="1">
            <a:off x="480060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4114800" y="3657600"/>
            <a:ext cx="1362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833640" y="46324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E9F-5B66-4FA0-AD5E-64101A3A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RIBOSOME ENTRY SITE (I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914400" y="365760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972880" y="33130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34544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A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636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1295280" y="36576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1333440" y="29718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872280" y="2590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V="1">
            <a:off x="1676520" y="3657600"/>
            <a:ext cx="0" cy="53352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295280" y="41529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start co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for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9"/>
          <p:cNvGrpSpPr/>
          <p:nvPr/>
        </p:nvGrpSpPr>
        <p:grpSpPr>
          <a:xfrm>
            <a:off x="1676520" y="3695760"/>
            <a:ext cx="7261200" cy="1282680"/>
            <a:chOff x="1676520" y="3695760"/>
            <a:chExt cx="7261200" cy="1282680"/>
          </a:xfrm>
        </p:grpSpPr>
        <p:sp>
          <p:nvSpPr>
            <p:cNvPr id="231" name="Line 14"/>
            <p:cNvSpPr/>
            <p:nvPr/>
          </p:nvSpPr>
          <p:spPr>
            <a:xfrm>
              <a:off x="7083360" y="3695760"/>
              <a:ext cx="7920" cy="45720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8"/>
            <p:cNvGrpSpPr/>
            <p:nvPr/>
          </p:nvGrpSpPr>
          <p:grpSpPr>
            <a:xfrm>
              <a:off x="1676520" y="3747960"/>
              <a:ext cx="7261200" cy="1230480"/>
              <a:chOff x="1676520" y="3747960"/>
              <a:chExt cx="7261200" cy="1230480"/>
            </a:xfrm>
          </p:grpSpPr>
          <p:sp>
            <p:nvSpPr>
              <p:cNvPr id="233" name="Line 13"/>
              <p:cNvSpPr/>
              <p:nvPr/>
            </p:nvSpPr>
            <p:spPr>
              <a:xfrm>
                <a:off x="1676520" y="3809880"/>
                <a:ext cx="5410080" cy="0"/>
              </a:xfrm>
              <a:prstGeom prst="line">
                <a:avLst/>
              </a:prstGeom>
              <a:ln w="572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5"/>
              <p:cNvSpPr/>
              <p:nvPr/>
            </p:nvSpPr>
            <p:spPr>
              <a:xfrm>
                <a:off x="6705720" y="4152960"/>
                <a:ext cx="22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Arial"/>
                  </a:rPr>
                  <a:t>stop cod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Arial"/>
                  </a:rPr>
                  <a:t>for transl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6"/>
              <p:cNvSpPr/>
              <p:nvPr/>
            </p:nvSpPr>
            <p:spPr>
              <a:xfrm>
                <a:off x="3029760" y="3747960"/>
                <a:ext cx="182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Arial"/>
                  </a:rPr>
                  <a:t>POLYPROTE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4D9-18A8-4B99-8E33-6AFD1AA07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:\gallery\polio-polyprotein.tif"/>
          <p:cNvPicPr/>
          <p:nvPr/>
        </p:nvPicPr>
        <p:blipFill>
          <a:blip r:embed="rId1"/>
          <a:stretch/>
        </p:blipFill>
        <p:spPr>
          <a:xfrm>
            <a:off x="533520" y="1066680"/>
            <a:ext cx="8343720" cy="53485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219320" y="189000"/>
            <a:ext cx="7937280" cy="575640"/>
            <a:chOff x="1219320" y="189000"/>
            <a:chExt cx="7937280" cy="575640"/>
          </a:xfrm>
        </p:grpSpPr>
        <p:sp>
          <p:nvSpPr>
            <p:cNvPr id="239" name="Line 6"/>
            <p:cNvSpPr/>
            <p:nvPr/>
          </p:nvSpPr>
          <p:spPr>
            <a:xfrm>
              <a:off x="1219320" y="533520"/>
              <a:ext cx="676908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3074400" y="189000"/>
              <a:ext cx="30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GENOMIC (+ SENSE) 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7878600" y="304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Arial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4419720" y="620640"/>
            <a:ext cx="1568520" cy="398880"/>
            <a:chOff x="4419720" y="620640"/>
            <a:chExt cx="1568520" cy="398880"/>
          </a:xfrm>
        </p:grpSpPr>
        <p:sp>
          <p:nvSpPr>
            <p:cNvPr id="243" name="Line 9"/>
            <p:cNvSpPr/>
            <p:nvPr/>
          </p:nvSpPr>
          <p:spPr>
            <a:xfrm>
              <a:off x="4419720" y="685800"/>
              <a:ext cx="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4632480" y="62064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CFC-AEB7-4F4D-BA37-A4C8F7FF0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"/>
          <p:cNvSpPr/>
          <p:nvPr/>
        </p:nvSpPr>
        <p:spPr>
          <a:xfrm>
            <a:off x="1128600" y="285588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882520" y="251136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555680" y="2627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30560" y="2627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28600" y="4267080"/>
            <a:ext cx="6540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882880" y="392256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-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96160" y="40752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607520" y="3998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1128600" y="563868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882520" y="529416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555680" y="54100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30560" y="5410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4024440" y="316080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4024440" y="460836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F13-3EBC-469F-AF86-EF704DBC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ral RNA polymerase (repli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 factors also involved as accessory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w plus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ck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lates for mor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lates for mor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003-5FAF-43F8-8341-8CD3D9CE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762120" y="1183680"/>
            <a:ext cx="1981080" cy="1711800"/>
            <a:chOff x="762120" y="1183680"/>
            <a:chExt cx="1981080" cy="1711800"/>
          </a:xfrm>
        </p:grpSpPr>
        <p:sp>
          <p:nvSpPr>
            <p:cNvPr id="267" name="AutoShape 3"/>
            <p:cNvSpPr/>
            <p:nvPr/>
          </p:nvSpPr>
          <p:spPr>
            <a:xfrm>
              <a:off x="838080" y="1219320"/>
              <a:ext cx="1895760" cy="1639800"/>
            </a:xfrm>
            <a:prstGeom prst="hexagon">
              <a:avLst>
                <a:gd name="adj" fmla="val 28902"/>
                <a:gd name="vf" fmla="val 115470"/>
              </a:avLst>
            </a:prstGeom>
            <a:noFill/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>
              <a:off x="762120" y="1981080"/>
              <a:ext cx="22860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>
              <a:off x="2514600" y="1981080"/>
              <a:ext cx="22860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"/>
            <p:cNvSpPr/>
            <p:nvPr/>
          </p:nvSpPr>
          <p:spPr>
            <a:xfrm>
              <a:off x="2209680" y="2819520"/>
              <a:ext cx="22860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>
              <a:off x="1143000" y="1219320"/>
              <a:ext cx="22860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1238040" y="2707560"/>
              <a:ext cx="191160" cy="14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V="1">
              <a:off x="2228760" y="1183680"/>
              <a:ext cx="191160" cy="14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13"/>
          <p:cNvSpPr/>
          <p:nvPr/>
        </p:nvSpPr>
        <p:spPr>
          <a:xfrm>
            <a:off x="838080" y="4114800"/>
            <a:ext cx="1895760" cy="1639800"/>
          </a:xfrm>
          <a:prstGeom prst="hexagon">
            <a:avLst>
              <a:gd name="adj" fmla="val 28902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3795840" y="16765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P0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, VP1, V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795480" y="45720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P2, VP4, VP1, V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0"/>
          <p:cNvGrpSpPr/>
          <p:nvPr/>
        </p:nvGrpSpPr>
        <p:grpSpPr>
          <a:xfrm>
            <a:off x="990720" y="4140360"/>
            <a:ext cx="1693800" cy="1517400"/>
            <a:chOff x="990720" y="4140360"/>
            <a:chExt cx="1693800" cy="1517400"/>
          </a:xfrm>
        </p:grpSpPr>
        <p:sp>
          <p:nvSpPr>
            <p:cNvPr id="278" name="Text Box 17"/>
            <p:cNvSpPr/>
            <p:nvPr/>
          </p:nvSpPr>
          <p:spPr>
            <a:xfrm>
              <a:off x="2058840" y="4873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V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990720" y="4140360"/>
              <a:ext cx="1473120" cy="151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17400"/>
                <a:gd name="textAreaBottom" fmla="*/ 1517760 h 1517400"/>
              </a:gdLst>
              <a:ahLst/>
              <a:rect l="textAreaLeft" t="textAreaTop" r="textAreaRight" b="textAreaBottom"/>
              <a:pathLst>
                <a:path w="928" h="956">
                  <a:moveTo>
                    <a:pt x="928" y="600"/>
                  </a:moveTo>
                  <a:cubicBezTo>
                    <a:pt x="927" y="583"/>
                    <a:pt x="904" y="269"/>
                    <a:pt x="886" y="233"/>
                  </a:cubicBezTo>
                  <a:cubicBezTo>
                    <a:pt x="846" y="154"/>
                    <a:pt x="718" y="109"/>
                    <a:pt x="646" y="73"/>
                  </a:cubicBezTo>
                  <a:cubicBezTo>
                    <a:pt x="566" y="94"/>
                    <a:pt x="481" y="102"/>
                    <a:pt x="406" y="137"/>
                  </a:cubicBezTo>
                  <a:cubicBezTo>
                    <a:pt x="385" y="147"/>
                    <a:pt x="286" y="301"/>
                    <a:pt x="278" y="313"/>
                  </a:cubicBezTo>
                  <a:cubicBezTo>
                    <a:pt x="294" y="356"/>
                    <a:pt x="283" y="425"/>
                    <a:pt x="326" y="441"/>
                  </a:cubicBezTo>
                  <a:cubicBezTo>
                    <a:pt x="390" y="464"/>
                    <a:pt x="543" y="288"/>
                    <a:pt x="566" y="265"/>
                  </a:cubicBezTo>
                  <a:cubicBezTo>
                    <a:pt x="569" y="233"/>
                    <a:pt x="588" y="198"/>
                    <a:pt x="574" y="169"/>
                  </a:cubicBezTo>
                  <a:cubicBezTo>
                    <a:pt x="564" y="148"/>
                    <a:pt x="533" y="143"/>
                    <a:pt x="510" y="145"/>
                  </a:cubicBezTo>
                  <a:cubicBezTo>
                    <a:pt x="449" y="151"/>
                    <a:pt x="393" y="177"/>
                    <a:pt x="334" y="193"/>
                  </a:cubicBezTo>
                  <a:cubicBezTo>
                    <a:pt x="312" y="220"/>
                    <a:pt x="242" y="285"/>
                    <a:pt x="254" y="337"/>
                  </a:cubicBezTo>
                  <a:cubicBezTo>
                    <a:pt x="261" y="367"/>
                    <a:pt x="286" y="390"/>
                    <a:pt x="302" y="417"/>
                  </a:cubicBezTo>
                  <a:cubicBezTo>
                    <a:pt x="323" y="412"/>
                    <a:pt x="353" y="419"/>
                    <a:pt x="366" y="401"/>
                  </a:cubicBezTo>
                  <a:cubicBezTo>
                    <a:pt x="429" y="312"/>
                    <a:pt x="351" y="268"/>
                    <a:pt x="302" y="209"/>
                  </a:cubicBezTo>
                  <a:cubicBezTo>
                    <a:pt x="254" y="230"/>
                    <a:pt x="201" y="242"/>
                    <a:pt x="158" y="273"/>
                  </a:cubicBezTo>
                  <a:cubicBezTo>
                    <a:pt x="101" y="314"/>
                    <a:pt x="47" y="424"/>
                    <a:pt x="14" y="481"/>
                  </a:cubicBezTo>
                  <a:cubicBezTo>
                    <a:pt x="0" y="564"/>
                    <a:pt x="28" y="688"/>
                    <a:pt x="126" y="737"/>
                  </a:cubicBezTo>
                  <a:cubicBezTo>
                    <a:pt x="155" y="751"/>
                    <a:pt x="150" y="790"/>
                    <a:pt x="182" y="793"/>
                  </a:cubicBezTo>
                  <a:cubicBezTo>
                    <a:pt x="230" y="790"/>
                    <a:pt x="243" y="854"/>
                    <a:pt x="286" y="833"/>
                  </a:cubicBezTo>
                  <a:cubicBezTo>
                    <a:pt x="375" y="788"/>
                    <a:pt x="444" y="657"/>
                    <a:pt x="494" y="577"/>
                  </a:cubicBezTo>
                  <a:cubicBezTo>
                    <a:pt x="500" y="494"/>
                    <a:pt x="612" y="467"/>
                    <a:pt x="624" y="384"/>
                  </a:cubicBezTo>
                  <a:cubicBezTo>
                    <a:pt x="629" y="392"/>
                    <a:pt x="534" y="343"/>
                    <a:pt x="534" y="353"/>
                  </a:cubicBezTo>
                  <a:cubicBezTo>
                    <a:pt x="530" y="426"/>
                    <a:pt x="507" y="526"/>
                    <a:pt x="494" y="601"/>
                  </a:cubicBezTo>
                  <a:cubicBezTo>
                    <a:pt x="515" y="638"/>
                    <a:pt x="527" y="684"/>
                    <a:pt x="558" y="713"/>
                  </a:cubicBezTo>
                  <a:cubicBezTo>
                    <a:pt x="574" y="728"/>
                    <a:pt x="611" y="702"/>
                    <a:pt x="622" y="721"/>
                  </a:cubicBezTo>
                  <a:cubicBezTo>
                    <a:pt x="632" y="738"/>
                    <a:pt x="599" y="752"/>
                    <a:pt x="590" y="769"/>
                  </a:cubicBezTo>
                  <a:cubicBezTo>
                    <a:pt x="582" y="784"/>
                    <a:pt x="579" y="801"/>
                    <a:pt x="574" y="817"/>
                  </a:cubicBezTo>
                  <a:cubicBezTo>
                    <a:pt x="599" y="825"/>
                    <a:pt x="661" y="849"/>
                    <a:pt x="686" y="841"/>
                  </a:cubicBezTo>
                  <a:cubicBezTo>
                    <a:pt x="709" y="833"/>
                    <a:pt x="723" y="809"/>
                    <a:pt x="742" y="793"/>
                  </a:cubicBezTo>
                  <a:cubicBezTo>
                    <a:pt x="749" y="779"/>
                    <a:pt x="835" y="779"/>
                    <a:pt x="824" y="752"/>
                  </a:cubicBezTo>
                  <a:cubicBezTo>
                    <a:pt x="813" y="725"/>
                    <a:pt x="745" y="677"/>
                    <a:pt x="678" y="633"/>
                  </a:cubicBezTo>
                  <a:cubicBezTo>
                    <a:pt x="614" y="547"/>
                    <a:pt x="514" y="524"/>
                    <a:pt x="422" y="489"/>
                  </a:cubicBezTo>
                  <a:cubicBezTo>
                    <a:pt x="379" y="494"/>
                    <a:pt x="334" y="490"/>
                    <a:pt x="294" y="505"/>
                  </a:cubicBezTo>
                  <a:cubicBezTo>
                    <a:pt x="271" y="513"/>
                    <a:pt x="208" y="604"/>
                    <a:pt x="198" y="617"/>
                  </a:cubicBezTo>
                  <a:cubicBezTo>
                    <a:pt x="232" y="823"/>
                    <a:pt x="175" y="672"/>
                    <a:pt x="510" y="729"/>
                  </a:cubicBezTo>
                  <a:cubicBezTo>
                    <a:pt x="568" y="739"/>
                    <a:pt x="612" y="802"/>
                    <a:pt x="646" y="841"/>
                  </a:cubicBezTo>
                  <a:cubicBezTo>
                    <a:pt x="663" y="944"/>
                    <a:pt x="664" y="922"/>
                    <a:pt x="550" y="913"/>
                  </a:cubicBezTo>
                  <a:cubicBezTo>
                    <a:pt x="356" y="772"/>
                    <a:pt x="392" y="855"/>
                    <a:pt x="358" y="721"/>
                  </a:cubicBezTo>
                  <a:cubicBezTo>
                    <a:pt x="368" y="553"/>
                    <a:pt x="338" y="346"/>
                    <a:pt x="534" y="273"/>
                  </a:cubicBezTo>
                  <a:cubicBezTo>
                    <a:pt x="564" y="262"/>
                    <a:pt x="598" y="268"/>
                    <a:pt x="630" y="265"/>
                  </a:cubicBezTo>
                  <a:cubicBezTo>
                    <a:pt x="678" y="249"/>
                    <a:pt x="741" y="256"/>
                    <a:pt x="774" y="217"/>
                  </a:cubicBezTo>
                  <a:cubicBezTo>
                    <a:pt x="822" y="160"/>
                    <a:pt x="745" y="63"/>
                    <a:pt x="702" y="41"/>
                  </a:cubicBezTo>
                  <a:cubicBezTo>
                    <a:pt x="620" y="0"/>
                    <a:pt x="539" y="65"/>
                    <a:pt x="454" y="33"/>
                  </a:cubicBezTo>
                  <a:cubicBezTo>
                    <a:pt x="395" y="38"/>
                    <a:pt x="345" y="36"/>
                    <a:pt x="294" y="65"/>
                  </a:cubicBezTo>
                  <a:cubicBezTo>
                    <a:pt x="137" y="155"/>
                    <a:pt x="206" y="112"/>
                    <a:pt x="182" y="233"/>
                  </a:cubicBezTo>
                  <a:cubicBezTo>
                    <a:pt x="191" y="347"/>
                    <a:pt x="69" y="415"/>
                    <a:pt x="174" y="473"/>
                  </a:cubicBezTo>
                  <a:cubicBezTo>
                    <a:pt x="198" y="486"/>
                    <a:pt x="227" y="484"/>
                    <a:pt x="254" y="489"/>
                  </a:cubicBezTo>
                  <a:cubicBezTo>
                    <a:pt x="543" y="476"/>
                    <a:pt x="452" y="442"/>
                    <a:pt x="382" y="529"/>
                  </a:cubicBezTo>
                  <a:cubicBezTo>
                    <a:pt x="362" y="553"/>
                    <a:pt x="350" y="582"/>
                    <a:pt x="334" y="609"/>
                  </a:cubicBezTo>
                  <a:cubicBezTo>
                    <a:pt x="387" y="662"/>
                    <a:pt x="409" y="718"/>
                    <a:pt x="494" y="697"/>
                  </a:cubicBezTo>
                  <a:cubicBezTo>
                    <a:pt x="524" y="689"/>
                    <a:pt x="547" y="665"/>
                    <a:pt x="574" y="649"/>
                  </a:cubicBezTo>
                  <a:cubicBezTo>
                    <a:pt x="558" y="601"/>
                    <a:pt x="674" y="532"/>
                    <a:pt x="632" y="504"/>
                  </a:cubicBezTo>
                  <a:cubicBezTo>
                    <a:pt x="505" y="420"/>
                    <a:pt x="385" y="511"/>
                    <a:pt x="366" y="569"/>
                  </a:cubicBezTo>
                  <a:cubicBezTo>
                    <a:pt x="356" y="645"/>
                    <a:pt x="364" y="715"/>
                    <a:pt x="358" y="793"/>
                  </a:cubicBezTo>
                  <a:cubicBezTo>
                    <a:pt x="365" y="910"/>
                    <a:pt x="334" y="956"/>
                    <a:pt x="438" y="921"/>
                  </a:cubicBezTo>
                  <a:cubicBezTo>
                    <a:pt x="449" y="835"/>
                    <a:pt x="455" y="773"/>
                    <a:pt x="374" y="713"/>
                  </a:cubicBezTo>
                  <a:cubicBezTo>
                    <a:pt x="356" y="700"/>
                    <a:pt x="331" y="702"/>
                    <a:pt x="310" y="697"/>
                  </a:cubicBezTo>
                  <a:cubicBezTo>
                    <a:pt x="255" y="711"/>
                    <a:pt x="203" y="764"/>
                    <a:pt x="342" y="729"/>
                  </a:cubicBezTo>
                  <a:cubicBezTo>
                    <a:pt x="379" y="720"/>
                    <a:pt x="406" y="686"/>
                    <a:pt x="438" y="665"/>
                  </a:cubicBezTo>
                  <a:cubicBezTo>
                    <a:pt x="444" y="585"/>
                    <a:pt x="471" y="541"/>
                    <a:pt x="398" y="489"/>
                  </a:cubicBezTo>
                  <a:cubicBezTo>
                    <a:pt x="380" y="476"/>
                    <a:pt x="355" y="478"/>
                    <a:pt x="334" y="473"/>
                  </a:cubicBezTo>
                  <a:cubicBezTo>
                    <a:pt x="407" y="425"/>
                    <a:pt x="463" y="392"/>
                    <a:pt x="526" y="329"/>
                  </a:cubicBezTo>
                  <a:cubicBezTo>
                    <a:pt x="566" y="289"/>
                    <a:pt x="598" y="241"/>
                    <a:pt x="638" y="201"/>
                  </a:cubicBezTo>
                  <a:cubicBezTo>
                    <a:pt x="642" y="202"/>
                    <a:pt x="717" y="214"/>
                    <a:pt x="718" y="241"/>
                  </a:cubicBezTo>
                  <a:cubicBezTo>
                    <a:pt x="720" y="295"/>
                    <a:pt x="712" y="488"/>
                    <a:pt x="712" y="488"/>
                  </a:cubicBezTo>
                  <a:cubicBezTo>
                    <a:pt x="717" y="515"/>
                    <a:pt x="692" y="400"/>
                    <a:pt x="718" y="409"/>
                  </a:cubicBezTo>
                  <a:cubicBezTo>
                    <a:pt x="723" y="398"/>
                    <a:pt x="772" y="492"/>
                    <a:pt x="800" y="496"/>
                  </a:cubicBezTo>
                  <a:cubicBezTo>
                    <a:pt x="828" y="500"/>
                    <a:pt x="914" y="458"/>
                    <a:pt x="886" y="433"/>
                  </a:cubicBezTo>
                  <a:cubicBezTo>
                    <a:pt x="767" y="314"/>
                    <a:pt x="791" y="384"/>
                    <a:pt x="632" y="344"/>
                  </a:cubicBezTo>
                  <a:cubicBezTo>
                    <a:pt x="531" y="373"/>
                    <a:pt x="470" y="349"/>
                    <a:pt x="414" y="433"/>
                  </a:cubicBezTo>
                  <a:cubicBezTo>
                    <a:pt x="409" y="471"/>
                    <a:pt x="394" y="534"/>
                    <a:pt x="422" y="569"/>
                  </a:cubicBezTo>
                  <a:cubicBezTo>
                    <a:pt x="432" y="582"/>
                    <a:pt x="454" y="574"/>
                    <a:pt x="470" y="577"/>
                  </a:cubicBezTo>
                  <a:cubicBezTo>
                    <a:pt x="563" y="569"/>
                    <a:pt x="587" y="569"/>
                    <a:pt x="542" y="569"/>
                  </a:cubicBezTo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Line 21"/>
          <p:cNvSpPr/>
          <p:nvPr/>
        </p:nvSpPr>
        <p:spPr>
          <a:xfrm>
            <a:off x="17524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813120" y="32004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Pg-RNA enters, VP0 is cle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F9E-F48D-4866-92F7-E22B8B04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gallery\poliopara-xtal.tif"/>
          <p:cNvPicPr/>
          <p:nvPr/>
        </p:nvPicPr>
        <p:blipFill>
          <a:blip r:embed="rId1"/>
          <a:srcRect l="17780" t="5613" r="0" b="32664"/>
          <a:stretch/>
        </p:blipFill>
        <p:spPr>
          <a:xfrm>
            <a:off x="3276720" y="1371600"/>
            <a:ext cx="549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287-5C9A-46F4-A21E-8D389C91C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NA VIRU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898560" y="2057400"/>
            <a:ext cx="6797520" cy="1069200"/>
            <a:chOff x="898560" y="2057400"/>
            <a:chExt cx="6797520" cy="1069200"/>
          </a:xfrm>
        </p:grpSpPr>
        <p:sp>
          <p:nvSpPr>
            <p:cNvPr id="55" name="Text Box 3"/>
            <p:cNvSpPr/>
            <p:nvPr/>
          </p:nvSpPr>
          <p:spPr>
            <a:xfrm>
              <a:off x="898560" y="2057400"/>
              <a:ext cx="25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RNA -&gt; R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1905120" y="26668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NA-dependent RNA polymer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0"/>
          <p:cNvGrpSpPr/>
          <p:nvPr/>
        </p:nvGrpSpPr>
        <p:grpSpPr>
          <a:xfrm>
            <a:off x="898560" y="3352680"/>
            <a:ext cx="6797520" cy="1435320"/>
            <a:chOff x="898560" y="3352680"/>
            <a:chExt cx="6797520" cy="1435320"/>
          </a:xfrm>
        </p:grpSpPr>
        <p:sp>
          <p:nvSpPr>
            <p:cNvPr id="58" name="Text Box 4"/>
            <p:cNvSpPr/>
            <p:nvPr/>
          </p:nvSpPr>
          <p:spPr>
            <a:xfrm>
              <a:off x="898560" y="3352680"/>
              <a:ext cx="25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RNA -&gt; 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1905120" y="3962520"/>
              <a:ext cx="579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NA-dependent DNA polym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- reverse transcript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898560" y="4952880"/>
            <a:ext cx="6797520" cy="1069560"/>
            <a:chOff x="898560" y="4952880"/>
            <a:chExt cx="6797520" cy="1069560"/>
          </a:xfrm>
        </p:grpSpPr>
        <p:sp>
          <p:nvSpPr>
            <p:cNvPr id="61" name="Text Box 7"/>
            <p:cNvSpPr/>
            <p:nvPr/>
          </p:nvSpPr>
          <p:spPr>
            <a:xfrm>
              <a:off x="898560" y="4952880"/>
              <a:ext cx="557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Host cell DNA -&gt; R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905120" y="556272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DNA-dependent RNA polymer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0CD-8268-48DD-B146-E047AAD3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N-SEGMENTED NEGATIVE STRAND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habd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amyx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l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BF7-DB7D-4CB8-8ECF-A86AC495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1469880" y="1536840"/>
            <a:ext cx="1397160" cy="4500360"/>
          </a:xfrm>
          <a:custGeom>
            <a:avLst/>
            <a:gdLst>
              <a:gd name="textAreaLeft" fmla="*/ 0 w 1397160"/>
              <a:gd name="textAreaRight" fmla="*/ 1397520 w 1397160"/>
              <a:gd name="textAreaTop" fmla="*/ 0 h 4500360"/>
              <a:gd name="textAreaBottom" fmla="*/ 4500720 h 4500360"/>
            </a:gdLst>
            <a:ahLst/>
            <a:rect l="textAreaLeft" t="textAreaTop" r="textAreaRight" b="textAreaBottom"/>
            <a:pathLst>
              <a:path w="1068" h="3440">
                <a:moveTo>
                  <a:pt x="327" y="0"/>
                </a:moveTo>
                <a:cubicBezTo>
                  <a:pt x="418" y="14"/>
                  <a:pt x="902" y="58"/>
                  <a:pt x="881" y="78"/>
                </a:cubicBezTo>
                <a:cubicBezTo>
                  <a:pt x="860" y="98"/>
                  <a:pt x="183" y="93"/>
                  <a:pt x="201" y="120"/>
                </a:cubicBezTo>
                <a:cubicBezTo>
                  <a:pt x="219" y="147"/>
                  <a:pt x="1022" y="210"/>
                  <a:pt x="990" y="242"/>
                </a:cubicBezTo>
                <a:cubicBezTo>
                  <a:pt x="958" y="274"/>
                  <a:pt x="0" y="286"/>
                  <a:pt x="9" y="312"/>
                </a:cubicBezTo>
                <a:cubicBezTo>
                  <a:pt x="18" y="338"/>
                  <a:pt x="1044" y="366"/>
                  <a:pt x="1044" y="398"/>
                </a:cubicBezTo>
                <a:cubicBezTo>
                  <a:pt x="1044" y="430"/>
                  <a:pt x="6" y="478"/>
                  <a:pt x="9" y="504"/>
                </a:cubicBezTo>
                <a:cubicBezTo>
                  <a:pt x="12" y="530"/>
                  <a:pt x="1064" y="523"/>
                  <a:pt x="1065" y="552"/>
                </a:cubicBezTo>
                <a:cubicBezTo>
                  <a:pt x="1066" y="581"/>
                  <a:pt x="15" y="649"/>
                  <a:pt x="15" y="681"/>
                </a:cubicBezTo>
                <a:cubicBezTo>
                  <a:pt x="15" y="713"/>
                  <a:pt x="1066" y="710"/>
                  <a:pt x="1065" y="744"/>
                </a:cubicBezTo>
                <a:cubicBezTo>
                  <a:pt x="1064" y="778"/>
                  <a:pt x="9" y="856"/>
                  <a:pt x="9" y="888"/>
                </a:cubicBezTo>
                <a:cubicBezTo>
                  <a:pt x="9" y="920"/>
                  <a:pt x="1065" y="904"/>
                  <a:pt x="1065" y="936"/>
                </a:cubicBezTo>
                <a:cubicBezTo>
                  <a:pt x="1065" y="968"/>
                  <a:pt x="9" y="1040"/>
                  <a:pt x="9" y="1080"/>
                </a:cubicBezTo>
                <a:cubicBezTo>
                  <a:pt x="9" y="1120"/>
                  <a:pt x="1065" y="1144"/>
                  <a:pt x="1065" y="1176"/>
                </a:cubicBezTo>
                <a:cubicBezTo>
                  <a:pt x="1065" y="1208"/>
                  <a:pt x="9" y="1239"/>
                  <a:pt x="9" y="1272"/>
                </a:cubicBezTo>
                <a:cubicBezTo>
                  <a:pt x="9" y="1305"/>
                  <a:pt x="1068" y="1340"/>
                  <a:pt x="1068" y="1372"/>
                </a:cubicBezTo>
                <a:cubicBezTo>
                  <a:pt x="1068" y="1404"/>
                  <a:pt x="9" y="1429"/>
                  <a:pt x="9" y="1464"/>
                </a:cubicBezTo>
                <a:cubicBezTo>
                  <a:pt x="9" y="1499"/>
                  <a:pt x="1068" y="1550"/>
                  <a:pt x="1068" y="1582"/>
                </a:cubicBezTo>
                <a:cubicBezTo>
                  <a:pt x="1068" y="1614"/>
                  <a:pt x="10" y="1622"/>
                  <a:pt x="9" y="1656"/>
                </a:cubicBezTo>
                <a:cubicBezTo>
                  <a:pt x="8" y="1690"/>
                  <a:pt x="1059" y="1753"/>
                  <a:pt x="1060" y="1785"/>
                </a:cubicBezTo>
                <a:cubicBezTo>
                  <a:pt x="1061" y="1817"/>
                  <a:pt x="16" y="1812"/>
                  <a:pt x="16" y="1847"/>
                </a:cubicBezTo>
                <a:cubicBezTo>
                  <a:pt x="16" y="1882"/>
                  <a:pt x="1061" y="1960"/>
                  <a:pt x="1060" y="1995"/>
                </a:cubicBezTo>
                <a:cubicBezTo>
                  <a:pt x="1059" y="2030"/>
                  <a:pt x="9" y="2028"/>
                  <a:pt x="8" y="2058"/>
                </a:cubicBezTo>
                <a:cubicBezTo>
                  <a:pt x="7" y="2088"/>
                  <a:pt x="1051" y="2145"/>
                  <a:pt x="1052" y="2177"/>
                </a:cubicBezTo>
                <a:cubicBezTo>
                  <a:pt x="1053" y="2209"/>
                  <a:pt x="20" y="2218"/>
                  <a:pt x="15" y="2248"/>
                </a:cubicBezTo>
                <a:cubicBezTo>
                  <a:pt x="10" y="2278"/>
                  <a:pt x="1020" y="2322"/>
                  <a:pt x="1020" y="2357"/>
                </a:cubicBezTo>
                <a:cubicBezTo>
                  <a:pt x="1020" y="2392"/>
                  <a:pt x="15" y="2428"/>
                  <a:pt x="16" y="2458"/>
                </a:cubicBezTo>
                <a:cubicBezTo>
                  <a:pt x="17" y="2488"/>
                  <a:pt x="1027" y="2506"/>
                  <a:pt x="1028" y="2536"/>
                </a:cubicBezTo>
                <a:cubicBezTo>
                  <a:pt x="1029" y="2566"/>
                  <a:pt x="23" y="2610"/>
                  <a:pt x="23" y="2637"/>
                </a:cubicBezTo>
                <a:cubicBezTo>
                  <a:pt x="23" y="2664"/>
                  <a:pt x="1029" y="2672"/>
                  <a:pt x="1028" y="2700"/>
                </a:cubicBezTo>
                <a:cubicBezTo>
                  <a:pt x="1027" y="2728"/>
                  <a:pt x="15" y="2774"/>
                  <a:pt x="16" y="2806"/>
                </a:cubicBezTo>
                <a:cubicBezTo>
                  <a:pt x="17" y="2838"/>
                  <a:pt x="1036" y="2871"/>
                  <a:pt x="1036" y="2894"/>
                </a:cubicBezTo>
                <a:cubicBezTo>
                  <a:pt x="1036" y="2917"/>
                  <a:pt x="16" y="2917"/>
                  <a:pt x="16" y="2946"/>
                </a:cubicBezTo>
                <a:cubicBezTo>
                  <a:pt x="16" y="2975"/>
                  <a:pt x="1033" y="3036"/>
                  <a:pt x="1036" y="3066"/>
                </a:cubicBezTo>
                <a:cubicBezTo>
                  <a:pt x="1039" y="3096"/>
                  <a:pt x="30" y="3101"/>
                  <a:pt x="31" y="3128"/>
                </a:cubicBezTo>
                <a:lnTo>
                  <a:pt x="1044" y="3230"/>
                </a:lnTo>
                <a:lnTo>
                  <a:pt x="31" y="3300"/>
                </a:lnTo>
                <a:lnTo>
                  <a:pt x="78" y="3339"/>
                </a:lnTo>
                <a:lnTo>
                  <a:pt x="1044" y="3362"/>
                </a:lnTo>
                <a:lnTo>
                  <a:pt x="54" y="3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"/>
          <p:cNvSpPr/>
          <p:nvPr/>
        </p:nvSpPr>
        <p:spPr>
          <a:xfrm flipV="1">
            <a:off x="125244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04632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1279440" y="6218280"/>
            <a:ext cx="169236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1251000" y="6172200"/>
            <a:ext cx="0" cy="74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1246320" y="6221520"/>
            <a:ext cx="745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H="1">
            <a:off x="2971440" y="6215400"/>
            <a:ext cx="74520" cy="7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0"/>
          <p:cNvSpPr/>
          <p:nvPr/>
        </p:nvSpPr>
        <p:spPr>
          <a:xfrm>
            <a:off x="3049560" y="6165720"/>
            <a:ext cx="0" cy="748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rc 33"/>
          <p:cNvSpPr/>
          <p:nvPr/>
        </p:nvSpPr>
        <p:spPr>
          <a:xfrm>
            <a:off x="1227240" y="1287360"/>
            <a:ext cx="1841400" cy="9241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fill="none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</a:path>
              <a:path stroke="0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  <a:lnTo>
                  <a:pt x="21523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6"/>
          <p:cNvSpPr/>
          <p:nvPr/>
        </p:nvSpPr>
        <p:spPr>
          <a:xfrm>
            <a:off x="258768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8"/>
          <p:cNvSpPr/>
          <p:nvPr/>
        </p:nvSpPr>
        <p:spPr>
          <a:xfrm>
            <a:off x="230652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9"/>
          <p:cNvSpPr/>
          <p:nvPr/>
        </p:nvSpPr>
        <p:spPr>
          <a:xfrm>
            <a:off x="201456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0"/>
          <p:cNvSpPr/>
          <p:nvPr/>
        </p:nvSpPr>
        <p:spPr>
          <a:xfrm>
            <a:off x="1722600" y="6059520"/>
            <a:ext cx="2696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1"/>
          <p:cNvSpPr/>
          <p:nvPr/>
        </p:nvSpPr>
        <p:spPr>
          <a:xfrm>
            <a:off x="144144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2"/>
          <p:cNvSpPr/>
          <p:nvPr/>
        </p:nvSpPr>
        <p:spPr>
          <a:xfrm rot="7200000">
            <a:off x="1315080" y="1775520"/>
            <a:ext cx="271440" cy="107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3"/>
          <p:cNvSpPr/>
          <p:nvPr/>
        </p:nvSpPr>
        <p:spPr>
          <a:xfrm rot="5400000">
            <a:off x="1225440" y="5978520"/>
            <a:ext cx="2714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4"/>
          <p:cNvSpPr/>
          <p:nvPr/>
        </p:nvSpPr>
        <p:spPr>
          <a:xfrm rot="5400000">
            <a:off x="1226880" y="2044440"/>
            <a:ext cx="2682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5"/>
          <p:cNvSpPr/>
          <p:nvPr/>
        </p:nvSpPr>
        <p:spPr>
          <a:xfrm rot="5400000">
            <a:off x="2798280" y="5978160"/>
            <a:ext cx="27144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8"/>
          <p:cNvSpPr/>
          <p:nvPr/>
        </p:nvSpPr>
        <p:spPr>
          <a:xfrm rot="10737600">
            <a:off x="2014560" y="1356480"/>
            <a:ext cx="2700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9"/>
          <p:cNvSpPr/>
          <p:nvPr/>
        </p:nvSpPr>
        <p:spPr>
          <a:xfrm rot="9805800">
            <a:off x="1733400" y="1414440"/>
            <a:ext cx="270000" cy="1065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1"/>
          <p:cNvSpPr/>
          <p:nvPr/>
        </p:nvSpPr>
        <p:spPr>
          <a:xfrm rot="1623000">
            <a:off x="2284200" y="1391760"/>
            <a:ext cx="269640" cy="1080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3"/>
          <p:cNvSpPr/>
          <p:nvPr/>
        </p:nvSpPr>
        <p:spPr>
          <a:xfrm rot="3331800">
            <a:off x="2710080" y="1772640"/>
            <a:ext cx="271440" cy="1141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86"/>
          <p:cNvGrpSpPr/>
          <p:nvPr/>
        </p:nvGrpSpPr>
        <p:grpSpPr>
          <a:xfrm>
            <a:off x="2876400" y="2246400"/>
            <a:ext cx="114480" cy="3641400"/>
            <a:chOff x="2876400" y="2246400"/>
            <a:chExt cx="114480" cy="3641400"/>
          </a:xfrm>
        </p:grpSpPr>
        <p:sp>
          <p:nvSpPr>
            <p:cNvPr id="313" name="AutoShape 47"/>
            <p:cNvSpPr/>
            <p:nvPr/>
          </p:nvSpPr>
          <p:spPr>
            <a:xfrm rot="5400000">
              <a:off x="2799000" y="569808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50"/>
            <p:cNvSpPr/>
            <p:nvPr/>
          </p:nvSpPr>
          <p:spPr>
            <a:xfrm rot="5400000">
              <a:off x="2799000" y="541692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52"/>
            <p:cNvSpPr/>
            <p:nvPr/>
          </p:nvSpPr>
          <p:spPr>
            <a:xfrm rot="5400000">
              <a:off x="2798640" y="513360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56"/>
            <p:cNvSpPr/>
            <p:nvPr/>
          </p:nvSpPr>
          <p:spPr>
            <a:xfrm rot="5400000">
              <a:off x="2798640" y="48524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7"/>
            <p:cNvSpPr/>
            <p:nvPr/>
          </p:nvSpPr>
          <p:spPr>
            <a:xfrm rot="5400000">
              <a:off x="2798640" y="45716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8"/>
            <p:cNvSpPr/>
            <p:nvPr/>
          </p:nvSpPr>
          <p:spPr>
            <a:xfrm rot="5400000">
              <a:off x="2798640" y="429048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79"/>
            <p:cNvSpPr/>
            <p:nvPr/>
          </p:nvSpPr>
          <p:spPr>
            <a:xfrm rot="5400000">
              <a:off x="2798640" y="400932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80"/>
            <p:cNvSpPr/>
            <p:nvPr/>
          </p:nvSpPr>
          <p:spPr>
            <a:xfrm rot="5400000">
              <a:off x="2799000" y="372888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1"/>
            <p:cNvSpPr/>
            <p:nvPr/>
          </p:nvSpPr>
          <p:spPr>
            <a:xfrm rot="5400000">
              <a:off x="2799000" y="344772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2"/>
            <p:cNvSpPr/>
            <p:nvPr/>
          </p:nvSpPr>
          <p:spPr>
            <a:xfrm rot="5400000">
              <a:off x="2799000" y="31665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3"/>
            <p:cNvSpPr/>
            <p:nvPr/>
          </p:nvSpPr>
          <p:spPr>
            <a:xfrm rot="5400000">
              <a:off x="2799000" y="28857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4"/>
            <p:cNvSpPr/>
            <p:nvPr/>
          </p:nvSpPr>
          <p:spPr>
            <a:xfrm rot="5400000">
              <a:off x="2799000" y="26046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85"/>
            <p:cNvSpPr/>
            <p:nvPr/>
          </p:nvSpPr>
          <p:spPr>
            <a:xfrm rot="5400000">
              <a:off x="2799000" y="23238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1"/>
          <p:cNvGrpSpPr/>
          <p:nvPr/>
        </p:nvGrpSpPr>
        <p:grpSpPr>
          <a:xfrm>
            <a:off x="1294920" y="2286000"/>
            <a:ext cx="111240" cy="3641400"/>
            <a:chOff x="1294920" y="2286000"/>
            <a:chExt cx="111240" cy="3641400"/>
          </a:xfrm>
        </p:grpSpPr>
        <p:sp>
          <p:nvSpPr>
            <p:cNvPr id="327" name="AutoShape 102"/>
            <p:cNvSpPr/>
            <p:nvPr/>
          </p:nvSpPr>
          <p:spPr>
            <a:xfrm rot="5400000">
              <a:off x="1216080" y="573912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3"/>
            <p:cNvSpPr/>
            <p:nvPr/>
          </p:nvSpPr>
          <p:spPr>
            <a:xfrm rot="5400000">
              <a:off x="1216080" y="545796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4"/>
            <p:cNvSpPr/>
            <p:nvPr/>
          </p:nvSpPr>
          <p:spPr>
            <a:xfrm rot="5400000">
              <a:off x="1215720" y="517500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05"/>
            <p:cNvSpPr/>
            <p:nvPr/>
          </p:nvSpPr>
          <p:spPr>
            <a:xfrm rot="5400000">
              <a:off x="1215720" y="48938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6"/>
            <p:cNvSpPr/>
            <p:nvPr/>
          </p:nvSpPr>
          <p:spPr>
            <a:xfrm rot="5400000">
              <a:off x="1215720" y="46130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07"/>
            <p:cNvSpPr/>
            <p:nvPr/>
          </p:nvSpPr>
          <p:spPr>
            <a:xfrm rot="5400000">
              <a:off x="1215720" y="433188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8"/>
            <p:cNvSpPr/>
            <p:nvPr/>
          </p:nvSpPr>
          <p:spPr>
            <a:xfrm rot="5400000">
              <a:off x="1215720" y="405072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09"/>
            <p:cNvSpPr/>
            <p:nvPr/>
          </p:nvSpPr>
          <p:spPr>
            <a:xfrm rot="5400000">
              <a:off x="1215720" y="376992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0"/>
            <p:cNvSpPr/>
            <p:nvPr/>
          </p:nvSpPr>
          <p:spPr>
            <a:xfrm rot="5400000">
              <a:off x="1215720" y="348876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1"/>
            <p:cNvSpPr/>
            <p:nvPr/>
          </p:nvSpPr>
          <p:spPr>
            <a:xfrm rot="5400000">
              <a:off x="1215720" y="32076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2"/>
            <p:cNvSpPr/>
            <p:nvPr/>
          </p:nvSpPr>
          <p:spPr>
            <a:xfrm rot="5400000">
              <a:off x="1215720" y="29268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3"/>
            <p:cNvSpPr/>
            <p:nvPr/>
          </p:nvSpPr>
          <p:spPr>
            <a:xfrm rot="5400000">
              <a:off x="1215720" y="26456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4"/>
            <p:cNvSpPr/>
            <p:nvPr/>
          </p:nvSpPr>
          <p:spPr>
            <a:xfrm rot="5400000">
              <a:off x="1215720" y="23648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15"/>
          <p:cNvSpPr/>
          <p:nvPr/>
        </p:nvSpPr>
        <p:spPr>
          <a:xfrm rot="5400000">
            <a:off x="2800080" y="2044440"/>
            <a:ext cx="2682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6"/>
          <p:cNvSpPr/>
          <p:nvPr/>
        </p:nvSpPr>
        <p:spPr>
          <a:xfrm rot="2901600">
            <a:off x="2529000" y="1551600"/>
            <a:ext cx="270000" cy="106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7"/>
          <p:cNvSpPr/>
          <p:nvPr/>
        </p:nvSpPr>
        <p:spPr>
          <a:xfrm rot="8557200">
            <a:off x="1499760" y="156024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9"/>
          <p:cNvSpPr/>
          <p:nvPr/>
        </p:nvSpPr>
        <p:spPr>
          <a:xfrm rot="5400000">
            <a:off x="2466720" y="635292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0"/>
          <p:cNvSpPr/>
          <p:nvPr/>
        </p:nvSpPr>
        <p:spPr>
          <a:xfrm rot="5400000">
            <a:off x="183888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21"/>
          <p:cNvSpPr/>
          <p:nvPr/>
        </p:nvSpPr>
        <p:spPr>
          <a:xfrm rot="5400000">
            <a:off x="215316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2"/>
          <p:cNvSpPr/>
          <p:nvPr/>
        </p:nvSpPr>
        <p:spPr>
          <a:xfrm>
            <a:off x="2978280" y="2090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3"/>
          <p:cNvSpPr/>
          <p:nvPr/>
        </p:nvSpPr>
        <p:spPr>
          <a:xfrm>
            <a:off x="2978280" y="23544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4"/>
          <p:cNvSpPr/>
          <p:nvPr/>
        </p:nvSpPr>
        <p:spPr>
          <a:xfrm>
            <a:off x="2978280" y="26049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5"/>
          <p:cNvSpPr/>
          <p:nvPr/>
        </p:nvSpPr>
        <p:spPr>
          <a:xfrm>
            <a:off x="2978280" y="29192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6"/>
          <p:cNvSpPr/>
          <p:nvPr/>
        </p:nvSpPr>
        <p:spPr>
          <a:xfrm>
            <a:off x="2978280" y="31701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27"/>
          <p:cNvSpPr/>
          <p:nvPr/>
        </p:nvSpPr>
        <p:spPr>
          <a:xfrm>
            <a:off x="2978280" y="34844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8"/>
          <p:cNvSpPr/>
          <p:nvPr/>
        </p:nvSpPr>
        <p:spPr>
          <a:xfrm>
            <a:off x="2978280" y="373536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9"/>
          <p:cNvSpPr/>
          <p:nvPr/>
        </p:nvSpPr>
        <p:spPr>
          <a:xfrm>
            <a:off x="2978280" y="398628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2"/>
          <p:cNvSpPr/>
          <p:nvPr/>
        </p:nvSpPr>
        <p:spPr>
          <a:xfrm>
            <a:off x="2978280" y="42372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3"/>
          <p:cNvSpPr/>
          <p:nvPr/>
        </p:nvSpPr>
        <p:spPr>
          <a:xfrm>
            <a:off x="2978280" y="44895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34"/>
          <p:cNvSpPr/>
          <p:nvPr/>
        </p:nvSpPr>
        <p:spPr>
          <a:xfrm>
            <a:off x="2978280" y="4676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5"/>
          <p:cNvSpPr/>
          <p:nvPr/>
        </p:nvSpPr>
        <p:spPr>
          <a:xfrm>
            <a:off x="2978280" y="4865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36"/>
          <p:cNvSpPr/>
          <p:nvPr/>
        </p:nvSpPr>
        <p:spPr>
          <a:xfrm>
            <a:off x="2978280" y="51166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7"/>
          <p:cNvSpPr/>
          <p:nvPr/>
        </p:nvSpPr>
        <p:spPr>
          <a:xfrm>
            <a:off x="2978280" y="5305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8"/>
          <p:cNvSpPr/>
          <p:nvPr/>
        </p:nvSpPr>
        <p:spPr>
          <a:xfrm>
            <a:off x="2978280" y="5494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9"/>
          <p:cNvSpPr/>
          <p:nvPr/>
        </p:nvSpPr>
        <p:spPr>
          <a:xfrm>
            <a:off x="2978280" y="5681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40"/>
          <p:cNvSpPr/>
          <p:nvPr/>
        </p:nvSpPr>
        <p:spPr>
          <a:xfrm>
            <a:off x="2978280" y="5870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1"/>
          <p:cNvSpPr/>
          <p:nvPr/>
        </p:nvSpPr>
        <p:spPr>
          <a:xfrm rot="1149000">
            <a:off x="2968560" y="612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2"/>
          <p:cNvSpPr/>
          <p:nvPr/>
        </p:nvSpPr>
        <p:spPr>
          <a:xfrm>
            <a:off x="2925720" y="18511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43"/>
          <p:cNvSpPr/>
          <p:nvPr/>
        </p:nvSpPr>
        <p:spPr>
          <a:xfrm rot="19789800">
            <a:off x="2820600" y="1569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4"/>
          <p:cNvSpPr/>
          <p:nvPr/>
        </p:nvSpPr>
        <p:spPr>
          <a:xfrm rot="18750600">
            <a:off x="2644200" y="135972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45"/>
          <p:cNvSpPr/>
          <p:nvPr/>
        </p:nvSpPr>
        <p:spPr>
          <a:xfrm rot="18519000">
            <a:off x="2402640" y="121788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46"/>
          <p:cNvSpPr/>
          <p:nvPr/>
        </p:nvSpPr>
        <p:spPr>
          <a:xfrm rot="16834800">
            <a:off x="2131200" y="11181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7"/>
          <p:cNvSpPr/>
          <p:nvPr/>
        </p:nvSpPr>
        <p:spPr>
          <a:xfrm rot="16188000">
            <a:off x="1875240" y="1124280"/>
            <a:ext cx="488880" cy="61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48"/>
          <p:cNvSpPr/>
          <p:nvPr/>
        </p:nvSpPr>
        <p:spPr>
          <a:xfrm rot="15461400">
            <a:off x="1601640" y="116460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49"/>
          <p:cNvSpPr/>
          <p:nvPr/>
        </p:nvSpPr>
        <p:spPr>
          <a:xfrm rot="14545800">
            <a:off x="1350720" y="126936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50"/>
          <p:cNvSpPr/>
          <p:nvPr/>
        </p:nvSpPr>
        <p:spPr>
          <a:xfrm rot="13860600">
            <a:off x="1141920" y="144864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51"/>
          <p:cNvSpPr/>
          <p:nvPr/>
        </p:nvSpPr>
        <p:spPr>
          <a:xfrm rot="11930400">
            <a:off x="977400" y="16729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2"/>
          <p:cNvSpPr/>
          <p:nvPr/>
        </p:nvSpPr>
        <p:spPr>
          <a:xfrm rot="10785600">
            <a:off x="907200" y="18824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3"/>
          <p:cNvSpPr/>
          <p:nvPr/>
        </p:nvSpPr>
        <p:spPr>
          <a:xfrm rot="5400000">
            <a:off x="1587960" y="635220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4"/>
          <p:cNvSpPr/>
          <p:nvPr/>
        </p:nvSpPr>
        <p:spPr>
          <a:xfrm rot="5400000">
            <a:off x="133740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55"/>
          <p:cNvSpPr/>
          <p:nvPr/>
        </p:nvSpPr>
        <p:spPr>
          <a:xfrm rot="3190200">
            <a:off x="2764440" y="6302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57"/>
          <p:cNvSpPr/>
          <p:nvPr/>
        </p:nvSpPr>
        <p:spPr>
          <a:xfrm rot="6548400">
            <a:off x="1076400" y="6339960"/>
            <a:ext cx="492120" cy="615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58"/>
          <p:cNvSpPr/>
          <p:nvPr/>
        </p:nvSpPr>
        <p:spPr>
          <a:xfrm rot="9169800">
            <a:off x="861120" y="6186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62"/>
          <p:cNvSpPr/>
          <p:nvPr/>
        </p:nvSpPr>
        <p:spPr>
          <a:xfrm rot="10785600">
            <a:off x="837360" y="22698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63"/>
          <p:cNvSpPr/>
          <p:nvPr/>
        </p:nvSpPr>
        <p:spPr>
          <a:xfrm rot="10785600">
            <a:off x="837360" y="2449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64"/>
          <p:cNvSpPr/>
          <p:nvPr/>
        </p:nvSpPr>
        <p:spPr>
          <a:xfrm rot="10785600">
            <a:off x="837360" y="26348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65"/>
          <p:cNvSpPr/>
          <p:nvPr/>
        </p:nvSpPr>
        <p:spPr>
          <a:xfrm rot="10785600">
            <a:off x="837360" y="285192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66"/>
          <p:cNvSpPr/>
          <p:nvPr/>
        </p:nvSpPr>
        <p:spPr>
          <a:xfrm rot="10785600">
            <a:off x="837360" y="30682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7"/>
          <p:cNvSpPr/>
          <p:nvPr/>
        </p:nvSpPr>
        <p:spPr>
          <a:xfrm rot="10785600">
            <a:off x="837360" y="331920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8"/>
          <p:cNvSpPr/>
          <p:nvPr/>
        </p:nvSpPr>
        <p:spPr>
          <a:xfrm rot="10785600">
            <a:off x="837360" y="35571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69"/>
          <p:cNvSpPr/>
          <p:nvPr/>
        </p:nvSpPr>
        <p:spPr>
          <a:xfrm rot="10785600">
            <a:off x="837360" y="3812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0"/>
          <p:cNvSpPr/>
          <p:nvPr/>
        </p:nvSpPr>
        <p:spPr>
          <a:xfrm rot="10785600">
            <a:off x="837360" y="40525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71"/>
          <p:cNvSpPr/>
          <p:nvPr/>
        </p:nvSpPr>
        <p:spPr>
          <a:xfrm rot="10785600">
            <a:off x="837360" y="42620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72"/>
          <p:cNvSpPr/>
          <p:nvPr/>
        </p:nvSpPr>
        <p:spPr>
          <a:xfrm rot="10785600">
            <a:off x="837360" y="468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3"/>
          <p:cNvSpPr/>
          <p:nvPr/>
        </p:nvSpPr>
        <p:spPr>
          <a:xfrm rot="10785600">
            <a:off x="837360" y="4890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4"/>
          <p:cNvSpPr/>
          <p:nvPr/>
        </p:nvSpPr>
        <p:spPr>
          <a:xfrm rot="10785600">
            <a:off x="837360" y="51001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75"/>
          <p:cNvSpPr/>
          <p:nvPr/>
        </p:nvSpPr>
        <p:spPr>
          <a:xfrm rot="10785600">
            <a:off x="837360" y="530784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6"/>
          <p:cNvSpPr/>
          <p:nvPr/>
        </p:nvSpPr>
        <p:spPr>
          <a:xfrm rot="10785600">
            <a:off x="837360" y="551736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77"/>
          <p:cNvSpPr/>
          <p:nvPr/>
        </p:nvSpPr>
        <p:spPr>
          <a:xfrm rot="10785600">
            <a:off x="837360" y="57268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8"/>
          <p:cNvSpPr/>
          <p:nvPr/>
        </p:nvSpPr>
        <p:spPr>
          <a:xfrm rot="10785600">
            <a:off x="837360" y="5936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9"/>
          <p:cNvSpPr/>
          <p:nvPr/>
        </p:nvSpPr>
        <p:spPr>
          <a:xfrm rot="10785600">
            <a:off x="837360" y="44632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2"/>
          <p:cNvSpPr/>
          <p:nvPr/>
        </p:nvSpPr>
        <p:spPr>
          <a:xfrm flipH="1">
            <a:off x="2373480" y="4533840"/>
            <a:ext cx="20937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3"/>
          <p:cNvSpPr/>
          <p:nvPr/>
        </p:nvSpPr>
        <p:spPr>
          <a:xfrm>
            <a:off x="4393800" y="4232160"/>
            <a:ext cx="40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ical nucleocapsid (RNA p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 protein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84"/>
          <p:cNvSpPr/>
          <p:nvPr/>
        </p:nvSpPr>
        <p:spPr>
          <a:xfrm flipH="1">
            <a:off x="3281400" y="1533600"/>
            <a:ext cx="132552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5"/>
          <p:cNvSpPr/>
          <p:nvPr/>
        </p:nvSpPr>
        <p:spPr>
          <a:xfrm>
            <a:off x="4548240" y="121932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G  glyco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SP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6"/>
          <p:cNvSpPr/>
          <p:nvPr/>
        </p:nvSpPr>
        <p:spPr>
          <a:xfrm flipH="1">
            <a:off x="2932200" y="2719440"/>
            <a:ext cx="1604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8"/>
          <p:cNvSpPr/>
          <p:nvPr/>
        </p:nvSpPr>
        <p:spPr>
          <a:xfrm>
            <a:off x="4965480" y="3139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ipid bilayer memb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09"/>
          <p:cNvSpPr/>
          <p:nvPr/>
        </p:nvSpPr>
        <p:spPr>
          <a:xfrm rot="10785600">
            <a:off x="837360" y="20905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10"/>
          <p:cNvSpPr/>
          <p:nvPr/>
        </p:nvSpPr>
        <p:spPr>
          <a:xfrm flipH="1">
            <a:off x="3071880" y="3349800"/>
            <a:ext cx="1954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1"/>
          <p:cNvSpPr/>
          <p:nvPr/>
        </p:nvSpPr>
        <p:spPr>
          <a:xfrm>
            <a:off x="4467240" y="25113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M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B9B-4210-447F-A3CE-098E1C9A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441360" y="217332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MINUS (NEGATIVE) SENSE RNA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RNA polymerase must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packaged in vir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414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7" name="AutoShape 11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Line 12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8"/>
          <p:cNvGrpSpPr/>
          <p:nvPr/>
        </p:nvGrpSpPr>
        <p:grpSpPr>
          <a:xfrm>
            <a:off x="1843560" y="4418280"/>
            <a:ext cx="1585800" cy="807120"/>
            <a:chOff x="1843560" y="4418280"/>
            <a:chExt cx="1585800" cy="807120"/>
          </a:xfrm>
        </p:grpSpPr>
        <p:grpSp>
          <p:nvGrpSpPr>
            <p:cNvPr id="426" name="Group 47"/>
            <p:cNvGrpSpPr/>
            <p:nvPr/>
          </p:nvGrpSpPr>
          <p:grpSpPr>
            <a:xfrm>
              <a:off x="1843560" y="4418280"/>
              <a:ext cx="1585800" cy="807120"/>
              <a:chOff x="1843560" y="4418280"/>
              <a:chExt cx="1585800" cy="807120"/>
            </a:xfrm>
          </p:grpSpPr>
          <p:sp>
            <p:nvSpPr>
              <p:cNvPr id="427" name="Freeform 21"/>
              <p:cNvSpPr/>
              <p:nvPr/>
            </p:nvSpPr>
            <p:spPr>
              <a:xfrm rot="5352600">
                <a:off x="2311560" y="412524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"/>
              <p:cNvSpPr/>
              <p:nvPr/>
            </p:nvSpPr>
            <p:spPr>
              <a:xfrm rot="5352600">
                <a:off x="2484360" y="4336560"/>
                <a:ext cx="277920" cy="95868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3"/>
              <p:cNvSpPr/>
              <p:nvPr/>
            </p:nvSpPr>
            <p:spPr>
              <a:xfrm rot="5352600">
                <a:off x="2406240" y="4214880"/>
                <a:ext cx="412920" cy="12319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4"/>
              <p:cNvSpPr/>
              <p:nvPr/>
            </p:nvSpPr>
            <p:spPr>
              <a:xfrm rot="21529800">
                <a:off x="3217320" y="4802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5"/>
              <p:cNvSpPr/>
              <p:nvPr/>
            </p:nvSpPr>
            <p:spPr>
              <a:xfrm rot="4932600">
                <a:off x="2966760" y="505008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6"/>
              <p:cNvSpPr/>
              <p:nvPr/>
            </p:nvSpPr>
            <p:spPr>
              <a:xfrm rot="10465200">
                <a:off x="1852200" y="48686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7"/>
              <p:cNvSpPr/>
              <p:nvPr/>
            </p:nvSpPr>
            <p:spPr>
              <a:xfrm rot="11982600">
                <a:off x="1848960" y="45957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28"/>
              <p:cNvSpPr/>
              <p:nvPr/>
            </p:nvSpPr>
            <p:spPr>
              <a:xfrm rot="8535000">
                <a:off x="1860120" y="50403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29"/>
              <p:cNvSpPr/>
              <p:nvPr/>
            </p:nvSpPr>
            <p:spPr>
              <a:xfrm rot="10465200">
                <a:off x="1850040" y="4732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0"/>
              <p:cNvSpPr/>
              <p:nvPr/>
            </p:nvSpPr>
            <p:spPr>
              <a:xfrm rot="4932600">
                <a:off x="2830680" y="50731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31"/>
              <p:cNvSpPr/>
              <p:nvPr/>
            </p:nvSpPr>
            <p:spPr>
              <a:xfrm rot="4932600">
                <a:off x="2694240" y="50745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32"/>
              <p:cNvSpPr/>
              <p:nvPr/>
            </p:nvSpPr>
            <p:spPr>
              <a:xfrm rot="4932600">
                <a:off x="2556000" y="50763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33"/>
              <p:cNvSpPr/>
              <p:nvPr/>
            </p:nvSpPr>
            <p:spPr>
              <a:xfrm rot="4932600">
                <a:off x="2419560" y="5079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34"/>
              <p:cNvSpPr/>
              <p:nvPr/>
            </p:nvSpPr>
            <p:spPr>
              <a:xfrm rot="4932600">
                <a:off x="2283120" y="5081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35"/>
              <p:cNvSpPr/>
              <p:nvPr/>
            </p:nvSpPr>
            <p:spPr>
              <a:xfrm rot="3228000">
                <a:off x="3129120" y="49903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36"/>
              <p:cNvSpPr/>
              <p:nvPr/>
            </p:nvSpPr>
            <p:spPr>
              <a:xfrm rot="16311600">
                <a:off x="2959560" y="4501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37"/>
              <p:cNvSpPr/>
              <p:nvPr/>
            </p:nvSpPr>
            <p:spPr>
              <a:xfrm rot="16311600">
                <a:off x="2822760" y="448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38"/>
              <p:cNvSpPr/>
              <p:nvPr/>
            </p:nvSpPr>
            <p:spPr>
              <a:xfrm rot="16311600">
                <a:off x="2686680" y="44920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39"/>
              <p:cNvSpPr/>
              <p:nvPr/>
            </p:nvSpPr>
            <p:spPr>
              <a:xfrm rot="16311600">
                <a:off x="2548080" y="4493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40"/>
              <p:cNvSpPr/>
              <p:nvPr/>
            </p:nvSpPr>
            <p:spPr>
              <a:xfrm rot="16311600">
                <a:off x="2411640" y="44964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41"/>
              <p:cNvSpPr/>
              <p:nvPr/>
            </p:nvSpPr>
            <p:spPr>
              <a:xfrm rot="16311600">
                <a:off x="2275200" y="4497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42"/>
              <p:cNvSpPr/>
              <p:nvPr/>
            </p:nvSpPr>
            <p:spPr>
              <a:xfrm rot="16311600">
                <a:off x="2137320" y="45000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43"/>
              <p:cNvSpPr/>
              <p:nvPr/>
            </p:nvSpPr>
            <p:spPr>
              <a:xfrm rot="16311600">
                <a:off x="2000520" y="4501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44"/>
              <p:cNvSpPr/>
              <p:nvPr/>
            </p:nvSpPr>
            <p:spPr>
              <a:xfrm rot="4932600">
                <a:off x="2144160" y="5061240"/>
                <a:ext cx="212400" cy="698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45"/>
              <p:cNvSpPr/>
              <p:nvPr/>
            </p:nvSpPr>
            <p:spPr>
              <a:xfrm rot="4932600">
                <a:off x="2007720" y="506268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46"/>
            <p:cNvSpPr/>
            <p:nvPr/>
          </p:nvSpPr>
          <p:spPr>
            <a:xfrm rot="18497400">
              <a:off x="3118320" y="4604400"/>
              <a:ext cx="210960" cy="70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C9E-57BD-4DDF-BF00-6904000C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50"/>
          <p:cNvSpPr/>
          <p:nvPr/>
        </p:nvSpPr>
        <p:spPr>
          <a:xfrm>
            <a:off x="1469880" y="1536840"/>
            <a:ext cx="1397160" cy="4500360"/>
          </a:xfrm>
          <a:custGeom>
            <a:avLst/>
            <a:gdLst>
              <a:gd name="textAreaLeft" fmla="*/ 0 w 1397160"/>
              <a:gd name="textAreaRight" fmla="*/ 1397520 w 1397160"/>
              <a:gd name="textAreaTop" fmla="*/ 0 h 4500360"/>
              <a:gd name="textAreaBottom" fmla="*/ 4500720 h 4500360"/>
            </a:gdLst>
            <a:ahLst/>
            <a:rect l="textAreaLeft" t="textAreaTop" r="textAreaRight" b="textAreaBottom"/>
            <a:pathLst>
              <a:path w="1068" h="3440">
                <a:moveTo>
                  <a:pt x="327" y="0"/>
                </a:moveTo>
                <a:cubicBezTo>
                  <a:pt x="418" y="14"/>
                  <a:pt x="902" y="58"/>
                  <a:pt x="881" y="78"/>
                </a:cubicBezTo>
                <a:cubicBezTo>
                  <a:pt x="860" y="98"/>
                  <a:pt x="183" y="93"/>
                  <a:pt x="201" y="120"/>
                </a:cubicBezTo>
                <a:cubicBezTo>
                  <a:pt x="219" y="147"/>
                  <a:pt x="1022" y="210"/>
                  <a:pt x="990" y="242"/>
                </a:cubicBezTo>
                <a:cubicBezTo>
                  <a:pt x="958" y="274"/>
                  <a:pt x="0" y="286"/>
                  <a:pt x="9" y="312"/>
                </a:cubicBezTo>
                <a:cubicBezTo>
                  <a:pt x="18" y="338"/>
                  <a:pt x="1044" y="366"/>
                  <a:pt x="1044" y="398"/>
                </a:cubicBezTo>
                <a:cubicBezTo>
                  <a:pt x="1044" y="430"/>
                  <a:pt x="6" y="478"/>
                  <a:pt x="9" y="504"/>
                </a:cubicBezTo>
                <a:cubicBezTo>
                  <a:pt x="12" y="530"/>
                  <a:pt x="1064" y="523"/>
                  <a:pt x="1065" y="552"/>
                </a:cubicBezTo>
                <a:cubicBezTo>
                  <a:pt x="1066" y="581"/>
                  <a:pt x="15" y="649"/>
                  <a:pt x="15" y="681"/>
                </a:cubicBezTo>
                <a:cubicBezTo>
                  <a:pt x="15" y="713"/>
                  <a:pt x="1066" y="710"/>
                  <a:pt x="1065" y="744"/>
                </a:cubicBezTo>
                <a:cubicBezTo>
                  <a:pt x="1064" y="778"/>
                  <a:pt x="9" y="856"/>
                  <a:pt x="9" y="888"/>
                </a:cubicBezTo>
                <a:cubicBezTo>
                  <a:pt x="9" y="920"/>
                  <a:pt x="1065" y="904"/>
                  <a:pt x="1065" y="936"/>
                </a:cubicBezTo>
                <a:cubicBezTo>
                  <a:pt x="1065" y="968"/>
                  <a:pt x="9" y="1040"/>
                  <a:pt x="9" y="1080"/>
                </a:cubicBezTo>
                <a:cubicBezTo>
                  <a:pt x="9" y="1120"/>
                  <a:pt x="1065" y="1144"/>
                  <a:pt x="1065" y="1176"/>
                </a:cubicBezTo>
                <a:cubicBezTo>
                  <a:pt x="1065" y="1208"/>
                  <a:pt x="9" y="1239"/>
                  <a:pt x="9" y="1272"/>
                </a:cubicBezTo>
                <a:cubicBezTo>
                  <a:pt x="9" y="1305"/>
                  <a:pt x="1068" y="1340"/>
                  <a:pt x="1068" y="1372"/>
                </a:cubicBezTo>
                <a:cubicBezTo>
                  <a:pt x="1068" y="1404"/>
                  <a:pt x="9" y="1429"/>
                  <a:pt x="9" y="1464"/>
                </a:cubicBezTo>
                <a:cubicBezTo>
                  <a:pt x="9" y="1499"/>
                  <a:pt x="1068" y="1550"/>
                  <a:pt x="1068" y="1582"/>
                </a:cubicBezTo>
                <a:cubicBezTo>
                  <a:pt x="1068" y="1614"/>
                  <a:pt x="10" y="1622"/>
                  <a:pt x="9" y="1656"/>
                </a:cubicBezTo>
                <a:cubicBezTo>
                  <a:pt x="8" y="1690"/>
                  <a:pt x="1059" y="1753"/>
                  <a:pt x="1060" y="1785"/>
                </a:cubicBezTo>
                <a:cubicBezTo>
                  <a:pt x="1061" y="1817"/>
                  <a:pt x="16" y="1812"/>
                  <a:pt x="16" y="1847"/>
                </a:cubicBezTo>
                <a:cubicBezTo>
                  <a:pt x="16" y="1882"/>
                  <a:pt x="1061" y="1960"/>
                  <a:pt x="1060" y="1995"/>
                </a:cubicBezTo>
                <a:cubicBezTo>
                  <a:pt x="1059" y="2030"/>
                  <a:pt x="9" y="2028"/>
                  <a:pt x="8" y="2058"/>
                </a:cubicBezTo>
                <a:cubicBezTo>
                  <a:pt x="7" y="2088"/>
                  <a:pt x="1051" y="2145"/>
                  <a:pt x="1052" y="2177"/>
                </a:cubicBezTo>
                <a:cubicBezTo>
                  <a:pt x="1053" y="2209"/>
                  <a:pt x="20" y="2218"/>
                  <a:pt x="15" y="2248"/>
                </a:cubicBezTo>
                <a:cubicBezTo>
                  <a:pt x="10" y="2278"/>
                  <a:pt x="1020" y="2322"/>
                  <a:pt x="1020" y="2357"/>
                </a:cubicBezTo>
                <a:cubicBezTo>
                  <a:pt x="1020" y="2392"/>
                  <a:pt x="15" y="2428"/>
                  <a:pt x="16" y="2458"/>
                </a:cubicBezTo>
                <a:cubicBezTo>
                  <a:pt x="17" y="2488"/>
                  <a:pt x="1027" y="2506"/>
                  <a:pt x="1028" y="2536"/>
                </a:cubicBezTo>
                <a:cubicBezTo>
                  <a:pt x="1029" y="2566"/>
                  <a:pt x="23" y="2610"/>
                  <a:pt x="23" y="2637"/>
                </a:cubicBezTo>
                <a:cubicBezTo>
                  <a:pt x="23" y="2664"/>
                  <a:pt x="1029" y="2672"/>
                  <a:pt x="1028" y="2700"/>
                </a:cubicBezTo>
                <a:cubicBezTo>
                  <a:pt x="1027" y="2728"/>
                  <a:pt x="15" y="2774"/>
                  <a:pt x="16" y="2806"/>
                </a:cubicBezTo>
                <a:cubicBezTo>
                  <a:pt x="17" y="2838"/>
                  <a:pt x="1036" y="2871"/>
                  <a:pt x="1036" y="2894"/>
                </a:cubicBezTo>
                <a:cubicBezTo>
                  <a:pt x="1036" y="2917"/>
                  <a:pt x="16" y="2917"/>
                  <a:pt x="16" y="2946"/>
                </a:cubicBezTo>
                <a:cubicBezTo>
                  <a:pt x="16" y="2975"/>
                  <a:pt x="1033" y="3036"/>
                  <a:pt x="1036" y="3066"/>
                </a:cubicBezTo>
                <a:cubicBezTo>
                  <a:pt x="1039" y="3096"/>
                  <a:pt x="30" y="3101"/>
                  <a:pt x="31" y="3128"/>
                </a:cubicBezTo>
                <a:lnTo>
                  <a:pt x="1044" y="3230"/>
                </a:lnTo>
                <a:lnTo>
                  <a:pt x="31" y="3300"/>
                </a:lnTo>
                <a:lnTo>
                  <a:pt x="78" y="3339"/>
                </a:lnTo>
                <a:lnTo>
                  <a:pt x="1044" y="3362"/>
                </a:lnTo>
                <a:lnTo>
                  <a:pt x="54" y="3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51"/>
          <p:cNvSpPr/>
          <p:nvPr/>
        </p:nvSpPr>
        <p:spPr>
          <a:xfrm flipV="1">
            <a:off x="125244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52"/>
          <p:cNvSpPr/>
          <p:nvPr/>
        </p:nvSpPr>
        <p:spPr>
          <a:xfrm flipV="1">
            <a:off x="304632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53"/>
          <p:cNvSpPr/>
          <p:nvPr/>
        </p:nvSpPr>
        <p:spPr>
          <a:xfrm>
            <a:off x="1279440" y="6218280"/>
            <a:ext cx="169236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54"/>
          <p:cNvSpPr/>
          <p:nvPr/>
        </p:nvSpPr>
        <p:spPr>
          <a:xfrm>
            <a:off x="1251000" y="6172200"/>
            <a:ext cx="0" cy="74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55"/>
          <p:cNvSpPr/>
          <p:nvPr/>
        </p:nvSpPr>
        <p:spPr>
          <a:xfrm>
            <a:off x="1246320" y="6221520"/>
            <a:ext cx="745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056"/>
          <p:cNvSpPr/>
          <p:nvPr/>
        </p:nvSpPr>
        <p:spPr>
          <a:xfrm flipH="1">
            <a:off x="2971440" y="6215400"/>
            <a:ext cx="74520" cy="7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57"/>
          <p:cNvSpPr/>
          <p:nvPr/>
        </p:nvSpPr>
        <p:spPr>
          <a:xfrm>
            <a:off x="3049560" y="6165720"/>
            <a:ext cx="0" cy="748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2058"/>
          <p:cNvSpPr/>
          <p:nvPr/>
        </p:nvSpPr>
        <p:spPr>
          <a:xfrm>
            <a:off x="1227240" y="1287360"/>
            <a:ext cx="1841400" cy="9241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fill="none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</a:path>
              <a:path stroke="0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  <a:lnTo>
                  <a:pt x="21523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59"/>
          <p:cNvSpPr/>
          <p:nvPr/>
        </p:nvSpPr>
        <p:spPr>
          <a:xfrm>
            <a:off x="258768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060"/>
          <p:cNvSpPr/>
          <p:nvPr/>
        </p:nvSpPr>
        <p:spPr>
          <a:xfrm>
            <a:off x="230652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061"/>
          <p:cNvSpPr/>
          <p:nvPr/>
        </p:nvSpPr>
        <p:spPr>
          <a:xfrm>
            <a:off x="201456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062"/>
          <p:cNvSpPr/>
          <p:nvPr/>
        </p:nvSpPr>
        <p:spPr>
          <a:xfrm>
            <a:off x="1722600" y="6059520"/>
            <a:ext cx="2696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063"/>
          <p:cNvSpPr/>
          <p:nvPr/>
        </p:nvSpPr>
        <p:spPr>
          <a:xfrm>
            <a:off x="144144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064"/>
          <p:cNvSpPr/>
          <p:nvPr/>
        </p:nvSpPr>
        <p:spPr>
          <a:xfrm rot="7200000">
            <a:off x="1315080" y="1775520"/>
            <a:ext cx="271440" cy="107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065"/>
          <p:cNvSpPr/>
          <p:nvPr/>
        </p:nvSpPr>
        <p:spPr>
          <a:xfrm rot="5400000">
            <a:off x="1225440" y="5978520"/>
            <a:ext cx="2714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066"/>
          <p:cNvSpPr/>
          <p:nvPr/>
        </p:nvSpPr>
        <p:spPr>
          <a:xfrm rot="5400000">
            <a:off x="1226880" y="2044440"/>
            <a:ext cx="2682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067"/>
          <p:cNvSpPr/>
          <p:nvPr/>
        </p:nvSpPr>
        <p:spPr>
          <a:xfrm rot="5400000">
            <a:off x="2798280" y="5978160"/>
            <a:ext cx="27144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068"/>
          <p:cNvSpPr/>
          <p:nvPr/>
        </p:nvSpPr>
        <p:spPr>
          <a:xfrm rot="10737600">
            <a:off x="2014560" y="1356480"/>
            <a:ext cx="2700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069"/>
          <p:cNvSpPr/>
          <p:nvPr/>
        </p:nvSpPr>
        <p:spPr>
          <a:xfrm rot="9805800">
            <a:off x="1733400" y="1414440"/>
            <a:ext cx="270000" cy="1065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070"/>
          <p:cNvSpPr/>
          <p:nvPr/>
        </p:nvSpPr>
        <p:spPr>
          <a:xfrm rot="1623000">
            <a:off x="2284200" y="1391760"/>
            <a:ext cx="269640" cy="1080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71"/>
          <p:cNvSpPr/>
          <p:nvPr/>
        </p:nvSpPr>
        <p:spPr>
          <a:xfrm rot="3331800">
            <a:off x="2710080" y="1772640"/>
            <a:ext cx="271440" cy="1141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072"/>
          <p:cNvGrpSpPr/>
          <p:nvPr/>
        </p:nvGrpSpPr>
        <p:grpSpPr>
          <a:xfrm>
            <a:off x="2876400" y="2246400"/>
            <a:ext cx="114480" cy="3641400"/>
            <a:chOff x="2876400" y="2246400"/>
            <a:chExt cx="114480" cy="3641400"/>
          </a:xfrm>
        </p:grpSpPr>
        <p:sp>
          <p:nvSpPr>
            <p:cNvPr id="477" name="AutoShape 2073"/>
            <p:cNvSpPr/>
            <p:nvPr/>
          </p:nvSpPr>
          <p:spPr>
            <a:xfrm rot="5400000">
              <a:off x="2799000" y="569808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074"/>
            <p:cNvSpPr/>
            <p:nvPr/>
          </p:nvSpPr>
          <p:spPr>
            <a:xfrm rot="5400000">
              <a:off x="2799000" y="541692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075"/>
            <p:cNvSpPr/>
            <p:nvPr/>
          </p:nvSpPr>
          <p:spPr>
            <a:xfrm rot="5400000">
              <a:off x="2798640" y="513360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2076"/>
            <p:cNvSpPr/>
            <p:nvPr/>
          </p:nvSpPr>
          <p:spPr>
            <a:xfrm rot="5400000">
              <a:off x="2798640" y="48524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2077"/>
            <p:cNvSpPr/>
            <p:nvPr/>
          </p:nvSpPr>
          <p:spPr>
            <a:xfrm rot="5400000">
              <a:off x="2798640" y="45716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078"/>
            <p:cNvSpPr/>
            <p:nvPr/>
          </p:nvSpPr>
          <p:spPr>
            <a:xfrm rot="5400000">
              <a:off x="2798640" y="429048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2079"/>
            <p:cNvSpPr/>
            <p:nvPr/>
          </p:nvSpPr>
          <p:spPr>
            <a:xfrm rot="5400000">
              <a:off x="2798640" y="400932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2080"/>
            <p:cNvSpPr/>
            <p:nvPr/>
          </p:nvSpPr>
          <p:spPr>
            <a:xfrm rot="5400000">
              <a:off x="2799000" y="372888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2081"/>
            <p:cNvSpPr/>
            <p:nvPr/>
          </p:nvSpPr>
          <p:spPr>
            <a:xfrm rot="5400000">
              <a:off x="2799000" y="344772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82"/>
            <p:cNvSpPr/>
            <p:nvPr/>
          </p:nvSpPr>
          <p:spPr>
            <a:xfrm rot="5400000">
              <a:off x="2799000" y="31665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083"/>
            <p:cNvSpPr/>
            <p:nvPr/>
          </p:nvSpPr>
          <p:spPr>
            <a:xfrm rot="5400000">
              <a:off x="2799000" y="28857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084"/>
            <p:cNvSpPr/>
            <p:nvPr/>
          </p:nvSpPr>
          <p:spPr>
            <a:xfrm rot="5400000">
              <a:off x="2799000" y="26046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085"/>
            <p:cNvSpPr/>
            <p:nvPr/>
          </p:nvSpPr>
          <p:spPr>
            <a:xfrm rot="5400000">
              <a:off x="2799000" y="23238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086"/>
          <p:cNvGrpSpPr/>
          <p:nvPr/>
        </p:nvGrpSpPr>
        <p:grpSpPr>
          <a:xfrm>
            <a:off x="1306080" y="2246400"/>
            <a:ext cx="111240" cy="3641400"/>
            <a:chOff x="1306080" y="2246400"/>
            <a:chExt cx="111240" cy="3641400"/>
          </a:xfrm>
        </p:grpSpPr>
        <p:sp>
          <p:nvSpPr>
            <p:cNvPr id="491" name="AutoShape 2087"/>
            <p:cNvSpPr/>
            <p:nvPr/>
          </p:nvSpPr>
          <p:spPr>
            <a:xfrm rot="5400000">
              <a:off x="1227240" y="569952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2088"/>
            <p:cNvSpPr/>
            <p:nvPr/>
          </p:nvSpPr>
          <p:spPr>
            <a:xfrm rot="5400000">
              <a:off x="1227240" y="541836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2089"/>
            <p:cNvSpPr/>
            <p:nvPr/>
          </p:nvSpPr>
          <p:spPr>
            <a:xfrm rot="5400000">
              <a:off x="1226880" y="513540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090"/>
            <p:cNvSpPr/>
            <p:nvPr/>
          </p:nvSpPr>
          <p:spPr>
            <a:xfrm rot="5400000">
              <a:off x="1226880" y="48542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91"/>
            <p:cNvSpPr/>
            <p:nvPr/>
          </p:nvSpPr>
          <p:spPr>
            <a:xfrm rot="5400000">
              <a:off x="1226880" y="45734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2092"/>
            <p:cNvSpPr/>
            <p:nvPr/>
          </p:nvSpPr>
          <p:spPr>
            <a:xfrm rot="5400000">
              <a:off x="1226880" y="429228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093"/>
            <p:cNvSpPr/>
            <p:nvPr/>
          </p:nvSpPr>
          <p:spPr>
            <a:xfrm rot="5400000">
              <a:off x="1226880" y="401112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094"/>
            <p:cNvSpPr/>
            <p:nvPr/>
          </p:nvSpPr>
          <p:spPr>
            <a:xfrm rot="5400000">
              <a:off x="1226880" y="373032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095"/>
            <p:cNvSpPr/>
            <p:nvPr/>
          </p:nvSpPr>
          <p:spPr>
            <a:xfrm rot="5400000">
              <a:off x="1226880" y="344916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096"/>
            <p:cNvSpPr/>
            <p:nvPr/>
          </p:nvSpPr>
          <p:spPr>
            <a:xfrm rot="5400000">
              <a:off x="1226880" y="31680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097"/>
            <p:cNvSpPr/>
            <p:nvPr/>
          </p:nvSpPr>
          <p:spPr>
            <a:xfrm rot="5400000">
              <a:off x="1226880" y="28872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098"/>
            <p:cNvSpPr/>
            <p:nvPr/>
          </p:nvSpPr>
          <p:spPr>
            <a:xfrm rot="5400000">
              <a:off x="1226880" y="26060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099"/>
            <p:cNvSpPr/>
            <p:nvPr/>
          </p:nvSpPr>
          <p:spPr>
            <a:xfrm rot="5400000">
              <a:off x="1226880" y="23252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2100"/>
          <p:cNvSpPr/>
          <p:nvPr/>
        </p:nvSpPr>
        <p:spPr>
          <a:xfrm rot="5400000">
            <a:off x="2800080" y="2044440"/>
            <a:ext cx="2682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101"/>
          <p:cNvSpPr/>
          <p:nvPr/>
        </p:nvSpPr>
        <p:spPr>
          <a:xfrm rot="2901600">
            <a:off x="2529000" y="1551600"/>
            <a:ext cx="270000" cy="106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102"/>
          <p:cNvSpPr/>
          <p:nvPr/>
        </p:nvSpPr>
        <p:spPr>
          <a:xfrm rot="8557200">
            <a:off x="1499760" y="156024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103"/>
          <p:cNvSpPr/>
          <p:nvPr/>
        </p:nvSpPr>
        <p:spPr>
          <a:xfrm rot="5400000">
            <a:off x="2466720" y="635292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104"/>
          <p:cNvSpPr/>
          <p:nvPr/>
        </p:nvSpPr>
        <p:spPr>
          <a:xfrm rot="5400000">
            <a:off x="183888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105"/>
          <p:cNvSpPr/>
          <p:nvPr/>
        </p:nvSpPr>
        <p:spPr>
          <a:xfrm rot="5400000">
            <a:off x="215316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106"/>
          <p:cNvSpPr/>
          <p:nvPr/>
        </p:nvSpPr>
        <p:spPr>
          <a:xfrm>
            <a:off x="2978280" y="2090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107"/>
          <p:cNvSpPr/>
          <p:nvPr/>
        </p:nvSpPr>
        <p:spPr>
          <a:xfrm>
            <a:off x="2978280" y="23544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108"/>
          <p:cNvSpPr/>
          <p:nvPr/>
        </p:nvSpPr>
        <p:spPr>
          <a:xfrm>
            <a:off x="2978280" y="26049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09"/>
          <p:cNvSpPr/>
          <p:nvPr/>
        </p:nvSpPr>
        <p:spPr>
          <a:xfrm>
            <a:off x="2978280" y="29192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110"/>
          <p:cNvSpPr/>
          <p:nvPr/>
        </p:nvSpPr>
        <p:spPr>
          <a:xfrm>
            <a:off x="2978280" y="31701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111"/>
          <p:cNvSpPr/>
          <p:nvPr/>
        </p:nvSpPr>
        <p:spPr>
          <a:xfrm>
            <a:off x="2978280" y="34844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112"/>
          <p:cNvSpPr/>
          <p:nvPr/>
        </p:nvSpPr>
        <p:spPr>
          <a:xfrm>
            <a:off x="2978280" y="373536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113"/>
          <p:cNvSpPr/>
          <p:nvPr/>
        </p:nvSpPr>
        <p:spPr>
          <a:xfrm>
            <a:off x="2978280" y="398628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114"/>
          <p:cNvSpPr/>
          <p:nvPr/>
        </p:nvSpPr>
        <p:spPr>
          <a:xfrm>
            <a:off x="2978280" y="42372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15"/>
          <p:cNvSpPr/>
          <p:nvPr/>
        </p:nvSpPr>
        <p:spPr>
          <a:xfrm>
            <a:off x="2978280" y="44895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16"/>
          <p:cNvSpPr/>
          <p:nvPr/>
        </p:nvSpPr>
        <p:spPr>
          <a:xfrm>
            <a:off x="2978280" y="4676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17"/>
          <p:cNvSpPr/>
          <p:nvPr/>
        </p:nvSpPr>
        <p:spPr>
          <a:xfrm>
            <a:off x="2978280" y="4865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118"/>
          <p:cNvSpPr/>
          <p:nvPr/>
        </p:nvSpPr>
        <p:spPr>
          <a:xfrm>
            <a:off x="2978280" y="51166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119"/>
          <p:cNvSpPr/>
          <p:nvPr/>
        </p:nvSpPr>
        <p:spPr>
          <a:xfrm>
            <a:off x="2978280" y="5305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120"/>
          <p:cNvSpPr/>
          <p:nvPr/>
        </p:nvSpPr>
        <p:spPr>
          <a:xfrm>
            <a:off x="2978280" y="5494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121"/>
          <p:cNvSpPr/>
          <p:nvPr/>
        </p:nvSpPr>
        <p:spPr>
          <a:xfrm>
            <a:off x="2978280" y="5681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122"/>
          <p:cNvSpPr/>
          <p:nvPr/>
        </p:nvSpPr>
        <p:spPr>
          <a:xfrm>
            <a:off x="2978280" y="5870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2123"/>
          <p:cNvSpPr/>
          <p:nvPr/>
        </p:nvSpPr>
        <p:spPr>
          <a:xfrm rot="1149000">
            <a:off x="2968560" y="612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124"/>
          <p:cNvSpPr/>
          <p:nvPr/>
        </p:nvSpPr>
        <p:spPr>
          <a:xfrm>
            <a:off x="2925720" y="18511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125"/>
          <p:cNvSpPr/>
          <p:nvPr/>
        </p:nvSpPr>
        <p:spPr>
          <a:xfrm rot="19789800">
            <a:off x="2820600" y="1569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2126"/>
          <p:cNvSpPr/>
          <p:nvPr/>
        </p:nvSpPr>
        <p:spPr>
          <a:xfrm rot="18750600">
            <a:off x="2644200" y="135972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2127"/>
          <p:cNvSpPr/>
          <p:nvPr/>
        </p:nvSpPr>
        <p:spPr>
          <a:xfrm rot="18519000">
            <a:off x="2402640" y="121788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128"/>
          <p:cNvSpPr/>
          <p:nvPr/>
        </p:nvSpPr>
        <p:spPr>
          <a:xfrm rot="16834800">
            <a:off x="2131200" y="11181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129"/>
          <p:cNvSpPr/>
          <p:nvPr/>
        </p:nvSpPr>
        <p:spPr>
          <a:xfrm rot="16188000">
            <a:off x="1875240" y="1124280"/>
            <a:ext cx="488880" cy="61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130"/>
          <p:cNvSpPr/>
          <p:nvPr/>
        </p:nvSpPr>
        <p:spPr>
          <a:xfrm rot="15461400">
            <a:off x="1601640" y="116460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131"/>
          <p:cNvSpPr/>
          <p:nvPr/>
        </p:nvSpPr>
        <p:spPr>
          <a:xfrm rot="14545800">
            <a:off x="1350720" y="126936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132"/>
          <p:cNvSpPr/>
          <p:nvPr/>
        </p:nvSpPr>
        <p:spPr>
          <a:xfrm rot="13860600">
            <a:off x="1141920" y="144864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33"/>
          <p:cNvSpPr/>
          <p:nvPr/>
        </p:nvSpPr>
        <p:spPr>
          <a:xfrm rot="11930400">
            <a:off x="977400" y="16729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134"/>
          <p:cNvSpPr/>
          <p:nvPr/>
        </p:nvSpPr>
        <p:spPr>
          <a:xfrm rot="10785600">
            <a:off x="907200" y="18824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35"/>
          <p:cNvSpPr/>
          <p:nvPr/>
        </p:nvSpPr>
        <p:spPr>
          <a:xfrm rot="5400000">
            <a:off x="1587960" y="635220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36"/>
          <p:cNvSpPr/>
          <p:nvPr/>
        </p:nvSpPr>
        <p:spPr>
          <a:xfrm rot="5400000">
            <a:off x="133740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137"/>
          <p:cNvSpPr/>
          <p:nvPr/>
        </p:nvSpPr>
        <p:spPr>
          <a:xfrm rot="3190200">
            <a:off x="2764440" y="6302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138"/>
          <p:cNvSpPr/>
          <p:nvPr/>
        </p:nvSpPr>
        <p:spPr>
          <a:xfrm rot="6548400">
            <a:off x="1076400" y="6339960"/>
            <a:ext cx="492120" cy="615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39"/>
          <p:cNvSpPr/>
          <p:nvPr/>
        </p:nvSpPr>
        <p:spPr>
          <a:xfrm rot="9169800">
            <a:off x="861120" y="6186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140"/>
          <p:cNvSpPr/>
          <p:nvPr/>
        </p:nvSpPr>
        <p:spPr>
          <a:xfrm rot="10785600">
            <a:off x="837360" y="22698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41"/>
          <p:cNvSpPr/>
          <p:nvPr/>
        </p:nvSpPr>
        <p:spPr>
          <a:xfrm rot="10785600">
            <a:off x="837360" y="2449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142"/>
          <p:cNvSpPr/>
          <p:nvPr/>
        </p:nvSpPr>
        <p:spPr>
          <a:xfrm rot="10785600">
            <a:off x="837360" y="26348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143"/>
          <p:cNvSpPr/>
          <p:nvPr/>
        </p:nvSpPr>
        <p:spPr>
          <a:xfrm rot="10785600">
            <a:off x="837360" y="285192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144"/>
          <p:cNvSpPr/>
          <p:nvPr/>
        </p:nvSpPr>
        <p:spPr>
          <a:xfrm rot="10785600">
            <a:off x="837360" y="30682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5"/>
          <p:cNvSpPr/>
          <p:nvPr/>
        </p:nvSpPr>
        <p:spPr>
          <a:xfrm rot="10785600">
            <a:off x="837360" y="331920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146"/>
          <p:cNvSpPr/>
          <p:nvPr/>
        </p:nvSpPr>
        <p:spPr>
          <a:xfrm rot="10785600">
            <a:off x="837360" y="35571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47"/>
          <p:cNvSpPr/>
          <p:nvPr/>
        </p:nvSpPr>
        <p:spPr>
          <a:xfrm rot="10785600">
            <a:off x="837360" y="3812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148"/>
          <p:cNvSpPr/>
          <p:nvPr/>
        </p:nvSpPr>
        <p:spPr>
          <a:xfrm rot="10785600">
            <a:off x="837360" y="40525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49"/>
          <p:cNvSpPr/>
          <p:nvPr/>
        </p:nvSpPr>
        <p:spPr>
          <a:xfrm rot="10785600">
            <a:off x="837360" y="42620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150"/>
          <p:cNvSpPr/>
          <p:nvPr/>
        </p:nvSpPr>
        <p:spPr>
          <a:xfrm rot="10785600">
            <a:off x="837360" y="468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151"/>
          <p:cNvSpPr/>
          <p:nvPr/>
        </p:nvSpPr>
        <p:spPr>
          <a:xfrm rot="10785600">
            <a:off x="837360" y="4890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152"/>
          <p:cNvSpPr/>
          <p:nvPr/>
        </p:nvSpPr>
        <p:spPr>
          <a:xfrm rot="10785600">
            <a:off x="837360" y="51001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153"/>
          <p:cNvSpPr/>
          <p:nvPr/>
        </p:nvSpPr>
        <p:spPr>
          <a:xfrm rot="10785600">
            <a:off x="837360" y="530784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154"/>
          <p:cNvSpPr/>
          <p:nvPr/>
        </p:nvSpPr>
        <p:spPr>
          <a:xfrm rot="10785600">
            <a:off x="837360" y="551736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155"/>
          <p:cNvSpPr/>
          <p:nvPr/>
        </p:nvSpPr>
        <p:spPr>
          <a:xfrm rot="10785600">
            <a:off x="837360" y="57268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56"/>
          <p:cNvSpPr/>
          <p:nvPr/>
        </p:nvSpPr>
        <p:spPr>
          <a:xfrm rot="10785600">
            <a:off x="837360" y="5936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57"/>
          <p:cNvSpPr/>
          <p:nvPr/>
        </p:nvSpPr>
        <p:spPr>
          <a:xfrm rot="10785600">
            <a:off x="837360" y="44632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158"/>
          <p:cNvSpPr/>
          <p:nvPr/>
        </p:nvSpPr>
        <p:spPr>
          <a:xfrm flipH="1">
            <a:off x="2373480" y="4533840"/>
            <a:ext cx="20937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159"/>
          <p:cNvSpPr/>
          <p:nvPr/>
        </p:nvSpPr>
        <p:spPr>
          <a:xfrm>
            <a:off x="4393800" y="4232160"/>
            <a:ext cx="40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ical nucleocapsid (RNA p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 protein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60"/>
          <p:cNvSpPr/>
          <p:nvPr/>
        </p:nvSpPr>
        <p:spPr>
          <a:xfrm flipH="1">
            <a:off x="3281400" y="1533600"/>
            <a:ext cx="132552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61"/>
          <p:cNvSpPr/>
          <p:nvPr/>
        </p:nvSpPr>
        <p:spPr>
          <a:xfrm>
            <a:off x="4548240" y="121932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G  glyco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SP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162"/>
          <p:cNvSpPr/>
          <p:nvPr/>
        </p:nvSpPr>
        <p:spPr>
          <a:xfrm flipH="1">
            <a:off x="2932200" y="2719440"/>
            <a:ext cx="1604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163"/>
          <p:cNvSpPr/>
          <p:nvPr/>
        </p:nvSpPr>
        <p:spPr>
          <a:xfrm>
            <a:off x="4965480" y="3139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ipid bilayer memb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2184"/>
          <p:cNvGrpSpPr/>
          <p:nvPr/>
        </p:nvGrpSpPr>
        <p:grpSpPr>
          <a:xfrm>
            <a:off x="1600200" y="1752480"/>
            <a:ext cx="5394960" cy="4285440"/>
            <a:chOff x="1600200" y="1752480"/>
            <a:chExt cx="5394960" cy="4285440"/>
          </a:xfrm>
        </p:grpSpPr>
        <p:sp>
          <p:nvSpPr>
            <p:cNvPr id="569" name="Oval 2165"/>
            <p:cNvSpPr/>
            <p:nvPr/>
          </p:nvSpPr>
          <p:spPr>
            <a:xfrm>
              <a:off x="1949400" y="3984480"/>
              <a:ext cx="279360" cy="69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166"/>
            <p:cNvSpPr/>
            <p:nvPr/>
          </p:nvSpPr>
          <p:spPr>
            <a:xfrm>
              <a:off x="2019240" y="551988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167"/>
            <p:cNvSpPr/>
            <p:nvPr/>
          </p:nvSpPr>
          <p:spPr>
            <a:xfrm>
              <a:off x="1670040" y="489276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168"/>
            <p:cNvSpPr/>
            <p:nvPr/>
          </p:nvSpPr>
          <p:spPr>
            <a:xfrm>
              <a:off x="1670040" y="586908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169"/>
            <p:cNvSpPr/>
            <p:nvPr/>
          </p:nvSpPr>
          <p:spPr>
            <a:xfrm>
              <a:off x="2298600" y="356724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170"/>
            <p:cNvSpPr/>
            <p:nvPr/>
          </p:nvSpPr>
          <p:spPr>
            <a:xfrm>
              <a:off x="1600200" y="314784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171"/>
            <p:cNvSpPr/>
            <p:nvPr/>
          </p:nvSpPr>
          <p:spPr>
            <a:xfrm>
              <a:off x="2508120" y="2798640"/>
              <a:ext cx="27792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172"/>
            <p:cNvSpPr/>
            <p:nvPr/>
          </p:nvSpPr>
          <p:spPr>
            <a:xfrm>
              <a:off x="1670040" y="272880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173"/>
            <p:cNvSpPr/>
            <p:nvPr/>
          </p:nvSpPr>
          <p:spPr>
            <a:xfrm>
              <a:off x="2089080" y="238140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74"/>
            <p:cNvSpPr/>
            <p:nvPr/>
          </p:nvSpPr>
          <p:spPr>
            <a:xfrm>
              <a:off x="1739880" y="203184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175"/>
            <p:cNvSpPr/>
            <p:nvPr/>
          </p:nvSpPr>
          <p:spPr>
            <a:xfrm>
              <a:off x="2158920" y="175248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176"/>
            <p:cNvSpPr/>
            <p:nvPr/>
          </p:nvSpPr>
          <p:spPr>
            <a:xfrm>
              <a:off x="2228760" y="489276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177"/>
            <p:cNvSpPr/>
            <p:nvPr/>
          </p:nvSpPr>
          <p:spPr>
            <a:xfrm>
              <a:off x="2438280" y="579924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178"/>
            <p:cNvSpPr/>
            <p:nvPr/>
          </p:nvSpPr>
          <p:spPr>
            <a:xfrm flipH="1">
              <a:off x="2158560" y="5554800"/>
              <a:ext cx="223380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79"/>
            <p:cNvSpPr/>
            <p:nvPr/>
          </p:nvSpPr>
          <p:spPr>
            <a:xfrm>
              <a:off x="4298400" y="5334120"/>
              <a:ext cx="269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polymerase 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AutoShape 2180"/>
          <p:cNvSpPr/>
          <p:nvPr/>
        </p:nvSpPr>
        <p:spPr>
          <a:xfrm rot="10785600">
            <a:off x="837360" y="20905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181"/>
          <p:cNvSpPr/>
          <p:nvPr/>
        </p:nvSpPr>
        <p:spPr>
          <a:xfrm flipH="1">
            <a:off x="3071880" y="3349800"/>
            <a:ext cx="1954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182"/>
          <p:cNvSpPr/>
          <p:nvPr/>
        </p:nvSpPr>
        <p:spPr>
          <a:xfrm>
            <a:off x="4467240" y="25113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M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5A40-90FD-4DDF-B31D-9DEA60307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icular stomatitis virus (V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6" descr="C:\gallery\vsv-ed.tif"/>
          <p:cNvPicPr/>
          <p:nvPr/>
        </p:nvPicPr>
        <p:blipFill>
          <a:blip r:embed="rId1"/>
          <a:srcRect l="24986" t="0" r="0" b="1920"/>
          <a:stretch/>
        </p:blipFill>
        <p:spPr>
          <a:xfrm>
            <a:off x="5481720" y="914400"/>
            <a:ext cx="313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F2E-4749-40F3-B5B7-3C28D1F1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3"/>
          <p:cNvSpPr/>
          <p:nvPr/>
        </p:nvSpPr>
        <p:spPr>
          <a:xfrm>
            <a:off x="4114800" y="4495680"/>
            <a:ext cx="1763640" cy="16858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111" h="1062">
                <a:moveTo>
                  <a:pt x="538" y="0"/>
                </a:moveTo>
                <a:cubicBezTo>
                  <a:pt x="631" y="0"/>
                  <a:pt x="709" y="30"/>
                  <a:pt x="796" y="88"/>
                </a:cubicBezTo>
                <a:cubicBezTo>
                  <a:pt x="883" y="146"/>
                  <a:pt x="1011" y="247"/>
                  <a:pt x="1058" y="350"/>
                </a:cubicBezTo>
                <a:cubicBezTo>
                  <a:pt x="1105" y="453"/>
                  <a:pt x="1111" y="600"/>
                  <a:pt x="1081" y="708"/>
                </a:cubicBezTo>
                <a:cubicBezTo>
                  <a:pt x="1051" y="816"/>
                  <a:pt x="968" y="938"/>
                  <a:pt x="878" y="996"/>
                </a:cubicBezTo>
                <a:cubicBezTo>
                  <a:pt x="788" y="1054"/>
                  <a:pt x="652" y="1062"/>
                  <a:pt x="538" y="1057"/>
                </a:cubicBezTo>
                <a:cubicBezTo>
                  <a:pt x="424" y="1052"/>
                  <a:pt x="280" y="1035"/>
                  <a:pt x="194" y="969"/>
                </a:cubicBezTo>
                <a:cubicBezTo>
                  <a:pt x="108" y="903"/>
                  <a:pt x="43" y="770"/>
                  <a:pt x="22" y="660"/>
                </a:cubicBezTo>
                <a:cubicBezTo>
                  <a:pt x="0" y="550"/>
                  <a:pt x="29" y="404"/>
                  <a:pt x="65" y="308"/>
                </a:cubicBezTo>
                <a:cubicBezTo>
                  <a:pt x="100" y="213"/>
                  <a:pt x="158" y="139"/>
                  <a:pt x="237" y="88"/>
                </a:cubicBezTo>
                <a:cubicBezTo>
                  <a:pt x="315" y="37"/>
                  <a:pt x="444" y="0"/>
                  <a:pt x="538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AND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"/>
          <p:cNvSpPr/>
          <p:nvPr/>
        </p:nvSpPr>
        <p:spPr>
          <a:xfrm>
            <a:off x="5413320" y="138240"/>
            <a:ext cx="1879560" cy="6553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6553080"/>
              <a:gd name="textAreaBottom" fmla="*/ 6553440 h 6553080"/>
            </a:gdLst>
            <a:ahLst/>
            <a:rect l="textAreaLeft" t="textAreaTop" r="textAreaRight" b="textAreaBottom"/>
            <a:pathLst>
              <a:path w="1194" h="3984">
                <a:moveTo>
                  <a:pt x="1194" y="0"/>
                </a:moveTo>
                <a:cubicBezTo>
                  <a:pt x="1185" y="199"/>
                  <a:pt x="1160" y="877"/>
                  <a:pt x="1141" y="1196"/>
                </a:cubicBezTo>
                <a:cubicBezTo>
                  <a:pt x="1122" y="1515"/>
                  <a:pt x="1128" y="1856"/>
                  <a:pt x="1078" y="1913"/>
                </a:cubicBezTo>
                <a:cubicBezTo>
                  <a:pt x="1028" y="1970"/>
                  <a:pt x="973" y="1605"/>
                  <a:pt x="844" y="1539"/>
                </a:cubicBezTo>
                <a:cubicBezTo>
                  <a:pt x="715" y="1473"/>
                  <a:pt x="443" y="1439"/>
                  <a:pt x="303" y="1516"/>
                </a:cubicBezTo>
                <a:cubicBezTo>
                  <a:pt x="163" y="1593"/>
                  <a:pt x="0" y="1821"/>
                  <a:pt x="3" y="1999"/>
                </a:cubicBezTo>
                <a:cubicBezTo>
                  <a:pt x="6" y="2177"/>
                  <a:pt x="180" y="2513"/>
                  <a:pt x="319" y="2584"/>
                </a:cubicBezTo>
                <a:cubicBezTo>
                  <a:pt x="458" y="2655"/>
                  <a:pt x="706" y="2511"/>
                  <a:pt x="836" y="2428"/>
                </a:cubicBezTo>
                <a:cubicBezTo>
                  <a:pt x="966" y="2345"/>
                  <a:pt x="1046" y="2036"/>
                  <a:pt x="1101" y="2085"/>
                </a:cubicBezTo>
                <a:cubicBezTo>
                  <a:pt x="1156" y="2134"/>
                  <a:pt x="1149" y="2408"/>
                  <a:pt x="1164" y="2724"/>
                </a:cubicBezTo>
                <a:cubicBezTo>
                  <a:pt x="1179" y="3040"/>
                  <a:pt x="1188" y="3722"/>
                  <a:pt x="1194" y="3984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4"/>
          <p:cNvSpPr/>
          <p:nvPr/>
        </p:nvSpPr>
        <p:spPr>
          <a:xfrm>
            <a:off x="2104920" y="4573440"/>
            <a:ext cx="109800" cy="223920"/>
          </a:xfrm>
          <a:custGeom>
            <a:avLst/>
            <a:gdLst>
              <a:gd name="textAreaLeft" fmla="*/ 0 w 109800"/>
              <a:gd name="textAreaRight" fmla="*/ 110160 w 1098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40" h="172">
                <a:moveTo>
                  <a:pt x="32" y="0"/>
                </a:moveTo>
                <a:cubicBezTo>
                  <a:pt x="28" y="48"/>
                  <a:pt x="0" y="132"/>
                  <a:pt x="40" y="172"/>
                </a:cubicBezTo>
                <a:lnTo>
                  <a:pt x="9" y="125"/>
                </a:lnTo>
              </a:path>
            </a:pathLst>
          </a:custGeom>
          <a:noFill/>
          <a:ln w="104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7"/>
          <p:cNvSpPr/>
          <p:nvPr/>
        </p:nvSpPr>
        <p:spPr>
          <a:xfrm rot="1176600">
            <a:off x="2133360" y="4959360"/>
            <a:ext cx="3808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0"/>
          <p:cNvSpPr/>
          <p:nvPr/>
        </p:nvSpPr>
        <p:spPr>
          <a:xfrm rot="1176600">
            <a:off x="3341160" y="1073160"/>
            <a:ext cx="3812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13"/>
          <p:cNvGrpSpPr/>
          <p:nvPr/>
        </p:nvGrpSpPr>
        <p:grpSpPr>
          <a:xfrm>
            <a:off x="4495680" y="4187880"/>
            <a:ext cx="799200" cy="530280"/>
            <a:chOff x="4495680" y="4187880"/>
            <a:chExt cx="799200" cy="530280"/>
          </a:xfrm>
        </p:grpSpPr>
        <p:sp>
          <p:nvSpPr>
            <p:cNvPr id="600" name="WordArt 114"/>
            <p:cNvSpPr txBox="1"/>
            <p:nvPr/>
          </p:nvSpPr>
          <p:spPr>
            <a:xfrm>
              <a:off x="4495680" y="4187880"/>
              <a:ext cx="5731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Arial Black"/>
                </a:rPr>
                <a:t>H+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1" name="AutoShape 115"/>
            <p:cNvSpPr/>
            <p:nvPr/>
          </p:nvSpPr>
          <p:spPr>
            <a:xfrm rot="2548800">
              <a:off x="4952520" y="4416480"/>
              <a:ext cx="304920" cy="228600"/>
            </a:xfrm>
            <a:custGeom>
              <a:avLst/>
              <a:gdLst>
                <a:gd name="textAreaLeft" fmla="*/ 44280 w 304920"/>
                <a:gd name="textAreaRight" fmla="*/ 260640 w 30492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16"/>
          <p:cNvGrpSpPr/>
          <p:nvPr/>
        </p:nvGrpSpPr>
        <p:grpSpPr>
          <a:xfrm>
            <a:off x="7021080" y="69840"/>
            <a:ext cx="481680" cy="3276360"/>
            <a:chOff x="7021080" y="69840"/>
            <a:chExt cx="481680" cy="3276360"/>
          </a:xfrm>
        </p:grpSpPr>
        <p:sp>
          <p:nvSpPr>
            <p:cNvPr id="603" name="AutoShape 117"/>
            <p:cNvSpPr/>
            <p:nvPr/>
          </p:nvSpPr>
          <p:spPr>
            <a:xfrm rot="22800">
              <a:off x="7080120" y="38520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18"/>
            <p:cNvSpPr/>
            <p:nvPr/>
          </p:nvSpPr>
          <p:spPr>
            <a:xfrm rot="22800">
              <a:off x="7074000" y="669600"/>
              <a:ext cx="41580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119"/>
            <p:cNvSpPr/>
            <p:nvPr/>
          </p:nvSpPr>
          <p:spPr>
            <a:xfrm rot="22800">
              <a:off x="7067520" y="101232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120"/>
            <p:cNvSpPr/>
            <p:nvPr/>
          </p:nvSpPr>
          <p:spPr>
            <a:xfrm rot="22800">
              <a:off x="7072200" y="129960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121"/>
            <p:cNvSpPr/>
            <p:nvPr/>
          </p:nvSpPr>
          <p:spPr>
            <a:xfrm rot="22800">
              <a:off x="7054920" y="165528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22"/>
            <p:cNvSpPr/>
            <p:nvPr/>
          </p:nvSpPr>
          <p:spPr>
            <a:xfrm rot="22800">
              <a:off x="7047000" y="1998360"/>
              <a:ext cx="41580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23"/>
            <p:cNvSpPr/>
            <p:nvPr/>
          </p:nvSpPr>
          <p:spPr>
            <a:xfrm rot="22800">
              <a:off x="7056360" y="264276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24"/>
            <p:cNvSpPr/>
            <p:nvPr/>
          </p:nvSpPr>
          <p:spPr>
            <a:xfrm rot="22800">
              <a:off x="7037280" y="298404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25"/>
            <p:cNvSpPr/>
            <p:nvPr/>
          </p:nvSpPr>
          <p:spPr>
            <a:xfrm rot="22800">
              <a:off x="7040520" y="229824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26"/>
            <p:cNvSpPr/>
            <p:nvPr/>
          </p:nvSpPr>
          <p:spPr>
            <a:xfrm rot="22800">
              <a:off x="7021440" y="324108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27"/>
            <p:cNvSpPr/>
            <p:nvPr/>
          </p:nvSpPr>
          <p:spPr>
            <a:xfrm rot="22800">
              <a:off x="7086600" y="7092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8"/>
          <p:cNvGrpSpPr/>
          <p:nvPr/>
        </p:nvGrpSpPr>
        <p:grpSpPr>
          <a:xfrm>
            <a:off x="6985800" y="3577320"/>
            <a:ext cx="480600" cy="3276720"/>
            <a:chOff x="6985800" y="3577320"/>
            <a:chExt cx="480600" cy="3276720"/>
          </a:xfrm>
        </p:grpSpPr>
        <p:sp>
          <p:nvSpPr>
            <p:cNvPr id="615" name="AutoShape 129"/>
            <p:cNvSpPr/>
            <p:nvPr/>
          </p:nvSpPr>
          <p:spPr>
            <a:xfrm rot="22200">
              <a:off x="7044480" y="389232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30"/>
            <p:cNvSpPr/>
            <p:nvPr/>
          </p:nvSpPr>
          <p:spPr>
            <a:xfrm rot="22200">
              <a:off x="7038720" y="417816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31"/>
            <p:cNvSpPr/>
            <p:nvPr/>
          </p:nvSpPr>
          <p:spPr>
            <a:xfrm rot="22200">
              <a:off x="7031520" y="452088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32"/>
            <p:cNvSpPr/>
            <p:nvPr/>
          </p:nvSpPr>
          <p:spPr>
            <a:xfrm rot="22200">
              <a:off x="7036920" y="480672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133"/>
            <p:cNvSpPr/>
            <p:nvPr/>
          </p:nvSpPr>
          <p:spPr>
            <a:xfrm rot="22200">
              <a:off x="7018560" y="51638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134"/>
            <p:cNvSpPr/>
            <p:nvPr/>
          </p:nvSpPr>
          <p:spPr>
            <a:xfrm rot="22200">
              <a:off x="7011360" y="550620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135"/>
            <p:cNvSpPr/>
            <p:nvPr/>
          </p:nvSpPr>
          <p:spPr>
            <a:xfrm rot="22200">
              <a:off x="7020360" y="6149520"/>
              <a:ext cx="41544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136"/>
            <p:cNvSpPr/>
            <p:nvPr/>
          </p:nvSpPr>
          <p:spPr>
            <a:xfrm rot="22200">
              <a:off x="7002720" y="64922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137"/>
            <p:cNvSpPr/>
            <p:nvPr/>
          </p:nvSpPr>
          <p:spPr>
            <a:xfrm rot="22200">
              <a:off x="7005240" y="58064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138"/>
            <p:cNvSpPr/>
            <p:nvPr/>
          </p:nvSpPr>
          <p:spPr>
            <a:xfrm rot="22200">
              <a:off x="6986160" y="674928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139"/>
            <p:cNvSpPr/>
            <p:nvPr/>
          </p:nvSpPr>
          <p:spPr>
            <a:xfrm rot="22200">
              <a:off x="7050960" y="357840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76"/>
          <p:cNvGrpSpPr/>
          <p:nvPr/>
        </p:nvGrpSpPr>
        <p:grpSpPr>
          <a:xfrm>
            <a:off x="7359840" y="1668960"/>
            <a:ext cx="1584720" cy="806400"/>
            <a:chOff x="7359840" y="1668960"/>
            <a:chExt cx="1584720" cy="806400"/>
          </a:xfrm>
        </p:grpSpPr>
        <p:grpSp>
          <p:nvGrpSpPr>
            <p:cNvPr id="627" name="Group 175"/>
            <p:cNvGrpSpPr/>
            <p:nvPr/>
          </p:nvGrpSpPr>
          <p:grpSpPr>
            <a:xfrm>
              <a:off x="7359840" y="1668960"/>
              <a:ext cx="1584720" cy="806400"/>
              <a:chOff x="7359840" y="1668960"/>
              <a:chExt cx="1584720" cy="806400"/>
            </a:xfrm>
          </p:grpSpPr>
          <p:sp>
            <p:nvSpPr>
              <p:cNvPr id="628" name="Freeform 145"/>
              <p:cNvSpPr/>
              <p:nvPr/>
            </p:nvSpPr>
            <p:spPr>
              <a:xfrm rot="5352600">
                <a:off x="7827120" y="1375560"/>
                <a:ext cx="581040" cy="1413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3360"/>
                  <a:gd name="textAreaBottom" fmla="*/ 1413720 h 141336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47"/>
              <p:cNvSpPr/>
              <p:nvPr/>
            </p:nvSpPr>
            <p:spPr>
              <a:xfrm rot="5352600">
                <a:off x="8001360" y="1586520"/>
                <a:ext cx="276480" cy="9583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48"/>
              <p:cNvSpPr/>
              <p:nvPr/>
            </p:nvSpPr>
            <p:spPr>
              <a:xfrm rot="5352600">
                <a:off x="7920720" y="1464840"/>
                <a:ext cx="412200" cy="123228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1232280"/>
                  <a:gd name="textAreaBottom" fmla="*/ 1232640 h 123228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51"/>
              <p:cNvSpPr/>
              <p:nvPr/>
            </p:nvSpPr>
            <p:spPr>
              <a:xfrm rot="21529200">
                <a:off x="8732520" y="20516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53"/>
              <p:cNvSpPr/>
              <p:nvPr/>
            </p:nvSpPr>
            <p:spPr>
              <a:xfrm rot="4932600">
                <a:off x="8482320" y="2300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154"/>
              <p:cNvSpPr/>
              <p:nvPr/>
            </p:nvSpPr>
            <p:spPr>
              <a:xfrm rot="10464600">
                <a:off x="7368840" y="21211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156"/>
              <p:cNvSpPr/>
              <p:nvPr/>
            </p:nvSpPr>
            <p:spPr>
              <a:xfrm rot="11982600">
                <a:off x="7365240" y="1846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157"/>
              <p:cNvSpPr/>
              <p:nvPr/>
            </p:nvSpPr>
            <p:spPr>
              <a:xfrm rot="8535000">
                <a:off x="7376040" y="2292120"/>
                <a:ext cx="210600" cy="69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158"/>
              <p:cNvSpPr/>
              <p:nvPr/>
            </p:nvSpPr>
            <p:spPr>
              <a:xfrm rot="10464600">
                <a:off x="7367040" y="19836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159"/>
              <p:cNvSpPr/>
              <p:nvPr/>
            </p:nvSpPr>
            <p:spPr>
              <a:xfrm rot="4932600">
                <a:off x="8345520" y="2323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160"/>
              <p:cNvSpPr/>
              <p:nvPr/>
            </p:nvSpPr>
            <p:spPr>
              <a:xfrm rot="4932600">
                <a:off x="8208720" y="23248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161"/>
              <p:cNvSpPr/>
              <p:nvPr/>
            </p:nvSpPr>
            <p:spPr>
              <a:xfrm rot="4932600">
                <a:off x="8071920" y="2326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162"/>
              <p:cNvSpPr/>
              <p:nvPr/>
            </p:nvSpPr>
            <p:spPr>
              <a:xfrm rot="4932600">
                <a:off x="7934760" y="232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163"/>
              <p:cNvSpPr/>
              <p:nvPr/>
            </p:nvSpPr>
            <p:spPr>
              <a:xfrm rot="4932600">
                <a:off x="7797960" y="2330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164"/>
              <p:cNvSpPr/>
              <p:nvPr/>
            </p:nvSpPr>
            <p:spPr>
              <a:xfrm rot="3227400">
                <a:off x="8643600" y="2242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165"/>
              <p:cNvSpPr/>
              <p:nvPr/>
            </p:nvSpPr>
            <p:spPr>
              <a:xfrm rot="16312200">
                <a:off x="8474400" y="17514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166"/>
              <p:cNvSpPr/>
              <p:nvPr/>
            </p:nvSpPr>
            <p:spPr>
              <a:xfrm rot="16312200">
                <a:off x="8337240" y="17406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67"/>
              <p:cNvSpPr/>
              <p:nvPr/>
            </p:nvSpPr>
            <p:spPr>
              <a:xfrm rot="16312200">
                <a:off x="8200440" y="1742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68"/>
              <p:cNvSpPr/>
              <p:nvPr/>
            </p:nvSpPr>
            <p:spPr>
              <a:xfrm rot="16312200">
                <a:off x="8063640" y="17445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69"/>
              <p:cNvSpPr/>
              <p:nvPr/>
            </p:nvSpPr>
            <p:spPr>
              <a:xfrm rot="16312200">
                <a:off x="7926480" y="17463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70"/>
              <p:cNvSpPr/>
              <p:nvPr/>
            </p:nvSpPr>
            <p:spPr>
              <a:xfrm rot="16312200">
                <a:off x="7789680" y="1748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171"/>
              <p:cNvSpPr/>
              <p:nvPr/>
            </p:nvSpPr>
            <p:spPr>
              <a:xfrm rot="16312200">
                <a:off x="7652880" y="17503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172"/>
              <p:cNvSpPr/>
              <p:nvPr/>
            </p:nvSpPr>
            <p:spPr>
              <a:xfrm rot="16312200">
                <a:off x="7515720" y="17521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73"/>
              <p:cNvSpPr/>
              <p:nvPr/>
            </p:nvSpPr>
            <p:spPr>
              <a:xfrm rot="4932600">
                <a:off x="7660800" y="2311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4"/>
              <p:cNvSpPr/>
              <p:nvPr/>
            </p:nvSpPr>
            <p:spPr>
              <a:xfrm rot="4932600">
                <a:off x="7523640" y="23130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AutoShape 152"/>
            <p:cNvSpPr/>
            <p:nvPr/>
          </p:nvSpPr>
          <p:spPr>
            <a:xfrm rot="18496800">
              <a:off x="8632800" y="18550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177"/>
          <p:cNvGrpSpPr/>
          <p:nvPr/>
        </p:nvGrpSpPr>
        <p:grpSpPr>
          <a:xfrm>
            <a:off x="5452920" y="2948040"/>
            <a:ext cx="1597680" cy="946800"/>
            <a:chOff x="5452920" y="2948040"/>
            <a:chExt cx="1597680" cy="946800"/>
          </a:xfrm>
        </p:grpSpPr>
        <p:grpSp>
          <p:nvGrpSpPr>
            <p:cNvPr id="655" name="Group 178"/>
            <p:cNvGrpSpPr/>
            <p:nvPr/>
          </p:nvGrpSpPr>
          <p:grpSpPr>
            <a:xfrm>
              <a:off x="5452920" y="2948040"/>
              <a:ext cx="1597680" cy="946800"/>
              <a:chOff x="5452920" y="2948040"/>
              <a:chExt cx="1597680" cy="946800"/>
            </a:xfrm>
          </p:grpSpPr>
          <p:sp>
            <p:nvSpPr>
              <p:cNvPr id="656" name="Freeform 179"/>
              <p:cNvSpPr/>
              <p:nvPr/>
            </p:nvSpPr>
            <p:spPr>
              <a:xfrm rot="6036600">
                <a:off x="5943960" y="2739600"/>
                <a:ext cx="581040" cy="14137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3720"/>
                  <a:gd name="textAreaBottom" fmla="*/ 1414080 h 14137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80"/>
              <p:cNvSpPr/>
              <p:nvPr/>
            </p:nvSpPr>
            <p:spPr>
              <a:xfrm rot="6036600">
                <a:off x="6121080" y="2954880"/>
                <a:ext cx="276480" cy="95868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1"/>
              <p:cNvSpPr/>
              <p:nvPr/>
            </p:nvSpPr>
            <p:spPr>
              <a:xfrm rot="6036600">
                <a:off x="6037920" y="2830680"/>
                <a:ext cx="412200" cy="123228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1232280"/>
                  <a:gd name="textAreaBottom" fmla="*/ 1232640 h 123228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182"/>
              <p:cNvSpPr/>
              <p:nvPr/>
            </p:nvSpPr>
            <p:spPr>
              <a:xfrm rot="613200">
                <a:off x="6834960" y="35578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83"/>
              <p:cNvSpPr/>
              <p:nvPr/>
            </p:nvSpPr>
            <p:spPr>
              <a:xfrm rot="5616600">
                <a:off x="6540120" y="3751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184"/>
              <p:cNvSpPr/>
              <p:nvPr/>
            </p:nvSpPr>
            <p:spPr>
              <a:xfrm rot="11148600">
                <a:off x="5484240" y="33559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85"/>
              <p:cNvSpPr/>
              <p:nvPr/>
            </p:nvSpPr>
            <p:spPr>
              <a:xfrm rot="12666600">
                <a:off x="5535000" y="3086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186"/>
              <p:cNvSpPr/>
              <p:nvPr/>
            </p:nvSpPr>
            <p:spPr>
              <a:xfrm rot="9219600">
                <a:off x="5457240" y="3525120"/>
                <a:ext cx="210600" cy="69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187"/>
              <p:cNvSpPr/>
              <p:nvPr/>
            </p:nvSpPr>
            <p:spPr>
              <a:xfrm rot="11148600">
                <a:off x="5509440" y="32209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188"/>
              <p:cNvSpPr/>
              <p:nvPr/>
            </p:nvSpPr>
            <p:spPr>
              <a:xfrm rot="5616600">
                <a:off x="6401160" y="3747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189"/>
              <p:cNvSpPr/>
              <p:nvPr/>
            </p:nvSpPr>
            <p:spPr>
              <a:xfrm rot="5616600">
                <a:off x="6266880" y="3722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190"/>
              <p:cNvSpPr/>
              <p:nvPr/>
            </p:nvSpPr>
            <p:spPr>
              <a:xfrm rot="5616600">
                <a:off x="6132240" y="3696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191"/>
              <p:cNvSpPr/>
              <p:nvPr/>
            </p:nvSpPr>
            <p:spPr>
              <a:xfrm rot="5616600">
                <a:off x="5997600" y="3671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192"/>
              <p:cNvSpPr/>
              <p:nvPr/>
            </p:nvSpPr>
            <p:spPr>
              <a:xfrm rot="5616600">
                <a:off x="5862960" y="3646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93"/>
              <p:cNvSpPr/>
              <p:nvPr/>
            </p:nvSpPr>
            <p:spPr>
              <a:xfrm rot="3911400">
                <a:off x="6709320" y="3727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194"/>
              <p:cNvSpPr/>
              <p:nvPr/>
            </p:nvSpPr>
            <p:spPr>
              <a:xfrm rot="16995600">
                <a:off x="6640920" y="3212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95"/>
              <p:cNvSpPr/>
              <p:nvPr/>
            </p:nvSpPr>
            <p:spPr>
              <a:xfrm rot="16995600">
                <a:off x="6508440" y="3174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196"/>
              <p:cNvSpPr/>
              <p:nvPr/>
            </p:nvSpPr>
            <p:spPr>
              <a:xfrm rot="16995600">
                <a:off x="6373800" y="3149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197"/>
              <p:cNvSpPr/>
              <p:nvPr/>
            </p:nvSpPr>
            <p:spPr>
              <a:xfrm rot="16995600">
                <a:off x="6239520" y="3124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198"/>
              <p:cNvSpPr/>
              <p:nvPr/>
            </p:nvSpPr>
            <p:spPr>
              <a:xfrm rot="16995600">
                <a:off x="6104880" y="3099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199"/>
              <p:cNvSpPr/>
              <p:nvPr/>
            </p:nvSpPr>
            <p:spPr>
              <a:xfrm rot="16995600">
                <a:off x="5970240" y="3074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200"/>
              <p:cNvSpPr/>
              <p:nvPr/>
            </p:nvSpPr>
            <p:spPr>
              <a:xfrm rot="16995600">
                <a:off x="5835600" y="304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201"/>
              <p:cNvSpPr/>
              <p:nvPr/>
            </p:nvSpPr>
            <p:spPr>
              <a:xfrm rot="16995600">
                <a:off x="5700960" y="3023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202"/>
              <p:cNvSpPr/>
              <p:nvPr/>
            </p:nvSpPr>
            <p:spPr>
              <a:xfrm rot="5616600">
                <a:off x="5732640" y="36003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03"/>
              <p:cNvSpPr/>
              <p:nvPr/>
            </p:nvSpPr>
            <p:spPr>
              <a:xfrm rot="5616600">
                <a:off x="5597640" y="3575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AutoShape 204"/>
            <p:cNvSpPr/>
            <p:nvPr/>
          </p:nvSpPr>
          <p:spPr>
            <a:xfrm rot="19181400">
              <a:off x="6775560" y="334584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35"/>
          <p:cNvGrpSpPr/>
          <p:nvPr/>
        </p:nvGrpSpPr>
        <p:grpSpPr>
          <a:xfrm>
            <a:off x="4231800" y="4843440"/>
            <a:ext cx="1597320" cy="976680"/>
            <a:chOff x="4231800" y="4843440"/>
            <a:chExt cx="1597320" cy="976680"/>
          </a:xfrm>
        </p:grpSpPr>
        <p:grpSp>
          <p:nvGrpSpPr>
            <p:cNvPr id="683" name="Group 236"/>
            <p:cNvGrpSpPr/>
            <p:nvPr/>
          </p:nvGrpSpPr>
          <p:grpSpPr>
            <a:xfrm>
              <a:off x="4231800" y="4843440"/>
              <a:ext cx="1597320" cy="976680"/>
              <a:chOff x="4231800" y="4843440"/>
              <a:chExt cx="1597320" cy="976680"/>
            </a:xfrm>
          </p:grpSpPr>
          <p:sp>
            <p:nvSpPr>
              <p:cNvPr id="684" name="Freeform 237"/>
              <p:cNvSpPr/>
              <p:nvPr/>
            </p:nvSpPr>
            <p:spPr>
              <a:xfrm rot="6152400">
                <a:off x="4727520" y="464940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38"/>
              <p:cNvSpPr/>
              <p:nvPr/>
            </p:nvSpPr>
            <p:spPr>
              <a:xfrm rot="6152400">
                <a:off x="4822560" y="4741200"/>
                <a:ext cx="412560" cy="123192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39"/>
              <p:cNvSpPr/>
              <p:nvPr/>
            </p:nvSpPr>
            <p:spPr>
              <a:xfrm rot="6152400">
                <a:off x="4903920" y="4866120"/>
                <a:ext cx="277920" cy="95868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240"/>
              <p:cNvSpPr/>
              <p:nvPr/>
            </p:nvSpPr>
            <p:spPr>
              <a:xfrm rot="729600">
                <a:off x="5612760" y="54925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241"/>
              <p:cNvSpPr/>
              <p:nvPr/>
            </p:nvSpPr>
            <p:spPr>
              <a:xfrm rot="5732400">
                <a:off x="5311440" y="567576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242"/>
              <p:cNvSpPr/>
              <p:nvPr/>
            </p:nvSpPr>
            <p:spPr>
              <a:xfrm rot="11265000">
                <a:off x="4268520" y="5242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243"/>
              <p:cNvSpPr/>
              <p:nvPr/>
            </p:nvSpPr>
            <p:spPr>
              <a:xfrm rot="12782400">
                <a:off x="4329000" y="4976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44"/>
              <p:cNvSpPr/>
              <p:nvPr/>
            </p:nvSpPr>
            <p:spPr>
              <a:xfrm rot="9334800">
                <a:off x="4236840" y="5411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45"/>
              <p:cNvSpPr/>
              <p:nvPr/>
            </p:nvSpPr>
            <p:spPr>
              <a:xfrm rot="11265000">
                <a:off x="4298760" y="51094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246"/>
              <p:cNvSpPr/>
              <p:nvPr/>
            </p:nvSpPr>
            <p:spPr>
              <a:xfrm rot="5732400">
                <a:off x="5173920" y="5666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247"/>
              <p:cNvSpPr/>
              <p:nvPr/>
            </p:nvSpPr>
            <p:spPr>
              <a:xfrm rot="5732400">
                <a:off x="5041080" y="56372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48"/>
              <p:cNvSpPr/>
              <p:nvPr/>
            </p:nvSpPr>
            <p:spPr>
              <a:xfrm rot="5732400">
                <a:off x="4906080" y="5606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249"/>
              <p:cNvSpPr/>
              <p:nvPr/>
            </p:nvSpPr>
            <p:spPr>
              <a:xfrm rot="5732400">
                <a:off x="4772520" y="5578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50"/>
              <p:cNvSpPr/>
              <p:nvPr/>
            </p:nvSpPr>
            <p:spPr>
              <a:xfrm rot="5732400">
                <a:off x="4639680" y="55486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251"/>
              <p:cNvSpPr/>
              <p:nvPr/>
            </p:nvSpPr>
            <p:spPr>
              <a:xfrm rot="4027800">
                <a:off x="5483880" y="5655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252"/>
              <p:cNvSpPr/>
              <p:nvPr/>
            </p:nvSpPr>
            <p:spPr>
              <a:xfrm rot="17111400">
                <a:off x="5431320" y="5140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253"/>
              <p:cNvSpPr/>
              <p:nvPr/>
            </p:nvSpPr>
            <p:spPr>
              <a:xfrm rot="17111400">
                <a:off x="5301000" y="50979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254"/>
              <p:cNvSpPr/>
              <p:nvPr/>
            </p:nvSpPr>
            <p:spPr>
              <a:xfrm rot="17111400">
                <a:off x="5167800" y="5068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255"/>
              <p:cNvSpPr/>
              <p:nvPr/>
            </p:nvSpPr>
            <p:spPr>
              <a:xfrm rot="17111400">
                <a:off x="5033160" y="50378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256"/>
              <p:cNvSpPr/>
              <p:nvPr/>
            </p:nvSpPr>
            <p:spPr>
              <a:xfrm rot="17111400">
                <a:off x="4899600" y="50094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257"/>
              <p:cNvSpPr/>
              <p:nvPr/>
            </p:nvSpPr>
            <p:spPr>
              <a:xfrm rot="17111400">
                <a:off x="4766400" y="49795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258"/>
              <p:cNvSpPr/>
              <p:nvPr/>
            </p:nvSpPr>
            <p:spPr>
              <a:xfrm rot="17111400">
                <a:off x="4631400" y="4949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259"/>
              <p:cNvSpPr/>
              <p:nvPr/>
            </p:nvSpPr>
            <p:spPr>
              <a:xfrm rot="17111400">
                <a:off x="4498560" y="49194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260"/>
              <p:cNvSpPr/>
              <p:nvPr/>
            </p:nvSpPr>
            <p:spPr>
              <a:xfrm rot="5732400">
                <a:off x="4509000" y="549720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261"/>
              <p:cNvSpPr/>
              <p:nvPr/>
            </p:nvSpPr>
            <p:spPr>
              <a:xfrm rot="5732400">
                <a:off x="4375800" y="546732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AutoShape 262"/>
            <p:cNvSpPr/>
            <p:nvPr/>
          </p:nvSpPr>
          <p:spPr>
            <a:xfrm rot="19297800">
              <a:off x="5561640" y="52776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Freeform 47"/>
          <p:cNvSpPr/>
          <p:nvPr/>
        </p:nvSpPr>
        <p:spPr>
          <a:xfrm>
            <a:off x="2138400" y="4273560"/>
            <a:ext cx="1805040" cy="170820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708200"/>
              <a:gd name="textAreaBottom" fmla="*/ 1708560 h 1708200"/>
            </a:gdLst>
            <a:ahLst/>
            <a:rect l="textAreaLeft" t="textAreaTop" r="textAreaRight" b="textAreaBottom"/>
            <a:pathLst>
              <a:path w="1137" h="1076">
                <a:moveTo>
                  <a:pt x="522" y="0"/>
                </a:moveTo>
                <a:cubicBezTo>
                  <a:pt x="615" y="0"/>
                  <a:pt x="699" y="57"/>
                  <a:pt x="785" y="106"/>
                </a:cubicBezTo>
                <a:cubicBezTo>
                  <a:pt x="871" y="155"/>
                  <a:pt x="983" y="215"/>
                  <a:pt x="1038" y="296"/>
                </a:cubicBezTo>
                <a:cubicBezTo>
                  <a:pt x="1093" y="377"/>
                  <a:pt x="1137" y="476"/>
                  <a:pt x="1113" y="590"/>
                </a:cubicBezTo>
                <a:cubicBezTo>
                  <a:pt x="1089" y="704"/>
                  <a:pt x="995" y="899"/>
                  <a:pt x="897" y="980"/>
                </a:cubicBezTo>
                <a:cubicBezTo>
                  <a:pt x="799" y="1061"/>
                  <a:pt x="646" y="1074"/>
                  <a:pt x="527" y="1075"/>
                </a:cubicBezTo>
                <a:cubicBezTo>
                  <a:pt x="408" y="1076"/>
                  <a:pt x="269" y="1053"/>
                  <a:pt x="183" y="987"/>
                </a:cubicBezTo>
                <a:cubicBezTo>
                  <a:pt x="97" y="921"/>
                  <a:pt x="22" y="740"/>
                  <a:pt x="11" y="678"/>
                </a:cubicBezTo>
                <a:cubicBezTo>
                  <a:pt x="0" y="616"/>
                  <a:pt x="94" y="637"/>
                  <a:pt x="117" y="616"/>
                </a:cubicBezTo>
                <a:cubicBezTo>
                  <a:pt x="140" y="595"/>
                  <a:pt x="139" y="586"/>
                  <a:pt x="148" y="554"/>
                </a:cubicBezTo>
                <a:cubicBezTo>
                  <a:pt x="157" y="522"/>
                  <a:pt x="188" y="459"/>
                  <a:pt x="172" y="421"/>
                </a:cubicBezTo>
                <a:cubicBezTo>
                  <a:pt x="156" y="383"/>
                  <a:pt x="45" y="378"/>
                  <a:pt x="54" y="326"/>
                </a:cubicBezTo>
                <a:cubicBezTo>
                  <a:pt x="63" y="274"/>
                  <a:pt x="148" y="160"/>
                  <a:pt x="226" y="106"/>
                </a:cubicBezTo>
                <a:cubicBezTo>
                  <a:pt x="304" y="52"/>
                  <a:pt x="429" y="0"/>
                  <a:pt x="52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269"/>
          <p:cNvGrpSpPr/>
          <p:nvPr/>
        </p:nvGrpSpPr>
        <p:grpSpPr>
          <a:xfrm>
            <a:off x="2283840" y="4690440"/>
            <a:ext cx="1564560" cy="976680"/>
            <a:chOff x="2283840" y="4690440"/>
            <a:chExt cx="1564560" cy="976680"/>
          </a:xfrm>
        </p:grpSpPr>
        <p:sp>
          <p:nvSpPr>
            <p:cNvPr id="712" name="Freeform 207"/>
            <p:cNvSpPr/>
            <p:nvPr/>
          </p:nvSpPr>
          <p:spPr>
            <a:xfrm rot="6153000">
              <a:off x="2746800" y="4496040"/>
              <a:ext cx="581040" cy="1414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14800"/>
                <a:gd name="textAreaBottom" fmla="*/ 1415160 h 1414800"/>
              </a:gdLst>
              <a:ahLst/>
              <a:rect l="textAreaLeft" t="textAreaTop" r="textAreaRight" b="textAreaBottom"/>
              <a:pathLst>
                <a:path w="348" h="847">
                  <a:moveTo>
                    <a:pt x="24" y="800"/>
                  </a:moveTo>
                  <a:cubicBezTo>
                    <a:pt x="0" y="692"/>
                    <a:pt x="8" y="352"/>
                    <a:pt x="24" y="224"/>
                  </a:cubicBezTo>
                  <a:cubicBezTo>
                    <a:pt x="40" y="96"/>
                    <a:pt x="80" y="64"/>
                    <a:pt x="120" y="32"/>
                  </a:cubicBezTo>
                  <a:cubicBezTo>
                    <a:pt x="160" y="0"/>
                    <a:pt x="232" y="0"/>
                    <a:pt x="264" y="32"/>
                  </a:cubicBezTo>
                  <a:cubicBezTo>
                    <a:pt x="296" y="64"/>
                    <a:pt x="301" y="104"/>
                    <a:pt x="312" y="224"/>
                  </a:cubicBezTo>
                  <a:cubicBezTo>
                    <a:pt x="323" y="344"/>
                    <a:pt x="329" y="653"/>
                    <a:pt x="330" y="750"/>
                  </a:cubicBezTo>
                  <a:cubicBezTo>
                    <a:pt x="331" y="847"/>
                    <a:pt x="348" y="798"/>
                    <a:pt x="321" y="807"/>
                  </a:cubicBezTo>
                  <a:cubicBezTo>
                    <a:pt x="294" y="816"/>
                    <a:pt x="218" y="803"/>
                    <a:pt x="169" y="802"/>
                  </a:cubicBezTo>
                  <a:cubicBezTo>
                    <a:pt x="120" y="801"/>
                    <a:pt x="54" y="800"/>
                    <a:pt x="24" y="800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09"/>
            <p:cNvSpPr/>
            <p:nvPr/>
          </p:nvSpPr>
          <p:spPr>
            <a:xfrm rot="6153000">
              <a:off x="2841840" y="4587480"/>
              <a:ext cx="412560" cy="12319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31920"/>
                <a:gd name="textAreaBottom" fmla="*/ 1231920 h 1231920"/>
              </a:gdLst>
              <a:ahLst/>
              <a:rect l="textAreaLeft" t="textAreaTop" r="textAreaRight" b="textAreaBottom"/>
              <a:pathLst>
                <a:path w="348" h="847">
                  <a:moveTo>
                    <a:pt x="24" y="800"/>
                  </a:moveTo>
                  <a:cubicBezTo>
                    <a:pt x="0" y="692"/>
                    <a:pt x="8" y="352"/>
                    <a:pt x="24" y="224"/>
                  </a:cubicBezTo>
                  <a:cubicBezTo>
                    <a:pt x="40" y="96"/>
                    <a:pt x="80" y="64"/>
                    <a:pt x="120" y="32"/>
                  </a:cubicBezTo>
                  <a:cubicBezTo>
                    <a:pt x="160" y="0"/>
                    <a:pt x="232" y="0"/>
                    <a:pt x="264" y="32"/>
                  </a:cubicBezTo>
                  <a:cubicBezTo>
                    <a:pt x="296" y="64"/>
                    <a:pt x="301" y="104"/>
                    <a:pt x="312" y="224"/>
                  </a:cubicBezTo>
                  <a:cubicBezTo>
                    <a:pt x="323" y="344"/>
                    <a:pt x="329" y="653"/>
                    <a:pt x="330" y="750"/>
                  </a:cubicBezTo>
                  <a:cubicBezTo>
                    <a:pt x="331" y="847"/>
                    <a:pt x="348" y="798"/>
                    <a:pt x="321" y="807"/>
                  </a:cubicBezTo>
                  <a:cubicBezTo>
                    <a:pt x="294" y="816"/>
                    <a:pt x="218" y="803"/>
                    <a:pt x="169" y="802"/>
                  </a:cubicBezTo>
                  <a:cubicBezTo>
                    <a:pt x="120" y="801"/>
                    <a:pt x="54" y="800"/>
                    <a:pt x="24" y="8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08"/>
            <p:cNvSpPr/>
            <p:nvPr/>
          </p:nvSpPr>
          <p:spPr>
            <a:xfrm rot="6153000">
              <a:off x="2921400" y="4712400"/>
              <a:ext cx="277920" cy="9590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42" h="711">
                  <a:moveTo>
                    <a:pt x="165" y="0"/>
                  </a:moveTo>
                  <a:cubicBezTo>
                    <a:pt x="148" y="5"/>
                    <a:pt x="58" y="22"/>
                    <a:pt x="66" y="30"/>
                  </a:cubicBezTo>
                  <a:cubicBezTo>
                    <a:pt x="74" y="38"/>
                    <a:pt x="215" y="38"/>
                    <a:pt x="213" y="48"/>
                  </a:cubicBezTo>
                  <a:cubicBezTo>
                    <a:pt x="211" y="58"/>
                    <a:pt x="52" y="78"/>
                    <a:pt x="54" y="90"/>
                  </a:cubicBezTo>
                  <a:cubicBezTo>
                    <a:pt x="56" y="102"/>
                    <a:pt x="228" y="110"/>
                    <a:pt x="222" y="120"/>
                  </a:cubicBezTo>
                  <a:cubicBezTo>
                    <a:pt x="216" y="130"/>
                    <a:pt x="12" y="139"/>
                    <a:pt x="15" y="150"/>
                  </a:cubicBezTo>
                  <a:cubicBezTo>
                    <a:pt x="18" y="161"/>
                    <a:pt x="242" y="175"/>
                    <a:pt x="240" y="187"/>
                  </a:cubicBezTo>
                  <a:cubicBezTo>
                    <a:pt x="238" y="199"/>
                    <a:pt x="0" y="209"/>
                    <a:pt x="0" y="220"/>
                  </a:cubicBezTo>
                  <a:cubicBezTo>
                    <a:pt x="0" y="231"/>
                    <a:pt x="240" y="242"/>
                    <a:pt x="240" y="253"/>
                  </a:cubicBezTo>
                  <a:cubicBezTo>
                    <a:pt x="240" y="264"/>
                    <a:pt x="0" y="275"/>
                    <a:pt x="0" y="286"/>
                  </a:cubicBezTo>
                  <a:cubicBezTo>
                    <a:pt x="0" y="296"/>
                    <a:pt x="240" y="307"/>
                    <a:pt x="240" y="318"/>
                  </a:cubicBezTo>
                  <a:cubicBezTo>
                    <a:pt x="240" y="329"/>
                    <a:pt x="0" y="340"/>
                    <a:pt x="0" y="351"/>
                  </a:cubicBezTo>
                  <a:cubicBezTo>
                    <a:pt x="0" y="362"/>
                    <a:pt x="240" y="373"/>
                    <a:pt x="240" y="384"/>
                  </a:cubicBezTo>
                  <a:cubicBezTo>
                    <a:pt x="240" y="395"/>
                    <a:pt x="0" y="406"/>
                    <a:pt x="0" y="416"/>
                  </a:cubicBezTo>
                  <a:cubicBezTo>
                    <a:pt x="0" y="427"/>
                    <a:pt x="240" y="438"/>
                    <a:pt x="240" y="449"/>
                  </a:cubicBezTo>
                  <a:cubicBezTo>
                    <a:pt x="240" y="460"/>
                    <a:pt x="0" y="471"/>
                    <a:pt x="0" y="482"/>
                  </a:cubicBezTo>
                  <a:cubicBezTo>
                    <a:pt x="0" y="493"/>
                    <a:pt x="240" y="504"/>
                    <a:pt x="240" y="515"/>
                  </a:cubicBezTo>
                  <a:cubicBezTo>
                    <a:pt x="240" y="526"/>
                    <a:pt x="0" y="536"/>
                    <a:pt x="0" y="547"/>
                  </a:cubicBezTo>
                  <a:cubicBezTo>
                    <a:pt x="0" y="558"/>
                    <a:pt x="240" y="569"/>
                    <a:pt x="240" y="580"/>
                  </a:cubicBezTo>
                  <a:cubicBezTo>
                    <a:pt x="240" y="591"/>
                    <a:pt x="0" y="602"/>
                    <a:pt x="0" y="613"/>
                  </a:cubicBezTo>
                  <a:cubicBezTo>
                    <a:pt x="0" y="624"/>
                    <a:pt x="240" y="635"/>
                    <a:pt x="240" y="646"/>
                  </a:cubicBezTo>
                  <a:cubicBezTo>
                    <a:pt x="240" y="656"/>
                    <a:pt x="0" y="667"/>
                    <a:pt x="0" y="678"/>
                  </a:cubicBezTo>
                  <a:cubicBezTo>
                    <a:pt x="0" y="689"/>
                    <a:pt x="120" y="700"/>
                    <a:pt x="240" y="7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10"/>
            <p:cNvSpPr/>
            <p:nvPr/>
          </p:nvSpPr>
          <p:spPr>
            <a:xfrm rot="729600">
              <a:off x="3631680" y="53398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11"/>
            <p:cNvSpPr/>
            <p:nvPr/>
          </p:nvSpPr>
          <p:spPr>
            <a:xfrm rot="5733000">
              <a:off x="3330360" y="552276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16"/>
            <p:cNvSpPr/>
            <p:nvPr/>
          </p:nvSpPr>
          <p:spPr>
            <a:xfrm rot="5733000">
              <a:off x="3193200" y="55141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17"/>
            <p:cNvSpPr/>
            <p:nvPr/>
          </p:nvSpPr>
          <p:spPr>
            <a:xfrm rot="5733000">
              <a:off x="3059640" y="54838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18"/>
            <p:cNvSpPr/>
            <p:nvPr/>
          </p:nvSpPr>
          <p:spPr>
            <a:xfrm rot="5733000">
              <a:off x="2924640" y="545364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19"/>
            <p:cNvSpPr/>
            <p:nvPr/>
          </p:nvSpPr>
          <p:spPr>
            <a:xfrm rot="5733000">
              <a:off x="2791800" y="54252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20"/>
            <p:cNvSpPr/>
            <p:nvPr/>
          </p:nvSpPr>
          <p:spPr>
            <a:xfrm rot="5733000">
              <a:off x="2657880" y="5394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221"/>
            <p:cNvSpPr/>
            <p:nvPr/>
          </p:nvSpPr>
          <p:spPr>
            <a:xfrm rot="4028400">
              <a:off x="3502800" y="5502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222"/>
            <p:cNvSpPr/>
            <p:nvPr/>
          </p:nvSpPr>
          <p:spPr>
            <a:xfrm rot="17112000">
              <a:off x="3450600" y="49867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223"/>
            <p:cNvSpPr/>
            <p:nvPr/>
          </p:nvSpPr>
          <p:spPr>
            <a:xfrm rot="17112000">
              <a:off x="3318840" y="494388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224"/>
            <p:cNvSpPr/>
            <p:nvPr/>
          </p:nvSpPr>
          <p:spPr>
            <a:xfrm rot="17112000">
              <a:off x="3187080" y="49150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225"/>
            <p:cNvSpPr/>
            <p:nvPr/>
          </p:nvSpPr>
          <p:spPr>
            <a:xfrm rot="17112000">
              <a:off x="3052080" y="48852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226"/>
            <p:cNvSpPr/>
            <p:nvPr/>
          </p:nvSpPr>
          <p:spPr>
            <a:xfrm rot="17112000">
              <a:off x="2918880" y="485640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227"/>
            <p:cNvSpPr/>
            <p:nvPr/>
          </p:nvSpPr>
          <p:spPr>
            <a:xfrm rot="17112000">
              <a:off x="2785320" y="48265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228"/>
            <p:cNvSpPr/>
            <p:nvPr/>
          </p:nvSpPr>
          <p:spPr>
            <a:xfrm rot="17112000">
              <a:off x="2650320" y="479628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229"/>
            <p:cNvSpPr/>
            <p:nvPr/>
          </p:nvSpPr>
          <p:spPr>
            <a:xfrm rot="17112000">
              <a:off x="2517120" y="476604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230"/>
            <p:cNvSpPr/>
            <p:nvPr/>
          </p:nvSpPr>
          <p:spPr>
            <a:xfrm rot="5733000">
              <a:off x="2527200" y="534348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231"/>
            <p:cNvSpPr/>
            <p:nvPr/>
          </p:nvSpPr>
          <p:spPr>
            <a:xfrm rot="5733000">
              <a:off x="2393640" y="531324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AutoShape 232"/>
          <p:cNvSpPr/>
          <p:nvPr/>
        </p:nvSpPr>
        <p:spPr>
          <a:xfrm rot="19298400">
            <a:off x="3579480" y="5124600"/>
            <a:ext cx="210960" cy="69840"/>
          </a:xfrm>
          <a:custGeom>
            <a:avLst/>
            <a:gdLst>
              <a:gd name="textAreaLeft" fmla="*/ 0 w 210960"/>
              <a:gd name="textAreaRight" fmla="*/ 211320 w 21096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265"/>
          <p:cNvSpPr/>
          <p:nvPr/>
        </p:nvSpPr>
        <p:spPr>
          <a:xfrm rot="422400">
            <a:off x="2376000" y="4971600"/>
            <a:ext cx="61920" cy="262080"/>
          </a:xfrm>
          <a:custGeom>
            <a:avLst/>
            <a:gdLst>
              <a:gd name="textAreaLeft" fmla="*/ 0 w 61920"/>
              <a:gd name="textAreaRight" fmla="*/ 62280 w 61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9" h="165">
                <a:moveTo>
                  <a:pt x="39" y="0"/>
                </a:moveTo>
                <a:cubicBezTo>
                  <a:pt x="32" y="42"/>
                  <a:pt x="22" y="82"/>
                  <a:pt x="12" y="123"/>
                </a:cubicBezTo>
                <a:cubicBezTo>
                  <a:pt x="9" y="136"/>
                  <a:pt x="0" y="151"/>
                  <a:pt x="0" y="165"/>
                </a:cubicBezTo>
              </a:path>
            </a:pathLst>
          </a:custGeom>
          <a:noFill/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266"/>
          <p:cNvSpPr/>
          <p:nvPr/>
        </p:nvSpPr>
        <p:spPr>
          <a:xfrm rot="422400">
            <a:off x="2480760" y="4952520"/>
            <a:ext cx="61920" cy="262080"/>
          </a:xfrm>
          <a:custGeom>
            <a:avLst/>
            <a:gdLst>
              <a:gd name="textAreaLeft" fmla="*/ 0 w 61920"/>
              <a:gd name="textAreaRight" fmla="*/ 62280 w 61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9" h="165">
                <a:moveTo>
                  <a:pt x="39" y="0"/>
                </a:moveTo>
                <a:cubicBezTo>
                  <a:pt x="32" y="42"/>
                  <a:pt x="22" y="82"/>
                  <a:pt x="12" y="123"/>
                </a:cubicBezTo>
                <a:cubicBezTo>
                  <a:pt x="9" y="136"/>
                  <a:pt x="0" y="151"/>
                  <a:pt x="0" y="165"/>
                </a:cubicBezTo>
              </a:path>
            </a:pathLst>
          </a:custGeom>
          <a:noFill/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67"/>
          <p:cNvSpPr/>
          <p:nvPr/>
        </p:nvSpPr>
        <p:spPr>
          <a:xfrm flipH="1" flipV="1">
            <a:off x="1752480" y="49528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68"/>
          <p:cNvSpPr/>
          <p:nvPr/>
        </p:nvSpPr>
        <p:spPr>
          <a:xfrm rot="6153000">
            <a:off x="721080" y="2554920"/>
            <a:ext cx="277920" cy="959040"/>
          </a:xfrm>
          <a:custGeom>
            <a:avLst/>
            <a:gdLst>
              <a:gd name="textAreaLeft" fmla="*/ 0 w 277920"/>
              <a:gd name="textAreaRight" fmla="*/ 278280 w 27792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42" h="711">
                <a:moveTo>
                  <a:pt x="165" y="0"/>
                </a:moveTo>
                <a:cubicBezTo>
                  <a:pt x="148" y="5"/>
                  <a:pt x="58" y="22"/>
                  <a:pt x="66" y="30"/>
                </a:cubicBezTo>
                <a:cubicBezTo>
                  <a:pt x="74" y="38"/>
                  <a:pt x="215" y="38"/>
                  <a:pt x="213" y="48"/>
                </a:cubicBezTo>
                <a:cubicBezTo>
                  <a:pt x="211" y="58"/>
                  <a:pt x="52" y="78"/>
                  <a:pt x="54" y="90"/>
                </a:cubicBezTo>
                <a:cubicBezTo>
                  <a:pt x="56" y="102"/>
                  <a:pt x="228" y="110"/>
                  <a:pt x="222" y="120"/>
                </a:cubicBezTo>
                <a:cubicBezTo>
                  <a:pt x="216" y="130"/>
                  <a:pt x="12" y="139"/>
                  <a:pt x="15" y="150"/>
                </a:cubicBezTo>
                <a:cubicBezTo>
                  <a:pt x="18" y="161"/>
                  <a:pt x="242" y="175"/>
                  <a:pt x="240" y="187"/>
                </a:cubicBezTo>
                <a:cubicBezTo>
                  <a:pt x="238" y="199"/>
                  <a:pt x="0" y="209"/>
                  <a:pt x="0" y="220"/>
                </a:cubicBezTo>
                <a:cubicBezTo>
                  <a:pt x="0" y="231"/>
                  <a:pt x="240" y="242"/>
                  <a:pt x="240" y="253"/>
                </a:cubicBezTo>
                <a:cubicBezTo>
                  <a:pt x="240" y="264"/>
                  <a:pt x="0" y="275"/>
                  <a:pt x="0" y="286"/>
                </a:cubicBezTo>
                <a:cubicBezTo>
                  <a:pt x="0" y="296"/>
                  <a:pt x="240" y="307"/>
                  <a:pt x="240" y="318"/>
                </a:cubicBezTo>
                <a:cubicBezTo>
                  <a:pt x="240" y="329"/>
                  <a:pt x="0" y="340"/>
                  <a:pt x="0" y="351"/>
                </a:cubicBezTo>
                <a:cubicBezTo>
                  <a:pt x="0" y="362"/>
                  <a:pt x="240" y="373"/>
                  <a:pt x="240" y="384"/>
                </a:cubicBezTo>
                <a:cubicBezTo>
                  <a:pt x="240" y="395"/>
                  <a:pt x="0" y="406"/>
                  <a:pt x="0" y="416"/>
                </a:cubicBezTo>
                <a:cubicBezTo>
                  <a:pt x="0" y="427"/>
                  <a:pt x="240" y="438"/>
                  <a:pt x="240" y="449"/>
                </a:cubicBezTo>
                <a:cubicBezTo>
                  <a:pt x="240" y="460"/>
                  <a:pt x="0" y="471"/>
                  <a:pt x="0" y="482"/>
                </a:cubicBezTo>
                <a:cubicBezTo>
                  <a:pt x="0" y="493"/>
                  <a:pt x="240" y="504"/>
                  <a:pt x="240" y="515"/>
                </a:cubicBezTo>
                <a:cubicBezTo>
                  <a:pt x="240" y="526"/>
                  <a:pt x="0" y="536"/>
                  <a:pt x="0" y="547"/>
                </a:cubicBezTo>
                <a:cubicBezTo>
                  <a:pt x="0" y="558"/>
                  <a:pt x="240" y="569"/>
                  <a:pt x="240" y="580"/>
                </a:cubicBezTo>
                <a:cubicBezTo>
                  <a:pt x="240" y="591"/>
                  <a:pt x="0" y="602"/>
                  <a:pt x="0" y="613"/>
                </a:cubicBezTo>
                <a:cubicBezTo>
                  <a:pt x="0" y="624"/>
                  <a:pt x="240" y="635"/>
                  <a:pt x="240" y="646"/>
                </a:cubicBezTo>
                <a:cubicBezTo>
                  <a:pt x="240" y="656"/>
                  <a:pt x="0" y="667"/>
                  <a:pt x="0" y="678"/>
                </a:cubicBezTo>
                <a:cubicBezTo>
                  <a:pt x="0" y="689"/>
                  <a:pt x="120" y="700"/>
                  <a:pt x="240" y="7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24"/>
          <p:cNvGrpSpPr/>
          <p:nvPr/>
        </p:nvGrpSpPr>
        <p:grpSpPr>
          <a:xfrm>
            <a:off x="1295280" y="2438280"/>
            <a:ext cx="1805040" cy="1708200"/>
            <a:chOff x="1295280" y="2438280"/>
            <a:chExt cx="1805040" cy="1708200"/>
          </a:xfrm>
        </p:grpSpPr>
        <p:sp>
          <p:nvSpPr>
            <p:cNvPr id="739" name="Freeform 297"/>
            <p:cNvSpPr/>
            <p:nvPr/>
          </p:nvSpPr>
          <p:spPr>
            <a:xfrm>
              <a:off x="1295280" y="2438280"/>
              <a:ext cx="1805040" cy="170820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1137" h="1076">
                  <a:moveTo>
                    <a:pt x="522" y="0"/>
                  </a:moveTo>
                  <a:cubicBezTo>
                    <a:pt x="615" y="0"/>
                    <a:pt x="699" y="57"/>
                    <a:pt x="785" y="106"/>
                  </a:cubicBezTo>
                  <a:cubicBezTo>
                    <a:pt x="871" y="155"/>
                    <a:pt x="983" y="215"/>
                    <a:pt x="1038" y="296"/>
                  </a:cubicBezTo>
                  <a:cubicBezTo>
                    <a:pt x="1093" y="377"/>
                    <a:pt x="1137" y="476"/>
                    <a:pt x="1113" y="590"/>
                  </a:cubicBezTo>
                  <a:cubicBezTo>
                    <a:pt x="1089" y="704"/>
                    <a:pt x="995" y="899"/>
                    <a:pt x="897" y="980"/>
                  </a:cubicBezTo>
                  <a:cubicBezTo>
                    <a:pt x="799" y="1061"/>
                    <a:pt x="646" y="1074"/>
                    <a:pt x="527" y="1075"/>
                  </a:cubicBezTo>
                  <a:cubicBezTo>
                    <a:pt x="408" y="1076"/>
                    <a:pt x="269" y="1053"/>
                    <a:pt x="183" y="987"/>
                  </a:cubicBezTo>
                  <a:cubicBezTo>
                    <a:pt x="97" y="921"/>
                    <a:pt x="22" y="740"/>
                    <a:pt x="11" y="678"/>
                  </a:cubicBezTo>
                  <a:cubicBezTo>
                    <a:pt x="0" y="616"/>
                    <a:pt x="94" y="637"/>
                    <a:pt x="117" y="616"/>
                  </a:cubicBezTo>
                  <a:cubicBezTo>
                    <a:pt x="140" y="595"/>
                    <a:pt x="139" y="586"/>
                    <a:pt x="148" y="554"/>
                  </a:cubicBezTo>
                  <a:cubicBezTo>
                    <a:pt x="157" y="522"/>
                    <a:pt x="188" y="459"/>
                    <a:pt x="172" y="421"/>
                  </a:cubicBezTo>
                  <a:cubicBezTo>
                    <a:pt x="156" y="383"/>
                    <a:pt x="45" y="378"/>
                    <a:pt x="54" y="326"/>
                  </a:cubicBezTo>
                  <a:cubicBezTo>
                    <a:pt x="63" y="274"/>
                    <a:pt x="148" y="160"/>
                    <a:pt x="226" y="106"/>
                  </a:cubicBezTo>
                  <a:cubicBezTo>
                    <a:pt x="304" y="52"/>
                    <a:pt x="429" y="0"/>
                    <a:pt x="522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3"/>
            <p:cNvGrpSpPr/>
            <p:nvPr/>
          </p:nvGrpSpPr>
          <p:grpSpPr>
            <a:xfrm>
              <a:off x="1440720" y="2854800"/>
              <a:ext cx="1564560" cy="977040"/>
              <a:chOff x="1440720" y="2854800"/>
              <a:chExt cx="1564560" cy="977040"/>
            </a:xfrm>
          </p:grpSpPr>
          <p:sp>
            <p:nvSpPr>
              <p:cNvPr id="741" name="Freeform 299"/>
              <p:cNvSpPr/>
              <p:nvPr/>
            </p:nvSpPr>
            <p:spPr>
              <a:xfrm rot="6153000">
                <a:off x="1903680" y="266112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00"/>
              <p:cNvSpPr/>
              <p:nvPr/>
            </p:nvSpPr>
            <p:spPr>
              <a:xfrm rot="6153000">
                <a:off x="1998360" y="2752560"/>
                <a:ext cx="412920" cy="12319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302"/>
              <p:cNvSpPr/>
              <p:nvPr/>
            </p:nvSpPr>
            <p:spPr>
              <a:xfrm rot="729600">
                <a:off x="2788920" y="35049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303"/>
              <p:cNvSpPr/>
              <p:nvPr/>
            </p:nvSpPr>
            <p:spPr>
              <a:xfrm rot="5733000">
                <a:off x="2486880" y="3687480"/>
                <a:ext cx="212760" cy="702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304"/>
              <p:cNvSpPr/>
              <p:nvPr/>
            </p:nvSpPr>
            <p:spPr>
              <a:xfrm rot="5733000">
                <a:off x="2350080" y="367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305"/>
              <p:cNvSpPr/>
              <p:nvPr/>
            </p:nvSpPr>
            <p:spPr>
              <a:xfrm rot="5733000">
                <a:off x="2216880" y="36489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306"/>
              <p:cNvSpPr/>
              <p:nvPr/>
            </p:nvSpPr>
            <p:spPr>
              <a:xfrm rot="5733000">
                <a:off x="2082240" y="36187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307"/>
              <p:cNvSpPr/>
              <p:nvPr/>
            </p:nvSpPr>
            <p:spPr>
              <a:xfrm rot="5733000">
                <a:off x="1948320" y="358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308"/>
              <p:cNvSpPr/>
              <p:nvPr/>
            </p:nvSpPr>
            <p:spPr>
              <a:xfrm rot="5733000">
                <a:off x="1815480" y="3560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309"/>
              <p:cNvSpPr/>
              <p:nvPr/>
            </p:nvSpPr>
            <p:spPr>
              <a:xfrm rot="4028400">
                <a:off x="2660040" y="3667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310"/>
              <p:cNvSpPr/>
              <p:nvPr/>
            </p:nvSpPr>
            <p:spPr>
              <a:xfrm rot="17112000">
                <a:off x="2607480" y="3151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311"/>
              <p:cNvSpPr/>
              <p:nvPr/>
            </p:nvSpPr>
            <p:spPr>
              <a:xfrm rot="17112000">
                <a:off x="2475720" y="31086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312"/>
              <p:cNvSpPr/>
              <p:nvPr/>
            </p:nvSpPr>
            <p:spPr>
              <a:xfrm rot="17112000">
                <a:off x="2343960" y="30801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313"/>
              <p:cNvSpPr/>
              <p:nvPr/>
            </p:nvSpPr>
            <p:spPr>
              <a:xfrm rot="17112000">
                <a:off x="2208960" y="304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314"/>
              <p:cNvSpPr/>
              <p:nvPr/>
            </p:nvSpPr>
            <p:spPr>
              <a:xfrm rot="17112000">
                <a:off x="2075760" y="30214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315"/>
              <p:cNvSpPr/>
              <p:nvPr/>
            </p:nvSpPr>
            <p:spPr>
              <a:xfrm rot="17112000">
                <a:off x="1942560" y="29912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316"/>
              <p:cNvSpPr/>
              <p:nvPr/>
            </p:nvSpPr>
            <p:spPr>
              <a:xfrm rot="17112000">
                <a:off x="1807560" y="29610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317"/>
              <p:cNvSpPr/>
              <p:nvPr/>
            </p:nvSpPr>
            <p:spPr>
              <a:xfrm rot="17112000">
                <a:off x="1674000" y="2930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318"/>
              <p:cNvSpPr/>
              <p:nvPr/>
            </p:nvSpPr>
            <p:spPr>
              <a:xfrm rot="5733000">
                <a:off x="1684080" y="350820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319"/>
              <p:cNvSpPr/>
              <p:nvPr/>
            </p:nvSpPr>
            <p:spPr>
              <a:xfrm rot="5733000">
                <a:off x="1550880" y="347796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AutoShape 320"/>
            <p:cNvSpPr/>
            <p:nvPr/>
          </p:nvSpPr>
          <p:spPr>
            <a:xfrm rot="19298400">
              <a:off x="2736360" y="3288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21"/>
            <p:cNvSpPr/>
            <p:nvPr/>
          </p:nvSpPr>
          <p:spPr>
            <a:xfrm rot="422400">
              <a:off x="1533240" y="3136680"/>
              <a:ext cx="61920" cy="261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9" h="165">
                  <a:moveTo>
                    <a:pt x="39" y="0"/>
                  </a:moveTo>
                  <a:cubicBezTo>
                    <a:pt x="32" y="42"/>
                    <a:pt x="22" y="82"/>
                    <a:pt x="12" y="123"/>
                  </a:cubicBezTo>
                  <a:cubicBezTo>
                    <a:pt x="9" y="136"/>
                    <a:pt x="0" y="151"/>
                    <a:pt x="0" y="165"/>
                  </a:cubicBez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22"/>
            <p:cNvSpPr/>
            <p:nvPr/>
          </p:nvSpPr>
          <p:spPr>
            <a:xfrm rot="422400">
              <a:off x="1638000" y="3117600"/>
              <a:ext cx="61920" cy="261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9" h="165">
                  <a:moveTo>
                    <a:pt x="39" y="0"/>
                  </a:moveTo>
                  <a:cubicBezTo>
                    <a:pt x="32" y="42"/>
                    <a:pt x="22" y="82"/>
                    <a:pt x="12" y="123"/>
                  </a:cubicBezTo>
                  <a:cubicBezTo>
                    <a:pt x="9" y="136"/>
                    <a:pt x="0" y="151"/>
                    <a:pt x="0" y="165"/>
                  </a:cubicBezTo>
                </a:path>
              </a:pathLst>
            </a:custGeom>
            <a:noFill/>
            <a:ln w="127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61B1-D00D-412D-83B1-6431A9B61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&amp;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ytoplasmic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nomic RNA remains in nucleocapsi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80B6-6D89-4B41-93A0-5FA38584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"/>
          <p:cNvSpPr/>
          <p:nvPr/>
        </p:nvSpPr>
        <p:spPr>
          <a:xfrm>
            <a:off x="2057400" y="1523880"/>
            <a:ext cx="4343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30600" y="129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6326640" y="129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3231360" y="106668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(-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7"/>
          <p:cNvSpPr/>
          <p:nvPr/>
        </p:nvSpPr>
        <p:spPr>
          <a:xfrm flipH="1">
            <a:off x="2590920" y="182880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41"/>
          <p:cNvGrpSpPr/>
          <p:nvPr/>
        </p:nvGrpSpPr>
        <p:grpSpPr>
          <a:xfrm>
            <a:off x="4083480" y="4343400"/>
            <a:ext cx="4845600" cy="1404000"/>
            <a:chOff x="4083480" y="4343400"/>
            <a:chExt cx="4845600" cy="1404000"/>
          </a:xfrm>
        </p:grpSpPr>
        <p:grpSp>
          <p:nvGrpSpPr>
            <p:cNvPr id="774" name="Group 140"/>
            <p:cNvGrpSpPr/>
            <p:nvPr/>
          </p:nvGrpSpPr>
          <p:grpSpPr>
            <a:xfrm>
              <a:off x="4083480" y="5168880"/>
              <a:ext cx="4845600" cy="578520"/>
              <a:chOff x="4083480" y="5168880"/>
              <a:chExt cx="4845600" cy="578520"/>
            </a:xfrm>
          </p:grpSpPr>
          <p:sp>
            <p:nvSpPr>
              <p:cNvPr id="775" name="Line 18"/>
              <p:cNvSpPr/>
              <p:nvPr/>
            </p:nvSpPr>
            <p:spPr>
              <a:xfrm>
                <a:off x="4309920" y="5638680"/>
                <a:ext cx="434340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19"/>
              <p:cNvSpPr/>
              <p:nvPr/>
            </p:nvSpPr>
            <p:spPr>
              <a:xfrm>
                <a:off x="4083480" y="541008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3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20"/>
              <p:cNvSpPr/>
              <p:nvPr/>
            </p:nvSpPr>
            <p:spPr>
              <a:xfrm>
                <a:off x="8579160" y="541008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5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21"/>
              <p:cNvSpPr/>
              <p:nvPr/>
            </p:nvSpPr>
            <p:spPr>
              <a:xfrm>
                <a:off x="6012360" y="516888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(-ve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22"/>
            <p:cNvSpPr/>
            <p:nvPr/>
          </p:nvSpPr>
          <p:spPr>
            <a:xfrm>
              <a:off x="6477120" y="43434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139"/>
          <p:cNvGrpSpPr/>
          <p:nvPr/>
        </p:nvGrpSpPr>
        <p:grpSpPr>
          <a:xfrm>
            <a:off x="4083480" y="1828800"/>
            <a:ext cx="5032080" cy="2318400"/>
            <a:chOff x="4083480" y="1828800"/>
            <a:chExt cx="5032080" cy="2318400"/>
          </a:xfrm>
        </p:grpSpPr>
        <p:sp>
          <p:nvSpPr>
            <p:cNvPr id="781" name="Line 8"/>
            <p:cNvSpPr/>
            <p:nvPr/>
          </p:nvSpPr>
          <p:spPr>
            <a:xfrm>
              <a:off x="4876920" y="1828800"/>
              <a:ext cx="12189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9"/>
            <p:cNvSpPr/>
            <p:nvPr/>
          </p:nvSpPr>
          <p:spPr>
            <a:xfrm>
              <a:off x="5626800" y="301140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length co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>
              <a:off x="4309920" y="4038480"/>
              <a:ext cx="43434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4083480" y="3809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5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8579160" y="3809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3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6024960" y="3581280"/>
              <a:ext cx="91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c0066"/>
                  </a:solidFill>
                  <a:latin typeface="Arial"/>
                </a:rPr>
                <a:t>(+v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3"/>
            <p:cNvSpPr/>
            <p:nvPr/>
          </p:nvSpPr>
          <p:spPr>
            <a:xfrm>
              <a:off x="5562720" y="1965240"/>
              <a:ext cx="35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plication (prote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nthesis is a pre-requisi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Text Box 24"/>
          <p:cNvSpPr/>
          <p:nvPr/>
        </p:nvSpPr>
        <p:spPr>
          <a:xfrm>
            <a:off x="1218600" y="21049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5"/>
          <p:cNvSpPr/>
          <p:nvPr/>
        </p:nvSpPr>
        <p:spPr>
          <a:xfrm>
            <a:off x="205200" y="30114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s (+ve s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6"/>
          <p:cNvSpPr/>
          <p:nvPr/>
        </p:nvSpPr>
        <p:spPr>
          <a:xfrm>
            <a:off x="533520" y="4495680"/>
            <a:ext cx="8380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7"/>
          <p:cNvSpPr/>
          <p:nvPr/>
        </p:nvSpPr>
        <p:spPr>
          <a:xfrm>
            <a:off x="1676520" y="3886200"/>
            <a:ext cx="9144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8"/>
          <p:cNvSpPr/>
          <p:nvPr/>
        </p:nvSpPr>
        <p:spPr>
          <a:xfrm>
            <a:off x="533520" y="3886200"/>
            <a:ext cx="5331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9"/>
          <p:cNvSpPr/>
          <p:nvPr/>
        </p:nvSpPr>
        <p:spPr>
          <a:xfrm>
            <a:off x="1897200" y="4495680"/>
            <a:ext cx="12952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2"/>
          <p:cNvSpPr/>
          <p:nvPr/>
        </p:nvSpPr>
        <p:spPr>
          <a:xfrm>
            <a:off x="2516400" y="3720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3"/>
          <p:cNvSpPr/>
          <p:nvPr/>
        </p:nvSpPr>
        <p:spPr>
          <a:xfrm>
            <a:off x="311796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5"/>
          <p:cNvSpPr/>
          <p:nvPr/>
        </p:nvSpPr>
        <p:spPr>
          <a:xfrm>
            <a:off x="990720" y="3733920"/>
            <a:ext cx="5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6"/>
          <p:cNvSpPr/>
          <p:nvPr/>
        </p:nvSpPr>
        <p:spPr>
          <a:xfrm>
            <a:off x="1295280" y="4343400"/>
            <a:ext cx="5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7"/>
          <p:cNvSpPr/>
          <p:nvPr/>
        </p:nvSpPr>
        <p:spPr>
          <a:xfrm>
            <a:off x="525600" y="5029200"/>
            <a:ext cx="2590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8"/>
          <p:cNvSpPr/>
          <p:nvPr/>
        </p:nvSpPr>
        <p:spPr>
          <a:xfrm>
            <a:off x="3042000" y="487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40"/>
          <p:cNvSpPr/>
          <p:nvPr/>
        </p:nvSpPr>
        <p:spPr>
          <a:xfrm>
            <a:off x="380880" y="435600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380880" y="3772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42"/>
          <p:cNvSpPr/>
          <p:nvPr/>
        </p:nvSpPr>
        <p:spPr>
          <a:xfrm>
            <a:off x="372960" y="4915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43"/>
          <p:cNvSpPr/>
          <p:nvPr/>
        </p:nvSpPr>
        <p:spPr>
          <a:xfrm>
            <a:off x="1744560" y="439416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4"/>
          <p:cNvSpPr/>
          <p:nvPr/>
        </p:nvSpPr>
        <p:spPr>
          <a:xfrm>
            <a:off x="1523880" y="3772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45"/>
          <p:cNvSpPr/>
          <p:nvPr/>
        </p:nvSpPr>
        <p:spPr>
          <a:xfrm>
            <a:off x="685800" y="579132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6"/>
          <p:cNvSpPr/>
          <p:nvPr/>
        </p:nvSpPr>
        <p:spPr>
          <a:xfrm>
            <a:off x="892080" y="571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=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0"/>
          <p:cNvGrpSpPr/>
          <p:nvPr/>
        </p:nvGrpSpPr>
        <p:grpSpPr>
          <a:xfrm>
            <a:off x="2057400" y="1371600"/>
            <a:ext cx="4267080" cy="304920"/>
            <a:chOff x="2057400" y="1371600"/>
            <a:chExt cx="4267080" cy="304920"/>
          </a:xfrm>
        </p:grpSpPr>
        <p:sp>
          <p:nvSpPr>
            <p:cNvPr id="809" name="Oval 51"/>
            <p:cNvSpPr/>
            <p:nvPr/>
          </p:nvSpPr>
          <p:spPr>
            <a:xfrm>
              <a:off x="28191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52"/>
            <p:cNvSpPr/>
            <p:nvPr/>
          </p:nvSpPr>
          <p:spPr>
            <a:xfrm>
              <a:off x="29718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53"/>
            <p:cNvSpPr/>
            <p:nvPr/>
          </p:nvSpPr>
          <p:spPr>
            <a:xfrm>
              <a:off x="31240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54"/>
            <p:cNvSpPr/>
            <p:nvPr/>
          </p:nvSpPr>
          <p:spPr>
            <a:xfrm>
              <a:off x="32763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55"/>
            <p:cNvSpPr/>
            <p:nvPr/>
          </p:nvSpPr>
          <p:spPr>
            <a:xfrm>
              <a:off x="34290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56"/>
            <p:cNvSpPr/>
            <p:nvPr/>
          </p:nvSpPr>
          <p:spPr>
            <a:xfrm>
              <a:off x="35812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57"/>
            <p:cNvSpPr/>
            <p:nvPr/>
          </p:nvSpPr>
          <p:spPr>
            <a:xfrm>
              <a:off x="37335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58"/>
            <p:cNvSpPr/>
            <p:nvPr/>
          </p:nvSpPr>
          <p:spPr>
            <a:xfrm>
              <a:off x="38862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59"/>
            <p:cNvSpPr/>
            <p:nvPr/>
          </p:nvSpPr>
          <p:spPr>
            <a:xfrm>
              <a:off x="40384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60"/>
            <p:cNvSpPr/>
            <p:nvPr/>
          </p:nvSpPr>
          <p:spPr>
            <a:xfrm>
              <a:off x="41907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61"/>
            <p:cNvSpPr/>
            <p:nvPr/>
          </p:nvSpPr>
          <p:spPr>
            <a:xfrm>
              <a:off x="43434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62"/>
            <p:cNvSpPr/>
            <p:nvPr/>
          </p:nvSpPr>
          <p:spPr>
            <a:xfrm>
              <a:off x="44956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63"/>
            <p:cNvSpPr/>
            <p:nvPr/>
          </p:nvSpPr>
          <p:spPr>
            <a:xfrm>
              <a:off x="48006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64"/>
            <p:cNvSpPr/>
            <p:nvPr/>
          </p:nvSpPr>
          <p:spPr>
            <a:xfrm>
              <a:off x="49528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65"/>
            <p:cNvSpPr/>
            <p:nvPr/>
          </p:nvSpPr>
          <p:spPr>
            <a:xfrm>
              <a:off x="51051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66"/>
            <p:cNvSpPr/>
            <p:nvPr/>
          </p:nvSpPr>
          <p:spPr>
            <a:xfrm>
              <a:off x="52578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68"/>
            <p:cNvSpPr/>
            <p:nvPr/>
          </p:nvSpPr>
          <p:spPr>
            <a:xfrm>
              <a:off x="55623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69"/>
            <p:cNvSpPr/>
            <p:nvPr/>
          </p:nvSpPr>
          <p:spPr>
            <a:xfrm>
              <a:off x="58672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0"/>
            <p:cNvSpPr/>
            <p:nvPr/>
          </p:nvSpPr>
          <p:spPr>
            <a:xfrm>
              <a:off x="46479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1"/>
            <p:cNvSpPr/>
            <p:nvPr/>
          </p:nvSpPr>
          <p:spPr>
            <a:xfrm>
              <a:off x="57150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72"/>
            <p:cNvSpPr/>
            <p:nvPr/>
          </p:nvSpPr>
          <p:spPr>
            <a:xfrm>
              <a:off x="60195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73"/>
            <p:cNvSpPr/>
            <p:nvPr/>
          </p:nvSpPr>
          <p:spPr>
            <a:xfrm>
              <a:off x="61722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74"/>
            <p:cNvSpPr/>
            <p:nvPr/>
          </p:nvSpPr>
          <p:spPr>
            <a:xfrm>
              <a:off x="20574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75"/>
            <p:cNvSpPr/>
            <p:nvPr/>
          </p:nvSpPr>
          <p:spPr>
            <a:xfrm>
              <a:off x="22096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76"/>
            <p:cNvSpPr/>
            <p:nvPr/>
          </p:nvSpPr>
          <p:spPr>
            <a:xfrm>
              <a:off x="23619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77"/>
            <p:cNvSpPr/>
            <p:nvPr/>
          </p:nvSpPr>
          <p:spPr>
            <a:xfrm>
              <a:off x="25146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78"/>
            <p:cNvSpPr/>
            <p:nvPr/>
          </p:nvSpPr>
          <p:spPr>
            <a:xfrm>
              <a:off x="26668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79"/>
            <p:cNvSpPr/>
            <p:nvPr/>
          </p:nvSpPr>
          <p:spPr>
            <a:xfrm>
              <a:off x="54100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81"/>
          <p:cNvGrpSpPr/>
          <p:nvPr/>
        </p:nvGrpSpPr>
        <p:grpSpPr>
          <a:xfrm>
            <a:off x="4343400" y="5486400"/>
            <a:ext cx="4267080" cy="304920"/>
            <a:chOff x="4343400" y="5486400"/>
            <a:chExt cx="4267080" cy="304920"/>
          </a:xfrm>
        </p:grpSpPr>
        <p:sp>
          <p:nvSpPr>
            <p:cNvPr id="838" name="Oval 82"/>
            <p:cNvSpPr/>
            <p:nvPr/>
          </p:nvSpPr>
          <p:spPr>
            <a:xfrm>
              <a:off x="51051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83"/>
            <p:cNvSpPr/>
            <p:nvPr/>
          </p:nvSpPr>
          <p:spPr>
            <a:xfrm>
              <a:off x="52578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84"/>
            <p:cNvSpPr/>
            <p:nvPr/>
          </p:nvSpPr>
          <p:spPr>
            <a:xfrm>
              <a:off x="54100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5"/>
            <p:cNvSpPr/>
            <p:nvPr/>
          </p:nvSpPr>
          <p:spPr>
            <a:xfrm>
              <a:off x="55623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6"/>
            <p:cNvSpPr/>
            <p:nvPr/>
          </p:nvSpPr>
          <p:spPr>
            <a:xfrm>
              <a:off x="57150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7"/>
            <p:cNvSpPr/>
            <p:nvPr/>
          </p:nvSpPr>
          <p:spPr>
            <a:xfrm>
              <a:off x="58672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88"/>
            <p:cNvSpPr/>
            <p:nvPr/>
          </p:nvSpPr>
          <p:spPr>
            <a:xfrm>
              <a:off x="60195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9"/>
            <p:cNvSpPr/>
            <p:nvPr/>
          </p:nvSpPr>
          <p:spPr>
            <a:xfrm>
              <a:off x="61722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0"/>
            <p:cNvSpPr/>
            <p:nvPr/>
          </p:nvSpPr>
          <p:spPr>
            <a:xfrm>
              <a:off x="63244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91"/>
            <p:cNvSpPr/>
            <p:nvPr/>
          </p:nvSpPr>
          <p:spPr>
            <a:xfrm>
              <a:off x="64767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92"/>
            <p:cNvSpPr/>
            <p:nvPr/>
          </p:nvSpPr>
          <p:spPr>
            <a:xfrm>
              <a:off x="66294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93"/>
            <p:cNvSpPr/>
            <p:nvPr/>
          </p:nvSpPr>
          <p:spPr>
            <a:xfrm>
              <a:off x="67816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94"/>
            <p:cNvSpPr/>
            <p:nvPr/>
          </p:nvSpPr>
          <p:spPr>
            <a:xfrm>
              <a:off x="70866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95"/>
            <p:cNvSpPr/>
            <p:nvPr/>
          </p:nvSpPr>
          <p:spPr>
            <a:xfrm>
              <a:off x="72388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96"/>
            <p:cNvSpPr/>
            <p:nvPr/>
          </p:nvSpPr>
          <p:spPr>
            <a:xfrm>
              <a:off x="73911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97"/>
            <p:cNvSpPr/>
            <p:nvPr/>
          </p:nvSpPr>
          <p:spPr>
            <a:xfrm>
              <a:off x="75438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98"/>
            <p:cNvSpPr/>
            <p:nvPr/>
          </p:nvSpPr>
          <p:spPr>
            <a:xfrm>
              <a:off x="78483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99"/>
            <p:cNvSpPr/>
            <p:nvPr/>
          </p:nvSpPr>
          <p:spPr>
            <a:xfrm>
              <a:off x="81532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00"/>
            <p:cNvSpPr/>
            <p:nvPr/>
          </p:nvSpPr>
          <p:spPr>
            <a:xfrm>
              <a:off x="69339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01"/>
            <p:cNvSpPr/>
            <p:nvPr/>
          </p:nvSpPr>
          <p:spPr>
            <a:xfrm>
              <a:off x="80010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02"/>
            <p:cNvSpPr/>
            <p:nvPr/>
          </p:nvSpPr>
          <p:spPr>
            <a:xfrm>
              <a:off x="83055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03"/>
            <p:cNvSpPr/>
            <p:nvPr/>
          </p:nvSpPr>
          <p:spPr>
            <a:xfrm>
              <a:off x="84582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04"/>
            <p:cNvSpPr/>
            <p:nvPr/>
          </p:nvSpPr>
          <p:spPr>
            <a:xfrm>
              <a:off x="43434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05"/>
            <p:cNvSpPr/>
            <p:nvPr/>
          </p:nvSpPr>
          <p:spPr>
            <a:xfrm>
              <a:off x="44956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06"/>
            <p:cNvSpPr/>
            <p:nvPr/>
          </p:nvSpPr>
          <p:spPr>
            <a:xfrm>
              <a:off x="46479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07"/>
            <p:cNvSpPr/>
            <p:nvPr/>
          </p:nvSpPr>
          <p:spPr>
            <a:xfrm>
              <a:off x="48006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08"/>
            <p:cNvSpPr/>
            <p:nvPr/>
          </p:nvSpPr>
          <p:spPr>
            <a:xfrm>
              <a:off x="49528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09"/>
            <p:cNvSpPr/>
            <p:nvPr/>
          </p:nvSpPr>
          <p:spPr>
            <a:xfrm>
              <a:off x="76960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110"/>
          <p:cNvGrpSpPr/>
          <p:nvPr/>
        </p:nvGrpSpPr>
        <p:grpSpPr>
          <a:xfrm>
            <a:off x="4267080" y="3886200"/>
            <a:ext cx="4267080" cy="304920"/>
            <a:chOff x="4267080" y="3886200"/>
            <a:chExt cx="4267080" cy="304920"/>
          </a:xfrm>
        </p:grpSpPr>
        <p:sp>
          <p:nvSpPr>
            <p:cNvPr id="867" name="Oval 111"/>
            <p:cNvSpPr/>
            <p:nvPr/>
          </p:nvSpPr>
          <p:spPr>
            <a:xfrm>
              <a:off x="50288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2"/>
            <p:cNvSpPr/>
            <p:nvPr/>
          </p:nvSpPr>
          <p:spPr>
            <a:xfrm>
              <a:off x="51814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13"/>
            <p:cNvSpPr/>
            <p:nvPr/>
          </p:nvSpPr>
          <p:spPr>
            <a:xfrm>
              <a:off x="53337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14"/>
            <p:cNvSpPr/>
            <p:nvPr/>
          </p:nvSpPr>
          <p:spPr>
            <a:xfrm>
              <a:off x="54860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15"/>
            <p:cNvSpPr/>
            <p:nvPr/>
          </p:nvSpPr>
          <p:spPr>
            <a:xfrm>
              <a:off x="56386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16"/>
            <p:cNvSpPr/>
            <p:nvPr/>
          </p:nvSpPr>
          <p:spPr>
            <a:xfrm>
              <a:off x="57909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17"/>
            <p:cNvSpPr/>
            <p:nvPr/>
          </p:nvSpPr>
          <p:spPr>
            <a:xfrm>
              <a:off x="59432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8"/>
            <p:cNvSpPr/>
            <p:nvPr/>
          </p:nvSpPr>
          <p:spPr>
            <a:xfrm>
              <a:off x="60958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19"/>
            <p:cNvSpPr/>
            <p:nvPr/>
          </p:nvSpPr>
          <p:spPr>
            <a:xfrm>
              <a:off x="62481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20"/>
            <p:cNvSpPr/>
            <p:nvPr/>
          </p:nvSpPr>
          <p:spPr>
            <a:xfrm>
              <a:off x="64004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1"/>
            <p:cNvSpPr/>
            <p:nvPr/>
          </p:nvSpPr>
          <p:spPr>
            <a:xfrm>
              <a:off x="65530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22"/>
            <p:cNvSpPr/>
            <p:nvPr/>
          </p:nvSpPr>
          <p:spPr>
            <a:xfrm>
              <a:off x="67053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23"/>
            <p:cNvSpPr/>
            <p:nvPr/>
          </p:nvSpPr>
          <p:spPr>
            <a:xfrm>
              <a:off x="70102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24"/>
            <p:cNvSpPr/>
            <p:nvPr/>
          </p:nvSpPr>
          <p:spPr>
            <a:xfrm>
              <a:off x="71625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25"/>
            <p:cNvSpPr/>
            <p:nvPr/>
          </p:nvSpPr>
          <p:spPr>
            <a:xfrm>
              <a:off x="73148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6"/>
            <p:cNvSpPr/>
            <p:nvPr/>
          </p:nvSpPr>
          <p:spPr>
            <a:xfrm>
              <a:off x="74674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7"/>
            <p:cNvSpPr/>
            <p:nvPr/>
          </p:nvSpPr>
          <p:spPr>
            <a:xfrm>
              <a:off x="77720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28"/>
            <p:cNvSpPr/>
            <p:nvPr/>
          </p:nvSpPr>
          <p:spPr>
            <a:xfrm>
              <a:off x="80769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9"/>
            <p:cNvSpPr/>
            <p:nvPr/>
          </p:nvSpPr>
          <p:spPr>
            <a:xfrm>
              <a:off x="68576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0"/>
            <p:cNvSpPr/>
            <p:nvPr/>
          </p:nvSpPr>
          <p:spPr>
            <a:xfrm>
              <a:off x="79246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31"/>
            <p:cNvSpPr/>
            <p:nvPr/>
          </p:nvSpPr>
          <p:spPr>
            <a:xfrm>
              <a:off x="82292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2"/>
            <p:cNvSpPr/>
            <p:nvPr/>
          </p:nvSpPr>
          <p:spPr>
            <a:xfrm>
              <a:off x="83818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3"/>
            <p:cNvSpPr/>
            <p:nvPr/>
          </p:nvSpPr>
          <p:spPr>
            <a:xfrm>
              <a:off x="42670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34"/>
            <p:cNvSpPr/>
            <p:nvPr/>
          </p:nvSpPr>
          <p:spPr>
            <a:xfrm>
              <a:off x="44193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5"/>
            <p:cNvSpPr/>
            <p:nvPr/>
          </p:nvSpPr>
          <p:spPr>
            <a:xfrm>
              <a:off x="45716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6"/>
            <p:cNvSpPr/>
            <p:nvPr/>
          </p:nvSpPr>
          <p:spPr>
            <a:xfrm>
              <a:off x="47242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37"/>
            <p:cNvSpPr/>
            <p:nvPr/>
          </p:nvSpPr>
          <p:spPr>
            <a:xfrm>
              <a:off x="48765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38"/>
            <p:cNvSpPr/>
            <p:nvPr/>
          </p:nvSpPr>
          <p:spPr>
            <a:xfrm>
              <a:off x="76197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EA3-5350-4433-9478-7CF0C9B3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Narrow"/>
              </a:rPr>
              <a:t>NEW MINUS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ck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late for mor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late for more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379"/>
          <p:cNvGrpSpPr/>
          <p:nvPr/>
        </p:nvGrpSpPr>
        <p:grpSpPr>
          <a:xfrm>
            <a:off x="4419720" y="2060640"/>
            <a:ext cx="4501080" cy="2893320"/>
            <a:chOff x="4419720" y="2060640"/>
            <a:chExt cx="4501080" cy="2893320"/>
          </a:xfrm>
        </p:grpSpPr>
        <p:sp>
          <p:nvSpPr>
            <p:cNvPr id="899" name="Line 259"/>
            <p:cNvSpPr/>
            <p:nvPr/>
          </p:nvSpPr>
          <p:spPr>
            <a:xfrm>
              <a:off x="5173560" y="2371680"/>
              <a:ext cx="237960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60"/>
            <p:cNvSpPr/>
            <p:nvPr/>
          </p:nvSpPr>
          <p:spPr>
            <a:xfrm>
              <a:off x="5047560" y="22114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3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61"/>
            <p:cNvSpPr/>
            <p:nvPr/>
          </p:nvSpPr>
          <p:spPr>
            <a:xfrm>
              <a:off x="7509600" y="22114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5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262"/>
            <p:cNvSpPr/>
            <p:nvPr/>
          </p:nvSpPr>
          <p:spPr>
            <a:xfrm>
              <a:off x="5819040" y="206064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genome (-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63"/>
            <p:cNvSpPr/>
            <p:nvPr/>
          </p:nvSpPr>
          <p:spPr>
            <a:xfrm flipH="1">
              <a:off x="5689080" y="2682720"/>
              <a:ext cx="335160" cy="49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Group 264"/>
            <p:cNvGrpSpPr/>
            <p:nvPr/>
          </p:nvGrpSpPr>
          <p:grpSpPr>
            <a:xfrm>
              <a:off x="6105960" y="3740040"/>
              <a:ext cx="2811960" cy="1213920"/>
              <a:chOff x="6105960" y="3740040"/>
              <a:chExt cx="2811960" cy="1213920"/>
            </a:xfrm>
          </p:grpSpPr>
          <p:grpSp>
            <p:nvGrpSpPr>
              <p:cNvPr id="905" name="Group 265"/>
              <p:cNvGrpSpPr/>
              <p:nvPr/>
            </p:nvGrpSpPr>
            <p:grpSpPr>
              <a:xfrm>
                <a:off x="6105960" y="4412160"/>
                <a:ext cx="2811960" cy="541800"/>
                <a:chOff x="6105960" y="4412160"/>
                <a:chExt cx="2811960" cy="541800"/>
              </a:xfrm>
            </p:grpSpPr>
            <p:sp>
              <p:nvSpPr>
                <p:cNvPr id="906" name="Line 266"/>
                <p:cNvSpPr/>
                <p:nvPr/>
              </p:nvSpPr>
              <p:spPr>
                <a:xfrm>
                  <a:off x="6230880" y="4798440"/>
                  <a:ext cx="237996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67"/>
                <p:cNvSpPr/>
                <p:nvPr/>
              </p:nvSpPr>
              <p:spPr>
                <a:xfrm>
                  <a:off x="6105960" y="4606200"/>
                  <a:ext cx="349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Arial"/>
                    </a:rPr>
                    <a:t>3’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68"/>
                <p:cNvSpPr/>
                <p:nvPr/>
              </p:nvSpPr>
              <p:spPr>
                <a:xfrm>
                  <a:off x="8568000" y="4616640"/>
                  <a:ext cx="349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Arial"/>
                    </a:rPr>
                    <a:t>5’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69"/>
                <p:cNvSpPr/>
                <p:nvPr/>
              </p:nvSpPr>
              <p:spPr>
                <a:xfrm>
                  <a:off x="7169040" y="4412160"/>
                  <a:ext cx="68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cc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3333cc"/>
                      </a:solidFill>
                      <a:latin typeface="Arial"/>
                    </a:rPr>
                    <a:t>(-ve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0" name="Line 270"/>
              <p:cNvSpPr/>
              <p:nvPr/>
            </p:nvSpPr>
            <p:spPr>
              <a:xfrm>
                <a:off x="7418880" y="3740040"/>
                <a:ext cx="0" cy="62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271"/>
            <p:cNvGrpSpPr/>
            <p:nvPr/>
          </p:nvGrpSpPr>
          <p:grpSpPr>
            <a:xfrm>
              <a:off x="6105960" y="2682720"/>
              <a:ext cx="2814840" cy="952560"/>
              <a:chOff x="6105960" y="2682720"/>
              <a:chExt cx="2814840" cy="952560"/>
            </a:xfrm>
          </p:grpSpPr>
          <p:sp>
            <p:nvSpPr>
              <p:cNvPr id="912" name="Line 272"/>
              <p:cNvSpPr/>
              <p:nvPr/>
            </p:nvSpPr>
            <p:spPr>
              <a:xfrm>
                <a:off x="6608880" y="2682720"/>
                <a:ext cx="375120" cy="55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273"/>
              <p:cNvSpPr/>
              <p:nvPr/>
            </p:nvSpPr>
            <p:spPr>
              <a:xfrm>
                <a:off x="6188040" y="3489120"/>
                <a:ext cx="238032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274"/>
              <p:cNvSpPr/>
              <p:nvPr/>
            </p:nvSpPr>
            <p:spPr>
              <a:xfrm>
                <a:off x="6105960" y="32979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66"/>
                    </a:solidFill>
                    <a:latin typeface="Arial"/>
                  </a:rPr>
                  <a:t>5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275"/>
              <p:cNvSpPr/>
              <p:nvPr/>
            </p:nvSpPr>
            <p:spPr>
              <a:xfrm>
                <a:off x="8570880" y="32979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66"/>
                    </a:solidFill>
                    <a:latin typeface="Arial"/>
                  </a:rPr>
                  <a:t>3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Text Box 276"/>
              <p:cNvSpPr/>
              <p:nvPr/>
            </p:nvSpPr>
            <p:spPr>
              <a:xfrm>
                <a:off x="7169040" y="312084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66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cc0066"/>
                    </a:solidFill>
                    <a:latin typeface="Arial"/>
                  </a:rPr>
                  <a:t>(+ve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Line 277"/>
            <p:cNvSpPr/>
            <p:nvPr/>
          </p:nvSpPr>
          <p:spPr>
            <a:xfrm>
              <a:off x="4506840" y="4111560"/>
              <a:ext cx="33336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78"/>
            <p:cNvSpPr/>
            <p:nvPr/>
          </p:nvSpPr>
          <p:spPr>
            <a:xfrm>
              <a:off x="5213520" y="3616200"/>
              <a:ext cx="53784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279"/>
            <p:cNvSpPr/>
            <p:nvPr/>
          </p:nvSpPr>
          <p:spPr>
            <a:xfrm>
              <a:off x="4503600" y="3616200"/>
              <a:ext cx="29700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80"/>
            <p:cNvSpPr/>
            <p:nvPr/>
          </p:nvSpPr>
          <p:spPr>
            <a:xfrm>
              <a:off x="5342040" y="4111560"/>
              <a:ext cx="70956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81"/>
            <p:cNvSpPr/>
            <p:nvPr/>
          </p:nvSpPr>
          <p:spPr>
            <a:xfrm>
              <a:off x="5709960" y="354636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82"/>
            <p:cNvSpPr/>
            <p:nvPr/>
          </p:nvSpPr>
          <p:spPr>
            <a:xfrm>
              <a:off x="6011640" y="401940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283"/>
            <p:cNvSpPr/>
            <p:nvPr/>
          </p:nvSpPr>
          <p:spPr>
            <a:xfrm>
              <a:off x="4757760" y="3492360"/>
              <a:ext cx="37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284"/>
            <p:cNvSpPr/>
            <p:nvPr/>
          </p:nvSpPr>
          <p:spPr>
            <a:xfrm>
              <a:off x="4789440" y="4013280"/>
              <a:ext cx="4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85"/>
            <p:cNvSpPr/>
            <p:nvPr/>
          </p:nvSpPr>
          <p:spPr>
            <a:xfrm>
              <a:off x="4503600" y="4548240"/>
              <a:ext cx="1417680" cy="1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86"/>
            <p:cNvSpPr/>
            <p:nvPr/>
          </p:nvSpPr>
          <p:spPr>
            <a:xfrm>
              <a:off x="5878440" y="445608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287"/>
            <p:cNvSpPr/>
            <p:nvPr/>
          </p:nvSpPr>
          <p:spPr>
            <a:xfrm>
              <a:off x="4424400" y="3998880"/>
              <a:ext cx="12384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288"/>
            <p:cNvSpPr/>
            <p:nvPr/>
          </p:nvSpPr>
          <p:spPr>
            <a:xfrm>
              <a:off x="4424400" y="3522600"/>
              <a:ext cx="12384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289"/>
            <p:cNvSpPr/>
            <p:nvPr/>
          </p:nvSpPr>
          <p:spPr>
            <a:xfrm>
              <a:off x="4419720" y="4454640"/>
              <a:ext cx="125280" cy="1872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290"/>
            <p:cNvSpPr/>
            <p:nvPr/>
          </p:nvSpPr>
          <p:spPr>
            <a:xfrm>
              <a:off x="5257800" y="4029120"/>
              <a:ext cx="125280" cy="1890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291"/>
            <p:cNvSpPr/>
            <p:nvPr/>
          </p:nvSpPr>
          <p:spPr>
            <a:xfrm>
              <a:off x="5167440" y="3522600"/>
              <a:ext cx="12528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92"/>
            <p:cNvGrpSpPr/>
            <p:nvPr/>
          </p:nvGrpSpPr>
          <p:grpSpPr>
            <a:xfrm>
              <a:off x="5173560" y="2247840"/>
              <a:ext cx="2338200" cy="247680"/>
              <a:chOff x="5173560" y="2247840"/>
              <a:chExt cx="2338200" cy="247680"/>
            </a:xfrm>
          </p:grpSpPr>
          <p:sp>
            <p:nvSpPr>
              <p:cNvPr id="933" name="Oval 293"/>
              <p:cNvSpPr/>
              <p:nvPr/>
            </p:nvSpPr>
            <p:spPr>
              <a:xfrm>
                <a:off x="559080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Oval 294"/>
              <p:cNvSpPr/>
              <p:nvPr/>
            </p:nvSpPr>
            <p:spPr>
              <a:xfrm>
                <a:off x="56746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295"/>
              <p:cNvSpPr/>
              <p:nvPr/>
            </p:nvSpPr>
            <p:spPr>
              <a:xfrm>
                <a:off x="57578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296"/>
              <p:cNvSpPr/>
              <p:nvPr/>
            </p:nvSpPr>
            <p:spPr>
              <a:xfrm>
                <a:off x="584136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297"/>
              <p:cNvSpPr/>
              <p:nvPr/>
            </p:nvSpPr>
            <p:spPr>
              <a:xfrm>
                <a:off x="59252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Oval 298"/>
              <p:cNvSpPr/>
              <p:nvPr/>
            </p:nvSpPr>
            <p:spPr>
              <a:xfrm>
                <a:off x="60087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299"/>
              <p:cNvSpPr/>
              <p:nvPr/>
            </p:nvSpPr>
            <p:spPr>
              <a:xfrm>
                <a:off x="609192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Oval 300"/>
              <p:cNvSpPr/>
              <p:nvPr/>
            </p:nvSpPr>
            <p:spPr>
              <a:xfrm>
                <a:off x="61758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Oval 301"/>
              <p:cNvSpPr/>
              <p:nvPr/>
            </p:nvSpPr>
            <p:spPr>
              <a:xfrm>
                <a:off x="62593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302"/>
              <p:cNvSpPr/>
              <p:nvPr/>
            </p:nvSpPr>
            <p:spPr>
              <a:xfrm>
                <a:off x="634248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303"/>
              <p:cNvSpPr/>
              <p:nvPr/>
            </p:nvSpPr>
            <p:spPr>
              <a:xfrm>
                <a:off x="64263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304"/>
              <p:cNvSpPr/>
              <p:nvPr/>
            </p:nvSpPr>
            <p:spPr>
              <a:xfrm>
                <a:off x="65098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305"/>
              <p:cNvSpPr/>
              <p:nvPr/>
            </p:nvSpPr>
            <p:spPr>
              <a:xfrm>
                <a:off x="66769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Oval 306"/>
              <p:cNvSpPr/>
              <p:nvPr/>
            </p:nvSpPr>
            <p:spPr>
              <a:xfrm>
                <a:off x="67604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307"/>
              <p:cNvSpPr/>
              <p:nvPr/>
            </p:nvSpPr>
            <p:spPr>
              <a:xfrm>
                <a:off x="684396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308"/>
              <p:cNvSpPr/>
              <p:nvPr/>
            </p:nvSpPr>
            <p:spPr>
              <a:xfrm>
                <a:off x="69274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309"/>
              <p:cNvSpPr/>
              <p:nvPr/>
            </p:nvSpPr>
            <p:spPr>
              <a:xfrm>
                <a:off x="709452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Oval 310"/>
              <p:cNvSpPr/>
              <p:nvPr/>
            </p:nvSpPr>
            <p:spPr>
              <a:xfrm>
                <a:off x="72615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311"/>
              <p:cNvSpPr/>
              <p:nvPr/>
            </p:nvSpPr>
            <p:spPr>
              <a:xfrm>
                <a:off x="659340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Oval 312"/>
              <p:cNvSpPr/>
              <p:nvPr/>
            </p:nvSpPr>
            <p:spPr>
              <a:xfrm>
                <a:off x="71780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Oval 313"/>
              <p:cNvSpPr/>
              <p:nvPr/>
            </p:nvSpPr>
            <p:spPr>
              <a:xfrm>
                <a:off x="734508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Oval 314"/>
              <p:cNvSpPr/>
              <p:nvPr/>
            </p:nvSpPr>
            <p:spPr>
              <a:xfrm>
                <a:off x="74286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Oval 315"/>
              <p:cNvSpPr/>
              <p:nvPr/>
            </p:nvSpPr>
            <p:spPr>
              <a:xfrm>
                <a:off x="51735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Oval 316"/>
              <p:cNvSpPr/>
              <p:nvPr/>
            </p:nvSpPr>
            <p:spPr>
              <a:xfrm>
                <a:off x="52567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317"/>
              <p:cNvSpPr/>
              <p:nvPr/>
            </p:nvSpPr>
            <p:spPr>
              <a:xfrm>
                <a:off x="534024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318"/>
              <p:cNvSpPr/>
              <p:nvPr/>
            </p:nvSpPr>
            <p:spPr>
              <a:xfrm>
                <a:off x="54241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319"/>
              <p:cNvSpPr/>
              <p:nvPr/>
            </p:nvSpPr>
            <p:spPr>
              <a:xfrm>
                <a:off x="55072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320"/>
              <p:cNvSpPr/>
              <p:nvPr/>
            </p:nvSpPr>
            <p:spPr>
              <a:xfrm>
                <a:off x="70110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321"/>
            <p:cNvGrpSpPr/>
            <p:nvPr/>
          </p:nvGrpSpPr>
          <p:grpSpPr>
            <a:xfrm>
              <a:off x="6249960" y="4673520"/>
              <a:ext cx="2334960" cy="247680"/>
              <a:chOff x="6249960" y="4673520"/>
              <a:chExt cx="2334960" cy="247680"/>
            </a:xfrm>
          </p:grpSpPr>
          <p:sp>
            <p:nvSpPr>
              <p:cNvPr id="962" name="Oval 322"/>
              <p:cNvSpPr/>
              <p:nvPr/>
            </p:nvSpPr>
            <p:spPr>
              <a:xfrm>
                <a:off x="66664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323"/>
              <p:cNvSpPr/>
              <p:nvPr/>
            </p:nvSpPr>
            <p:spPr>
              <a:xfrm>
                <a:off x="67500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324"/>
              <p:cNvSpPr/>
              <p:nvPr/>
            </p:nvSpPr>
            <p:spPr>
              <a:xfrm>
                <a:off x="68335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Oval 325"/>
              <p:cNvSpPr/>
              <p:nvPr/>
            </p:nvSpPr>
            <p:spPr>
              <a:xfrm>
                <a:off x="69170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326"/>
              <p:cNvSpPr/>
              <p:nvPr/>
            </p:nvSpPr>
            <p:spPr>
              <a:xfrm>
                <a:off x="700056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327"/>
              <p:cNvSpPr/>
              <p:nvPr/>
            </p:nvSpPr>
            <p:spPr>
              <a:xfrm>
                <a:off x="708408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328"/>
              <p:cNvSpPr/>
              <p:nvPr/>
            </p:nvSpPr>
            <p:spPr>
              <a:xfrm>
                <a:off x="71676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329"/>
              <p:cNvSpPr/>
              <p:nvPr/>
            </p:nvSpPr>
            <p:spPr>
              <a:xfrm>
                <a:off x="725112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330"/>
              <p:cNvSpPr/>
              <p:nvPr/>
            </p:nvSpPr>
            <p:spPr>
              <a:xfrm>
                <a:off x="733464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331"/>
              <p:cNvSpPr/>
              <p:nvPr/>
            </p:nvSpPr>
            <p:spPr>
              <a:xfrm>
                <a:off x="741816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32"/>
              <p:cNvSpPr/>
              <p:nvPr/>
            </p:nvSpPr>
            <p:spPr>
              <a:xfrm>
                <a:off x="750060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333"/>
              <p:cNvSpPr/>
              <p:nvPr/>
            </p:nvSpPr>
            <p:spPr>
              <a:xfrm>
                <a:off x="758412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334"/>
              <p:cNvSpPr/>
              <p:nvPr/>
            </p:nvSpPr>
            <p:spPr>
              <a:xfrm>
                <a:off x="77511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335"/>
              <p:cNvSpPr/>
              <p:nvPr/>
            </p:nvSpPr>
            <p:spPr>
              <a:xfrm>
                <a:off x="78346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Oval 336"/>
              <p:cNvSpPr/>
              <p:nvPr/>
            </p:nvSpPr>
            <p:spPr>
              <a:xfrm>
                <a:off x="79182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Oval 337"/>
              <p:cNvSpPr/>
              <p:nvPr/>
            </p:nvSpPr>
            <p:spPr>
              <a:xfrm>
                <a:off x="80017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338"/>
              <p:cNvSpPr/>
              <p:nvPr/>
            </p:nvSpPr>
            <p:spPr>
              <a:xfrm>
                <a:off x="816876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Oval 339"/>
              <p:cNvSpPr/>
              <p:nvPr/>
            </p:nvSpPr>
            <p:spPr>
              <a:xfrm>
                <a:off x="83347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Oval 340"/>
              <p:cNvSpPr/>
              <p:nvPr/>
            </p:nvSpPr>
            <p:spPr>
              <a:xfrm>
                <a:off x="76676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341"/>
              <p:cNvSpPr/>
              <p:nvPr/>
            </p:nvSpPr>
            <p:spPr>
              <a:xfrm>
                <a:off x="82512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342"/>
              <p:cNvSpPr/>
              <p:nvPr/>
            </p:nvSpPr>
            <p:spPr>
              <a:xfrm>
                <a:off x="84182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343"/>
              <p:cNvSpPr/>
              <p:nvPr/>
            </p:nvSpPr>
            <p:spPr>
              <a:xfrm>
                <a:off x="850176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344"/>
              <p:cNvSpPr/>
              <p:nvPr/>
            </p:nvSpPr>
            <p:spPr>
              <a:xfrm>
                <a:off x="62499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345"/>
              <p:cNvSpPr/>
              <p:nvPr/>
            </p:nvSpPr>
            <p:spPr>
              <a:xfrm>
                <a:off x="63334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346"/>
              <p:cNvSpPr/>
              <p:nvPr/>
            </p:nvSpPr>
            <p:spPr>
              <a:xfrm>
                <a:off x="64170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347"/>
              <p:cNvSpPr/>
              <p:nvPr/>
            </p:nvSpPr>
            <p:spPr>
              <a:xfrm>
                <a:off x="65001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348"/>
              <p:cNvSpPr/>
              <p:nvPr/>
            </p:nvSpPr>
            <p:spPr>
              <a:xfrm>
                <a:off x="658404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Oval 349"/>
              <p:cNvSpPr/>
              <p:nvPr/>
            </p:nvSpPr>
            <p:spPr>
              <a:xfrm>
                <a:off x="80852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350"/>
            <p:cNvGrpSpPr/>
            <p:nvPr/>
          </p:nvGrpSpPr>
          <p:grpSpPr>
            <a:xfrm>
              <a:off x="6208560" y="3367080"/>
              <a:ext cx="2335320" cy="249120"/>
              <a:chOff x="6208560" y="3367080"/>
              <a:chExt cx="2335320" cy="249120"/>
            </a:xfrm>
          </p:grpSpPr>
          <p:sp>
            <p:nvSpPr>
              <p:cNvPr id="991" name="Oval 351"/>
              <p:cNvSpPr/>
              <p:nvPr/>
            </p:nvSpPr>
            <p:spPr>
              <a:xfrm>
                <a:off x="66250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352"/>
              <p:cNvSpPr/>
              <p:nvPr/>
            </p:nvSpPr>
            <p:spPr>
              <a:xfrm>
                <a:off x="67082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353"/>
              <p:cNvSpPr/>
              <p:nvPr/>
            </p:nvSpPr>
            <p:spPr>
              <a:xfrm>
                <a:off x="67921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354"/>
              <p:cNvSpPr/>
              <p:nvPr/>
            </p:nvSpPr>
            <p:spPr>
              <a:xfrm>
                <a:off x="68756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355"/>
              <p:cNvSpPr/>
              <p:nvPr/>
            </p:nvSpPr>
            <p:spPr>
              <a:xfrm>
                <a:off x="695880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356"/>
              <p:cNvSpPr/>
              <p:nvPr/>
            </p:nvSpPr>
            <p:spPr>
              <a:xfrm>
                <a:off x="70426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Oval 357"/>
              <p:cNvSpPr/>
              <p:nvPr/>
            </p:nvSpPr>
            <p:spPr>
              <a:xfrm>
                <a:off x="71258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Oval 358"/>
              <p:cNvSpPr/>
              <p:nvPr/>
            </p:nvSpPr>
            <p:spPr>
              <a:xfrm>
                <a:off x="720936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359"/>
              <p:cNvSpPr/>
              <p:nvPr/>
            </p:nvSpPr>
            <p:spPr>
              <a:xfrm>
                <a:off x="72932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360"/>
              <p:cNvSpPr/>
              <p:nvPr/>
            </p:nvSpPr>
            <p:spPr>
              <a:xfrm>
                <a:off x="737640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361"/>
              <p:cNvSpPr/>
              <p:nvPr/>
            </p:nvSpPr>
            <p:spPr>
              <a:xfrm>
                <a:off x="745920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362"/>
              <p:cNvSpPr/>
              <p:nvPr/>
            </p:nvSpPr>
            <p:spPr>
              <a:xfrm>
                <a:off x="75427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363"/>
              <p:cNvSpPr/>
              <p:nvPr/>
            </p:nvSpPr>
            <p:spPr>
              <a:xfrm>
                <a:off x="77097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364"/>
              <p:cNvSpPr/>
              <p:nvPr/>
            </p:nvSpPr>
            <p:spPr>
              <a:xfrm>
                <a:off x="77932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65"/>
              <p:cNvSpPr/>
              <p:nvPr/>
            </p:nvSpPr>
            <p:spPr>
              <a:xfrm>
                <a:off x="78764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366"/>
              <p:cNvSpPr/>
              <p:nvPr/>
            </p:nvSpPr>
            <p:spPr>
              <a:xfrm>
                <a:off x="79603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367"/>
              <p:cNvSpPr/>
              <p:nvPr/>
            </p:nvSpPr>
            <p:spPr>
              <a:xfrm>
                <a:off x="812700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68"/>
              <p:cNvSpPr/>
              <p:nvPr/>
            </p:nvSpPr>
            <p:spPr>
              <a:xfrm>
                <a:off x="82933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369"/>
              <p:cNvSpPr/>
              <p:nvPr/>
            </p:nvSpPr>
            <p:spPr>
              <a:xfrm>
                <a:off x="762588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370"/>
              <p:cNvSpPr/>
              <p:nvPr/>
            </p:nvSpPr>
            <p:spPr>
              <a:xfrm>
                <a:off x="820980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71"/>
              <p:cNvSpPr/>
              <p:nvPr/>
            </p:nvSpPr>
            <p:spPr>
              <a:xfrm>
                <a:off x="83768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372"/>
              <p:cNvSpPr/>
              <p:nvPr/>
            </p:nvSpPr>
            <p:spPr>
              <a:xfrm>
                <a:off x="846036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373"/>
              <p:cNvSpPr/>
              <p:nvPr/>
            </p:nvSpPr>
            <p:spPr>
              <a:xfrm>
                <a:off x="62085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374"/>
              <p:cNvSpPr/>
              <p:nvPr/>
            </p:nvSpPr>
            <p:spPr>
              <a:xfrm>
                <a:off x="62917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375"/>
              <p:cNvSpPr/>
              <p:nvPr/>
            </p:nvSpPr>
            <p:spPr>
              <a:xfrm>
                <a:off x="63752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376"/>
              <p:cNvSpPr/>
              <p:nvPr/>
            </p:nvSpPr>
            <p:spPr>
              <a:xfrm>
                <a:off x="64587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377"/>
              <p:cNvSpPr/>
              <p:nvPr/>
            </p:nvSpPr>
            <p:spPr>
              <a:xfrm>
                <a:off x="654228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Oval 378"/>
              <p:cNvSpPr/>
              <p:nvPr/>
            </p:nvSpPr>
            <p:spPr>
              <a:xfrm>
                <a:off x="80434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691B-A71D-47F4-8EDA-20151E63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"/>
          <p:cNvSpPr/>
          <p:nvPr/>
        </p:nvSpPr>
        <p:spPr>
          <a:xfrm>
            <a:off x="14400" y="380880"/>
            <a:ext cx="9129600" cy="134172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w="5751" h="845">
                <a:moveTo>
                  <a:pt x="0" y="62"/>
                </a:moveTo>
                <a:cubicBezTo>
                  <a:pt x="644" y="62"/>
                  <a:pt x="3207" y="0"/>
                  <a:pt x="3865" y="71"/>
                </a:cubicBezTo>
                <a:cubicBezTo>
                  <a:pt x="4523" y="142"/>
                  <a:pt x="3912" y="382"/>
                  <a:pt x="3951" y="491"/>
                </a:cubicBezTo>
                <a:cubicBezTo>
                  <a:pt x="3990" y="600"/>
                  <a:pt x="4030" y="667"/>
                  <a:pt x="4099" y="725"/>
                </a:cubicBezTo>
                <a:cubicBezTo>
                  <a:pt x="4168" y="783"/>
                  <a:pt x="4265" y="845"/>
                  <a:pt x="4364" y="842"/>
                </a:cubicBezTo>
                <a:cubicBezTo>
                  <a:pt x="4463" y="839"/>
                  <a:pt x="4638" y="780"/>
                  <a:pt x="4691" y="709"/>
                </a:cubicBezTo>
                <a:cubicBezTo>
                  <a:pt x="4744" y="638"/>
                  <a:pt x="4694" y="511"/>
                  <a:pt x="4684" y="413"/>
                </a:cubicBezTo>
                <a:cubicBezTo>
                  <a:pt x="4674" y="315"/>
                  <a:pt x="4506" y="176"/>
                  <a:pt x="4633" y="119"/>
                </a:cubicBezTo>
                <a:cubicBezTo>
                  <a:pt x="4760" y="62"/>
                  <a:pt x="5263" y="78"/>
                  <a:pt x="5449" y="71"/>
                </a:cubicBezTo>
                <a:cubicBezTo>
                  <a:pt x="5635" y="64"/>
                  <a:pt x="5688" y="77"/>
                  <a:pt x="5751" y="78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3"/>
          <p:cNvSpPr/>
          <p:nvPr/>
        </p:nvSpPr>
        <p:spPr>
          <a:xfrm>
            <a:off x="555480" y="1461960"/>
            <a:ext cx="1273320" cy="390708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3907080"/>
              <a:gd name="textAreaBottom" fmla="*/ 3907440 h 3907080"/>
            </a:gdLst>
            <a:ahLst/>
            <a:rect l="textAreaLeft" t="textAreaTop" r="textAreaRight" b="textAreaBottom"/>
            <a:pathLst>
              <a:path w="802" h="2461">
                <a:moveTo>
                  <a:pt x="226" y="279"/>
                </a:moveTo>
                <a:cubicBezTo>
                  <a:pt x="242" y="231"/>
                  <a:pt x="240" y="78"/>
                  <a:pt x="274" y="39"/>
                </a:cubicBezTo>
                <a:cubicBezTo>
                  <a:pt x="308" y="0"/>
                  <a:pt x="409" y="5"/>
                  <a:pt x="433" y="45"/>
                </a:cubicBezTo>
                <a:cubicBezTo>
                  <a:pt x="457" y="85"/>
                  <a:pt x="444" y="192"/>
                  <a:pt x="418" y="279"/>
                </a:cubicBezTo>
                <a:cubicBezTo>
                  <a:pt x="392" y="366"/>
                  <a:pt x="258" y="463"/>
                  <a:pt x="274" y="567"/>
                </a:cubicBezTo>
                <a:cubicBezTo>
                  <a:pt x="290" y="671"/>
                  <a:pt x="482" y="791"/>
                  <a:pt x="514" y="903"/>
                </a:cubicBezTo>
                <a:cubicBezTo>
                  <a:pt x="546" y="1015"/>
                  <a:pt x="458" y="1119"/>
                  <a:pt x="466" y="1239"/>
                </a:cubicBezTo>
                <a:cubicBezTo>
                  <a:pt x="474" y="1359"/>
                  <a:pt x="506" y="1503"/>
                  <a:pt x="562" y="1623"/>
                </a:cubicBezTo>
                <a:cubicBezTo>
                  <a:pt x="618" y="1743"/>
                  <a:pt x="802" y="1871"/>
                  <a:pt x="802" y="1959"/>
                </a:cubicBezTo>
                <a:cubicBezTo>
                  <a:pt x="802" y="2047"/>
                  <a:pt x="645" y="2080"/>
                  <a:pt x="562" y="2151"/>
                </a:cubicBezTo>
                <a:cubicBezTo>
                  <a:pt x="479" y="2222"/>
                  <a:pt x="389" y="2337"/>
                  <a:pt x="301" y="2383"/>
                </a:cubicBezTo>
                <a:cubicBezTo>
                  <a:pt x="213" y="2429"/>
                  <a:pt x="72" y="2461"/>
                  <a:pt x="36" y="2430"/>
                </a:cubicBezTo>
                <a:cubicBezTo>
                  <a:pt x="0" y="2399"/>
                  <a:pt x="47" y="2250"/>
                  <a:pt x="82" y="2199"/>
                </a:cubicBezTo>
                <a:cubicBezTo>
                  <a:pt x="117" y="2148"/>
                  <a:pt x="190" y="2159"/>
                  <a:pt x="246" y="2126"/>
                </a:cubicBezTo>
                <a:cubicBezTo>
                  <a:pt x="302" y="2093"/>
                  <a:pt x="379" y="2040"/>
                  <a:pt x="417" y="2001"/>
                </a:cubicBezTo>
                <a:cubicBezTo>
                  <a:pt x="455" y="1962"/>
                  <a:pt x="472" y="1947"/>
                  <a:pt x="472" y="1892"/>
                </a:cubicBezTo>
                <a:cubicBezTo>
                  <a:pt x="472" y="1837"/>
                  <a:pt x="451" y="1748"/>
                  <a:pt x="418" y="1671"/>
                </a:cubicBezTo>
                <a:cubicBezTo>
                  <a:pt x="385" y="1594"/>
                  <a:pt x="306" y="1511"/>
                  <a:pt x="274" y="1431"/>
                </a:cubicBezTo>
                <a:cubicBezTo>
                  <a:pt x="242" y="1351"/>
                  <a:pt x="258" y="1263"/>
                  <a:pt x="226" y="1191"/>
                </a:cubicBezTo>
                <a:cubicBezTo>
                  <a:pt x="194" y="1119"/>
                  <a:pt x="98" y="1063"/>
                  <a:pt x="82" y="999"/>
                </a:cubicBezTo>
                <a:cubicBezTo>
                  <a:pt x="66" y="935"/>
                  <a:pt x="130" y="871"/>
                  <a:pt x="130" y="807"/>
                </a:cubicBezTo>
                <a:cubicBezTo>
                  <a:pt x="130" y="743"/>
                  <a:pt x="98" y="679"/>
                  <a:pt x="82" y="615"/>
                </a:cubicBezTo>
                <a:cubicBezTo>
                  <a:pt x="66" y="551"/>
                  <a:pt x="18" y="471"/>
                  <a:pt x="34" y="423"/>
                </a:cubicBezTo>
                <a:cubicBezTo>
                  <a:pt x="50" y="375"/>
                  <a:pt x="146" y="351"/>
                  <a:pt x="178" y="327"/>
                </a:cubicBezTo>
                <a:cubicBezTo>
                  <a:pt x="210" y="303"/>
                  <a:pt x="210" y="327"/>
                  <a:pt x="226" y="279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"/>
          <p:cNvSpPr/>
          <p:nvPr/>
        </p:nvSpPr>
        <p:spPr>
          <a:xfrm>
            <a:off x="1523880" y="5105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5"/>
          <p:cNvSpPr/>
          <p:nvPr/>
        </p:nvSpPr>
        <p:spPr>
          <a:xfrm>
            <a:off x="2590920" y="4724280"/>
            <a:ext cx="914400" cy="9144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3581280" y="56386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7"/>
          <p:cNvSpPr/>
          <p:nvPr/>
        </p:nvSpPr>
        <p:spPr>
          <a:xfrm>
            <a:off x="5105520" y="6146640"/>
            <a:ext cx="2895480" cy="41616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824" h="262">
                <a:moveTo>
                  <a:pt x="144" y="208"/>
                </a:moveTo>
                <a:cubicBezTo>
                  <a:pt x="168" y="208"/>
                  <a:pt x="168" y="200"/>
                  <a:pt x="240" y="208"/>
                </a:cubicBezTo>
                <a:cubicBezTo>
                  <a:pt x="312" y="216"/>
                  <a:pt x="465" y="262"/>
                  <a:pt x="576" y="256"/>
                </a:cubicBezTo>
                <a:cubicBezTo>
                  <a:pt x="687" y="250"/>
                  <a:pt x="786" y="176"/>
                  <a:pt x="906" y="173"/>
                </a:cubicBezTo>
                <a:cubicBezTo>
                  <a:pt x="1026" y="170"/>
                  <a:pt x="1191" y="221"/>
                  <a:pt x="1296" y="235"/>
                </a:cubicBezTo>
                <a:cubicBezTo>
                  <a:pt x="1401" y="249"/>
                  <a:pt x="1464" y="260"/>
                  <a:pt x="1536" y="256"/>
                </a:cubicBezTo>
                <a:cubicBezTo>
                  <a:pt x="1608" y="252"/>
                  <a:pt x="1681" y="226"/>
                  <a:pt x="1728" y="208"/>
                </a:cubicBezTo>
                <a:cubicBezTo>
                  <a:pt x="1775" y="190"/>
                  <a:pt x="1824" y="168"/>
                  <a:pt x="1818" y="149"/>
                </a:cubicBezTo>
                <a:cubicBezTo>
                  <a:pt x="1812" y="130"/>
                  <a:pt x="1737" y="97"/>
                  <a:pt x="1693" y="95"/>
                </a:cubicBezTo>
                <a:cubicBezTo>
                  <a:pt x="1649" y="93"/>
                  <a:pt x="1619" y="131"/>
                  <a:pt x="1553" y="134"/>
                </a:cubicBezTo>
                <a:cubicBezTo>
                  <a:pt x="1487" y="137"/>
                  <a:pt x="1411" y="132"/>
                  <a:pt x="1296" y="112"/>
                </a:cubicBezTo>
                <a:cubicBezTo>
                  <a:pt x="1181" y="92"/>
                  <a:pt x="968" y="16"/>
                  <a:pt x="864" y="16"/>
                </a:cubicBezTo>
                <a:cubicBezTo>
                  <a:pt x="760" y="16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8"/>
          <p:cNvSpPr/>
          <p:nvPr/>
        </p:nvSpPr>
        <p:spPr>
          <a:xfrm>
            <a:off x="5105520" y="5715000"/>
            <a:ext cx="2786040" cy="41904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755" h="264">
                <a:moveTo>
                  <a:pt x="144" y="208"/>
                </a:moveTo>
                <a:cubicBezTo>
                  <a:pt x="189" y="203"/>
                  <a:pt x="297" y="172"/>
                  <a:pt x="369" y="180"/>
                </a:cubicBezTo>
                <a:cubicBezTo>
                  <a:pt x="441" y="188"/>
                  <a:pt x="498" y="257"/>
                  <a:pt x="576" y="256"/>
                </a:cubicBezTo>
                <a:cubicBezTo>
                  <a:pt x="654" y="255"/>
                  <a:pt x="756" y="188"/>
                  <a:pt x="836" y="172"/>
                </a:cubicBezTo>
                <a:cubicBezTo>
                  <a:pt x="916" y="156"/>
                  <a:pt x="939" y="146"/>
                  <a:pt x="1056" y="160"/>
                </a:cubicBezTo>
                <a:cubicBezTo>
                  <a:pt x="1173" y="174"/>
                  <a:pt x="1424" y="248"/>
                  <a:pt x="1536" y="256"/>
                </a:cubicBezTo>
                <a:cubicBezTo>
                  <a:pt x="1648" y="264"/>
                  <a:pt x="1701" y="231"/>
                  <a:pt x="1728" y="208"/>
                </a:cubicBezTo>
                <a:cubicBezTo>
                  <a:pt x="1755" y="185"/>
                  <a:pt x="1727" y="131"/>
                  <a:pt x="1701" y="117"/>
                </a:cubicBezTo>
                <a:cubicBezTo>
                  <a:pt x="1675" y="103"/>
                  <a:pt x="1636" y="130"/>
                  <a:pt x="1569" y="125"/>
                </a:cubicBezTo>
                <a:cubicBezTo>
                  <a:pt x="1502" y="120"/>
                  <a:pt x="1413" y="104"/>
                  <a:pt x="1296" y="86"/>
                </a:cubicBezTo>
                <a:cubicBezTo>
                  <a:pt x="1179" y="68"/>
                  <a:pt x="968" y="12"/>
                  <a:pt x="864" y="16"/>
                </a:cubicBezTo>
                <a:cubicBezTo>
                  <a:pt x="760" y="20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9"/>
          <p:cNvSpPr/>
          <p:nvPr/>
        </p:nvSpPr>
        <p:spPr>
          <a:xfrm>
            <a:off x="4983120" y="5343480"/>
            <a:ext cx="2789280" cy="399960"/>
          </a:xfrm>
          <a:custGeom>
            <a:avLst/>
            <a:gdLst>
              <a:gd name="textAreaLeft" fmla="*/ 0 w 2789280"/>
              <a:gd name="textAreaRight" fmla="*/ 2789280 w 278928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757" h="252">
                <a:moveTo>
                  <a:pt x="235" y="149"/>
                </a:moveTo>
                <a:cubicBezTo>
                  <a:pt x="277" y="145"/>
                  <a:pt x="313" y="163"/>
                  <a:pt x="375" y="180"/>
                </a:cubicBezTo>
                <a:cubicBezTo>
                  <a:pt x="437" y="197"/>
                  <a:pt x="486" y="249"/>
                  <a:pt x="605" y="250"/>
                </a:cubicBezTo>
                <a:cubicBezTo>
                  <a:pt x="724" y="251"/>
                  <a:pt x="932" y="188"/>
                  <a:pt x="1092" y="188"/>
                </a:cubicBezTo>
                <a:cubicBezTo>
                  <a:pt x="1252" y="188"/>
                  <a:pt x="1454" y="248"/>
                  <a:pt x="1565" y="250"/>
                </a:cubicBezTo>
                <a:cubicBezTo>
                  <a:pt x="1676" y="252"/>
                  <a:pt x="1757" y="234"/>
                  <a:pt x="1757" y="202"/>
                </a:cubicBezTo>
                <a:cubicBezTo>
                  <a:pt x="1757" y="170"/>
                  <a:pt x="1637" y="80"/>
                  <a:pt x="1565" y="58"/>
                </a:cubicBezTo>
                <a:cubicBezTo>
                  <a:pt x="1493" y="36"/>
                  <a:pt x="1438" y="79"/>
                  <a:pt x="1326" y="71"/>
                </a:cubicBezTo>
                <a:cubicBezTo>
                  <a:pt x="1214" y="63"/>
                  <a:pt x="997" y="4"/>
                  <a:pt x="893" y="10"/>
                </a:cubicBezTo>
                <a:cubicBezTo>
                  <a:pt x="789" y="16"/>
                  <a:pt x="781" y="98"/>
                  <a:pt x="701" y="106"/>
                </a:cubicBezTo>
                <a:cubicBezTo>
                  <a:pt x="621" y="114"/>
                  <a:pt x="519" y="73"/>
                  <a:pt x="413" y="58"/>
                </a:cubicBezTo>
                <a:cubicBezTo>
                  <a:pt x="307" y="43"/>
                  <a:pt x="128" y="0"/>
                  <a:pt x="64" y="16"/>
                </a:cubicBezTo>
                <a:cubicBezTo>
                  <a:pt x="0" y="32"/>
                  <a:pt x="19" y="123"/>
                  <a:pt x="29" y="154"/>
                </a:cubicBezTo>
                <a:cubicBezTo>
                  <a:pt x="39" y="185"/>
                  <a:pt x="91" y="203"/>
                  <a:pt x="125" y="202"/>
                </a:cubicBezTo>
                <a:cubicBezTo>
                  <a:pt x="159" y="201"/>
                  <a:pt x="211" y="149"/>
                  <a:pt x="235" y="149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10"/>
          <p:cNvSpPr/>
          <p:nvPr/>
        </p:nvSpPr>
        <p:spPr>
          <a:xfrm>
            <a:off x="5029200" y="4876920"/>
            <a:ext cx="2743200" cy="422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728" h="266">
                <a:moveTo>
                  <a:pt x="144" y="208"/>
                </a:moveTo>
                <a:cubicBezTo>
                  <a:pt x="168" y="208"/>
                  <a:pt x="168" y="200"/>
                  <a:pt x="240" y="208"/>
                </a:cubicBezTo>
                <a:cubicBezTo>
                  <a:pt x="312" y="216"/>
                  <a:pt x="470" y="266"/>
                  <a:pt x="576" y="256"/>
                </a:cubicBezTo>
                <a:cubicBezTo>
                  <a:pt x="682" y="246"/>
                  <a:pt x="796" y="163"/>
                  <a:pt x="876" y="147"/>
                </a:cubicBezTo>
                <a:cubicBezTo>
                  <a:pt x="956" y="131"/>
                  <a:pt x="946" y="142"/>
                  <a:pt x="1056" y="160"/>
                </a:cubicBezTo>
                <a:cubicBezTo>
                  <a:pt x="1166" y="178"/>
                  <a:pt x="1424" y="248"/>
                  <a:pt x="1536" y="256"/>
                </a:cubicBezTo>
                <a:cubicBezTo>
                  <a:pt x="1648" y="264"/>
                  <a:pt x="1728" y="240"/>
                  <a:pt x="1728" y="208"/>
                </a:cubicBezTo>
                <a:cubicBezTo>
                  <a:pt x="1728" y="176"/>
                  <a:pt x="1603" y="96"/>
                  <a:pt x="1536" y="64"/>
                </a:cubicBezTo>
                <a:cubicBezTo>
                  <a:pt x="1469" y="32"/>
                  <a:pt x="1440" y="22"/>
                  <a:pt x="1328" y="14"/>
                </a:cubicBezTo>
                <a:cubicBezTo>
                  <a:pt x="1216" y="6"/>
                  <a:pt x="973" y="0"/>
                  <a:pt x="864" y="16"/>
                </a:cubicBezTo>
                <a:cubicBezTo>
                  <a:pt x="755" y="32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11"/>
          <p:cNvSpPr/>
          <p:nvPr/>
        </p:nvSpPr>
        <p:spPr>
          <a:xfrm>
            <a:off x="5791320" y="2895480"/>
            <a:ext cx="914400" cy="9144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12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3"/>
          <p:cNvSpPr/>
          <p:nvPr/>
        </p:nvSpPr>
        <p:spPr>
          <a:xfrm flipV="1">
            <a:off x="6248520" y="20574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4"/>
          <p:cNvSpPr/>
          <p:nvPr/>
        </p:nvSpPr>
        <p:spPr>
          <a:xfrm flipH="1" flipV="1">
            <a:off x="6400800" y="304560"/>
            <a:ext cx="380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 flipV="1">
            <a:off x="7162920" y="30456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19"/>
          <p:cNvSpPr/>
          <p:nvPr/>
        </p:nvSpPr>
        <p:spPr>
          <a:xfrm rot="4717800">
            <a:off x="683640" y="2021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27"/>
          <p:cNvSpPr/>
          <p:nvPr/>
        </p:nvSpPr>
        <p:spPr>
          <a:xfrm rot="8701800">
            <a:off x="7175160" y="8380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28"/>
          <p:cNvSpPr/>
          <p:nvPr/>
        </p:nvSpPr>
        <p:spPr>
          <a:xfrm rot="8701800">
            <a:off x="6527520" y="3200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29"/>
          <p:cNvSpPr/>
          <p:nvPr/>
        </p:nvSpPr>
        <p:spPr>
          <a:xfrm rot="8701800">
            <a:off x="914040" y="25146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30"/>
          <p:cNvSpPr/>
          <p:nvPr/>
        </p:nvSpPr>
        <p:spPr>
          <a:xfrm rot="8701800">
            <a:off x="1142640" y="35812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31"/>
          <p:cNvSpPr/>
          <p:nvPr/>
        </p:nvSpPr>
        <p:spPr>
          <a:xfrm rot="8701800">
            <a:off x="1523520" y="43434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32"/>
          <p:cNvSpPr/>
          <p:nvPr/>
        </p:nvSpPr>
        <p:spPr>
          <a:xfrm rot="9880800">
            <a:off x="3276720" y="495252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3"/>
          <p:cNvSpPr/>
          <p:nvPr/>
        </p:nvSpPr>
        <p:spPr>
          <a:xfrm rot="5556600">
            <a:off x="5407560" y="49680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4"/>
          <p:cNvSpPr/>
          <p:nvPr/>
        </p:nvSpPr>
        <p:spPr>
          <a:xfrm rot="15869400">
            <a:off x="7006680" y="51332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35"/>
          <p:cNvSpPr/>
          <p:nvPr/>
        </p:nvSpPr>
        <p:spPr>
          <a:xfrm rot="5556600">
            <a:off x="6627240" y="490428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36"/>
          <p:cNvSpPr/>
          <p:nvPr/>
        </p:nvSpPr>
        <p:spPr>
          <a:xfrm rot="5556600">
            <a:off x="6322320" y="536148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37"/>
          <p:cNvSpPr/>
          <p:nvPr/>
        </p:nvSpPr>
        <p:spPr>
          <a:xfrm rot="5556600">
            <a:off x="6855480" y="5488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38"/>
          <p:cNvSpPr/>
          <p:nvPr/>
        </p:nvSpPr>
        <p:spPr>
          <a:xfrm rot="15869400">
            <a:off x="7160400" y="56030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9"/>
          <p:cNvSpPr/>
          <p:nvPr/>
        </p:nvSpPr>
        <p:spPr>
          <a:xfrm rot="15869400">
            <a:off x="6398280" y="58564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0"/>
          <p:cNvSpPr/>
          <p:nvPr/>
        </p:nvSpPr>
        <p:spPr>
          <a:xfrm rot="15869400">
            <a:off x="5483880" y="64026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41"/>
          <p:cNvSpPr/>
          <p:nvPr/>
        </p:nvSpPr>
        <p:spPr>
          <a:xfrm rot="15869400">
            <a:off x="6474600" y="63270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42"/>
          <p:cNvSpPr/>
          <p:nvPr/>
        </p:nvSpPr>
        <p:spPr>
          <a:xfrm rot="15869400">
            <a:off x="2891520" y="554544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43"/>
          <p:cNvSpPr/>
          <p:nvPr/>
        </p:nvSpPr>
        <p:spPr>
          <a:xfrm rot="15869400">
            <a:off x="6093360" y="37101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44"/>
          <p:cNvSpPr/>
          <p:nvPr/>
        </p:nvSpPr>
        <p:spPr>
          <a:xfrm rot="15869400">
            <a:off x="6855480" y="1627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45"/>
          <p:cNvSpPr/>
          <p:nvPr/>
        </p:nvSpPr>
        <p:spPr>
          <a:xfrm rot="15869400">
            <a:off x="7541280" y="4273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46"/>
          <p:cNvSpPr/>
          <p:nvPr/>
        </p:nvSpPr>
        <p:spPr>
          <a:xfrm rot="15869400">
            <a:off x="792252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47"/>
          <p:cNvSpPr/>
          <p:nvPr/>
        </p:nvSpPr>
        <p:spPr>
          <a:xfrm rot="15869400">
            <a:off x="830340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48"/>
          <p:cNvSpPr/>
          <p:nvPr/>
        </p:nvSpPr>
        <p:spPr>
          <a:xfrm rot="15869400">
            <a:off x="6093360" y="4147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49"/>
          <p:cNvSpPr/>
          <p:nvPr/>
        </p:nvSpPr>
        <p:spPr>
          <a:xfrm rot="15869400">
            <a:off x="571284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50"/>
          <p:cNvSpPr/>
          <p:nvPr/>
        </p:nvSpPr>
        <p:spPr>
          <a:xfrm rot="15869400">
            <a:off x="5331600" y="3452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51"/>
          <p:cNvSpPr/>
          <p:nvPr/>
        </p:nvSpPr>
        <p:spPr>
          <a:xfrm rot="21180000">
            <a:off x="6248160" y="121932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52"/>
          <p:cNvSpPr/>
          <p:nvPr/>
        </p:nvSpPr>
        <p:spPr>
          <a:xfrm rot="21180000">
            <a:off x="5714640" y="32767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3"/>
          <p:cNvSpPr/>
          <p:nvPr/>
        </p:nvSpPr>
        <p:spPr>
          <a:xfrm rot="21180000">
            <a:off x="2514240" y="51055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54"/>
          <p:cNvSpPr/>
          <p:nvPr/>
        </p:nvSpPr>
        <p:spPr>
          <a:xfrm rot="21180000">
            <a:off x="609120" y="28954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5"/>
          <p:cNvSpPr/>
          <p:nvPr/>
        </p:nvSpPr>
        <p:spPr>
          <a:xfrm rot="21180000">
            <a:off x="837720" y="34290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56"/>
          <p:cNvSpPr/>
          <p:nvPr/>
        </p:nvSpPr>
        <p:spPr>
          <a:xfrm rot="21180000">
            <a:off x="609120" y="50292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57"/>
          <p:cNvSpPr/>
          <p:nvPr/>
        </p:nvSpPr>
        <p:spPr>
          <a:xfrm rot="4717800">
            <a:off x="5941080" y="29739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58"/>
          <p:cNvSpPr/>
          <p:nvPr/>
        </p:nvSpPr>
        <p:spPr>
          <a:xfrm rot="4717800">
            <a:off x="6398280" y="916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59"/>
          <p:cNvSpPr/>
          <p:nvPr/>
        </p:nvSpPr>
        <p:spPr>
          <a:xfrm rot="4717800">
            <a:off x="2893320" y="47264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60"/>
          <p:cNvSpPr/>
          <p:nvPr/>
        </p:nvSpPr>
        <p:spPr>
          <a:xfrm>
            <a:off x="1249200" y="160020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61"/>
          <p:cNvSpPr/>
          <p:nvPr/>
        </p:nvSpPr>
        <p:spPr>
          <a:xfrm>
            <a:off x="7634160" y="523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62"/>
          <p:cNvSpPr/>
          <p:nvPr/>
        </p:nvSpPr>
        <p:spPr>
          <a:xfrm>
            <a:off x="1852560" y="763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8493-7F75-42ED-9F3D-DB83BDA7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09480" y="16002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LL ANIMAL RNA VIRUSES  CODE FOR A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3C8-0D97-434D-AF59-32960A5D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2"/>
          <p:cNvSpPr/>
          <p:nvPr/>
        </p:nvSpPr>
        <p:spPr>
          <a:xfrm>
            <a:off x="185760" y="2050920"/>
            <a:ext cx="8510400" cy="2948040"/>
          </a:xfrm>
          <a:custGeom>
            <a:avLst/>
            <a:gdLst>
              <a:gd name="textAreaLeft" fmla="*/ 0 w 8510400"/>
              <a:gd name="textAreaRight" fmla="*/ 8510760 w 851040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5361" h="1857">
                <a:moveTo>
                  <a:pt x="0" y="1851"/>
                </a:moveTo>
                <a:cubicBezTo>
                  <a:pt x="292" y="1836"/>
                  <a:pt x="1367" y="1791"/>
                  <a:pt x="1754" y="1756"/>
                </a:cubicBezTo>
                <a:cubicBezTo>
                  <a:pt x="2141" y="1721"/>
                  <a:pt x="2217" y="1738"/>
                  <a:pt x="2322" y="1640"/>
                </a:cubicBezTo>
                <a:cubicBezTo>
                  <a:pt x="2427" y="1542"/>
                  <a:pt x="2371" y="1391"/>
                  <a:pt x="2384" y="1165"/>
                </a:cubicBezTo>
                <a:cubicBezTo>
                  <a:pt x="2397" y="939"/>
                  <a:pt x="2376" y="462"/>
                  <a:pt x="2400" y="282"/>
                </a:cubicBezTo>
                <a:cubicBezTo>
                  <a:pt x="2424" y="102"/>
                  <a:pt x="2465" y="128"/>
                  <a:pt x="2529" y="84"/>
                </a:cubicBezTo>
                <a:cubicBezTo>
                  <a:pt x="2593" y="40"/>
                  <a:pt x="2688" y="0"/>
                  <a:pt x="2781" y="18"/>
                </a:cubicBezTo>
                <a:cubicBezTo>
                  <a:pt x="2874" y="36"/>
                  <a:pt x="3029" y="41"/>
                  <a:pt x="3086" y="191"/>
                </a:cubicBezTo>
                <a:cubicBezTo>
                  <a:pt x="3143" y="341"/>
                  <a:pt x="3116" y="667"/>
                  <a:pt x="3125" y="916"/>
                </a:cubicBezTo>
                <a:cubicBezTo>
                  <a:pt x="3134" y="1165"/>
                  <a:pt x="3092" y="1534"/>
                  <a:pt x="3140" y="1687"/>
                </a:cubicBezTo>
                <a:cubicBezTo>
                  <a:pt x="3188" y="1840"/>
                  <a:pt x="3331" y="1813"/>
                  <a:pt x="3413" y="1835"/>
                </a:cubicBezTo>
                <a:cubicBezTo>
                  <a:pt x="3495" y="1857"/>
                  <a:pt x="3518" y="1821"/>
                  <a:pt x="3631" y="1820"/>
                </a:cubicBezTo>
                <a:cubicBezTo>
                  <a:pt x="3744" y="1819"/>
                  <a:pt x="3803" y="1823"/>
                  <a:pt x="4091" y="1827"/>
                </a:cubicBezTo>
                <a:cubicBezTo>
                  <a:pt x="4379" y="1831"/>
                  <a:pt x="5097" y="1840"/>
                  <a:pt x="5361" y="1843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3"/>
          <p:cNvSpPr/>
          <p:nvPr/>
        </p:nvSpPr>
        <p:spPr>
          <a:xfrm>
            <a:off x="3898800" y="2257560"/>
            <a:ext cx="1281240" cy="3609720"/>
          </a:xfrm>
          <a:custGeom>
            <a:avLst/>
            <a:gdLst>
              <a:gd name="textAreaLeft" fmla="*/ 0 w 1281240"/>
              <a:gd name="textAreaRight" fmla="*/ 1281600 w 1281240"/>
              <a:gd name="textAreaTop" fmla="*/ 0 h 3609720"/>
              <a:gd name="textAreaBottom" fmla="*/ 3610080 h 3609720"/>
            </a:gdLst>
            <a:ahLst/>
            <a:rect l="textAreaLeft" t="textAreaTop" r="textAreaRight" b="textAreaBottom"/>
            <a:pathLst>
              <a:path w="807" h="2274">
                <a:moveTo>
                  <a:pt x="308" y="0"/>
                </a:moveTo>
                <a:cubicBezTo>
                  <a:pt x="355" y="7"/>
                  <a:pt x="605" y="31"/>
                  <a:pt x="594" y="41"/>
                </a:cubicBezTo>
                <a:cubicBezTo>
                  <a:pt x="583" y="52"/>
                  <a:pt x="234" y="49"/>
                  <a:pt x="243" y="63"/>
                </a:cubicBezTo>
                <a:cubicBezTo>
                  <a:pt x="252" y="77"/>
                  <a:pt x="667" y="110"/>
                  <a:pt x="651" y="127"/>
                </a:cubicBezTo>
                <a:cubicBezTo>
                  <a:pt x="634" y="144"/>
                  <a:pt x="139" y="150"/>
                  <a:pt x="144" y="164"/>
                </a:cubicBezTo>
                <a:cubicBezTo>
                  <a:pt x="148" y="178"/>
                  <a:pt x="679" y="193"/>
                  <a:pt x="679" y="209"/>
                </a:cubicBezTo>
                <a:cubicBezTo>
                  <a:pt x="679" y="226"/>
                  <a:pt x="142" y="252"/>
                  <a:pt x="144" y="265"/>
                </a:cubicBezTo>
                <a:cubicBezTo>
                  <a:pt x="145" y="279"/>
                  <a:pt x="689" y="275"/>
                  <a:pt x="689" y="290"/>
                </a:cubicBezTo>
                <a:cubicBezTo>
                  <a:pt x="690" y="306"/>
                  <a:pt x="147" y="341"/>
                  <a:pt x="147" y="358"/>
                </a:cubicBezTo>
                <a:cubicBezTo>
                  <a:pt x="147" y="375"/>
                  <a:pt x="690" y="374"/>
                  <a:pt x="689" y="391"/>
                </a:cubicBezTo>
                <a:cubicBezTo>
                  <a:pt x="689" y="409"/>
                  <a:pt x="144" y="450"/>
                  <a:pt x="144" y="467"/>
                </a:cubicBezTo>
                <a:cubicBezTo>
                  <a:pt x="144" y="484"/>
                  <a:pt x="689" y="476"/>
                  <a:pt x="689" y="492"/>
                </a:cubicBezTo>
                <a:cubicBezTo>
                  <a:pt x="689" y="509"/>
                  <a:pt x="144" y="547"/>
                  <a:pt x="144" y="568"/>
                </a:cubicBezTo>
                <a:cubicBezTo>
                  <a:pt x="144" y="589"/>
                  <a:pt x="689" y="602"/>
                  <a:pt x="689" y="619"/>
                </a:cubicBezTo>
                <a:cubicBezTo>
                  <a:pt x="689" y="636"/>
                  <a:pt x="144" y="652"/>
                  <a:pt x="144" y="669"/>
                </a:cubicBezTo>
                <a:cubicBezTo>
                  <a:pt x="144" y="687"/>
                  <a:pt x="691" y="705"/>
                  <a:pt x="691" y="722"/>
                </a:cubicBezTo>
                <a:cubicBezTo>
                  <a:pt x="691" y="739"/>
                  <a:pt x="144" y="752"/>
                  <a:pt x="144" y="770"/>
                </a:cubicBezTo>
                <a:cubicBezTo>
                  <a:pt x="144" y="789"/>
                  <a:pt x="691" y="816"/>
                  <a:pt x="691" y="832"/>
                </a:cubicBezTo>
                <a:cubicBezTo>
                  <a:pt x="691" y="849"/>
                  <a:pt x="144" y="853"/>
                  <a:pt x="144" y="871"/>
                </a:cubicBezTo>
                <a:cubicBezTo>
                  <a:pt x="143" y="889"/>
                  <a:pt x="686" y="922"/>
                  <a:pt x="687" y="939"/>
                </a:cubicBezTo>
                <a:cubicBezTo>
                  <a:pt x="687" y="956"/>
                  <a:pt x="147" y="953"/>
                  <a:pt x="147" y="972"/>
                </a:cubicBezTo>
                <a:cubicBezTo>
                  <a:pt x="147" y="990"/>
                  <a:pt x="687" y="1031"/>
                  <a:pt x="687" y="1050"/>
                </a:cubicBezTo>
                <a:cubicBezTo>
                  <a:pt x="686" y="1068"/>
                  <a:pt x="144" y="1067"/>
                  <a:pt x="143" y="1083"/>
                </a:cubicBezTo>
                <a:cubicBezTo>
                  <a:pt x="143" y="1099"/>
                  <a:pt x="682" y="1129"/>
                  <a:pt x="683" y="1145"/>
                </a:cubicBezTo>
                <a:cubicBezTo>
                  <a:pt x="683" y="1162"/>
                  <a:pt x="149" y="1167"/>
                  <a:pt x="147" y="1183"/>
                </a:cubicBezTo>
                <a:cubicBezTo>
                  <a:pt x="144" y="1199"/>
                  <a:pt x="666" y="1222"/>
                  <a:pt x="666" y="1240"/>
                </a:cubicBezTo>
                <a:cubicBezTo>
                  <a:pt x="666" y="1259"/>
                  <a:pt x="147" y="1278"/>
                  <a:pt x="147" y="1293"/>
                </a:cubicBezTo>
                <a:cubicBezTo>
                  <a:pt x="148" y="1309"/>
                  <a:pt x="670" y="1319"/>
                  <a:pt x="670" y="1334"/>
                </a:cubicBezTo>
                <a:cubicBezTo>
                  <a:pt x="671" y="1350"/>
                  <a:pt x="151" y="1373"/>
                  <a:pt x="151" y="1387"/>
                </a:cubicBezTo>
                <a:cubicBezTo>
                  <a:pt x="151" y="1402"/>
                  <a:pt x="671" y="1406"/>
                  <a:pt x="670" y="1421"/>
                </a:cubicBezTo>
                <a:cubicBezTo>
                  <a:pt x="670" y="1435"/>
                  <a:pt x="147" y="1460"/>
                  <a:pt x="147" y="1476"/>
                </a:cubicBezTo>
                <a:cubicBezTo>
                  <a:pt x="148" y="1493"/>
                  <a:pt x="674" y="1503"/>
                  <a:pt x="674" y="1523"/>
                </a:cubicBezTo>
                <a:cubicBezTo>
                  <a:pt x="674" y="1543"/>
                  <a:pt x="153" y="1566"/>
                  <a:pt x="150" y="1599"/>
                </a:cubicBezTo>
                <a:cubicBezTo>
                  <a:pt x="147" y="1632"/>
                  <a:pt x="666" y="1684"/>
                  <a:pt x="657" y="1719"/>
                </a:cubicBezTo>
                <a:cubicBezTo>
                  <a:pt x="648" y="1754"/>
                  <a:pt x="86" y="1776"/>
                  <a:pt x="96" y="1812"/>
                </a:cubicBezTo>
                <a:lnTo>
                  <a:pt x="717" y="1935"/>
                </a:lnTo>
                <a:lnTo>
                  <a:pt x="75" y="1998"/>
                </a:lnTo>
                <a:lnTo>
                  <a:pt x="807" y="2136"/>
                </a:lnTo>
                <a:lnTo>
                  <a:pt x="0" y="2274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28"/>
          <p:cNvSpPr/>
          <p:nvPr/>
        </p:nvSpPr>
        <p:spPr>
          <a:xfrm rot="7200000">
            <a:off x="4030920" y="2370600"/>
            <a:ext cx="173160" cy="666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30"/>
          <p:cNvSpPr/>
          <p:nvPr/>
        </p:nvSpPr>
        <p:spPr>
          <a:xfrm rot="5400000">
            <a:off x="3975840" y="2542320"/>
            <a:ext cx="17136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32"/>
          <p:cNvSpPr/>
          <p:nvPr/>
        </p:nvSpPr>
        <p:spPr>
          <a:xfrm rot="10737600">
            <a:off x="4471920" y="2101320"/>
            <a:ext cx="169920" cy="70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33"/>
          <p:cNvSpPr/>
          <p:nvPr/>
        </p:nvSpPr>
        <p:spPr>
          <a:xfrm rot="9805800">
            <a:off x="4295160" y="2138400"/>
            <a:ext cx="16812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34"/>
          <p:cNvSpPr/>
          <p:nvPr/>
        </p:nvSpPr>
        <p:spPr>
          <a:xfrm rot="1623000">
            <a:off x="4641840" y="2123640"/>
            <a:ext cx="16812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35"/>
          <p:cNvSpPr/>
          <p:nvPr/>
        </p:nvSpPr>
        <p:spPr>
          <a:xfrm rot="3331800">
            <a:off x="4907520" y="236916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37"/>
          <p:cNvSpPr/>
          <p:nvPr/>
        </p:nvSpPr>
        <p:spPr>
          <a:xfrm rot="3462600">
            <a:off x="5060520" y="4837320"/>
            <a:ext cx="173160" cy="680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38"/>
          <p:cNvSpPr/>
          <p:nvPr/>
        </p:nvSpPr>
        <p:spPr>
          <a:xfrm rot="4486800">
            <a:off x="4990680" y="4694400"/>
            <a:ext cx="173160" cy="680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39"/>
          <p:cNvSpPr/>
          <p:nvPr/>
        </p:nvSpPr>
        <p:spPr>
          <a:xfrm rot="5400000">
            <a:off x="4962240" y="451476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40"/>
          <p:cNvSpPr/>
          <p:nvPr/>
        </p:nvSpPr>
        <p:spPr>
          <a:xfrm rot="5400000">
            <a:off x="4962240" y="433548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41"/>
          <p:cNvSpPr/>
          <p:nvPr/>
        </p:nvSpPr>
        <p:spPr>
          <a:xfrm rot="5400000">
            <a:off x="4962600" y="415620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42"/>
          <p:cNvSpPr/>
          <p:nvPr/>
        </p:nvSpPr>
        <p:spPr>
          <a:xfrm rot="5400000">
            <a:off x="4963320" y="397584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43"/>
          <p:cNvSpPr/>
          <p:nvPr/>
        </p:nvSpPr>
        <p:spPr>
          <a:xfrm rot="5400000">
            <a:off x="4963320" y="379656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44"/>
          <p:cNvSpPr/>
          <p:nvPr/>
        </p:nvSpPr>
        <p:spPr>
          <a:xfrm rot="5400000">
            <a:off x="4963320" y="361728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45"/>
          <p:cNvSpPr/>
          <p:nvPr/>
        </p:nvSpPr>
        <p:spPr>
          <a:xfrm rot="5400000">
            <a:off x="4962240" y="343692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46"/>
          <p:cNvSpPr/>
          <p:nvPr/>
        </p:nvSpPr>
        <p:spPr>
          <a:xfrm rot="5400000">
            <a:off x="4962600" y="325764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47"/>
          <p:cNvSpPr/>
          <p:nvPr/>
        </p:nvSpPr>
        <p:spPr>
          <a:xfrm rot="5400000">
            <a:off x="4962240" y="307800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48"/>
          <p:cNvSpPr/>
          <p:nvPr/>
        </p:nvSpPr>
        <p:spPr>
          <a:xfrm rot="5400000">
            <a:off x="4962240" y="289872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49"/>
          <p:cNvSpPr/>
          <p:nvPr/>
        </p:nvSpPr>
        <p:spPr>
          <a:xfrm rot="5400000">
            <a:off x="4962600" y="271944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52"/>
          <p:cNvSpPr/>
          <p:nvPr/>
        </p:nvSpPr>
        <p:spPr>
          <a:xfrm rot="7639200">
            <a:off x="3861360" y="4674240"/>
            <a:ext cx="172800" cy="669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53"/>
          <p:cNvSpPr/>
          <p:nvPr/>
        </p:nvSpPr>
        <p:spPr>
          <a:xfrm rot="6811200">
            <a:off x="3953520" y="451080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54"/>
          <p:cNvSpPr/>
          <p:nvPr/>
        </p:nvSpPr>
        <p:spPr>
          <a:xfrm rot="5400000">
            <a:off x="3975480" y="433620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55"/>
          <p:cNvSpPr/>
          <p:nvPr/>
        </p:nvSpPr>
        <p:spPr>
          <a:xfrm rot="5400000">
            <a:off x="3975840" y="415692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6"/>
          <p:cNvSpPr/>
          <p:nvPr/>
        </p:nvSpPr>
        <p:spPr>
          <a:xfrm rot="5400000">
            <a:off x="3976560" y="397656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57"/>
          <p:cNvSpPr/>
          <p:nvPr/>
        </p:nvSpPr>
        <p:spPr>
          <a:xfrm rot="5400000">
            <a:off x="3976560" y="379728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58"/>
          <p:cNvSpPr/>
          <p:nvPr/>
        </p:nvSpPr>
        <p:spPr>
          <a:xfrm rot="5400000">
            <a:off x="3976560" y="361800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 rot="5400000">
            <a:off x="3975480" y="343764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60"/>
          <p:cNvSpPr/>
          <p:nvPr/>
        </p:nvSpPr>
        <p:spPr>
          <a:xfrm rot="5400000">
            <a:off x="3975840" y="325836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61"/>
          <p:cNvSpPr/>
          <p:nvPr/>
        </p:nvSpPr>
        <p:spPr>
          <a:xfrm rot="5400000">
            <a:off x="3975480" y="307872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62"/>
          <p:cNvSpPr/>
          <p:nvPr/>
        </p:nvSpPr>
        <p:spPr>
          <a:xfrm rot="5400000">
            <a:off x="3975480" y="289944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63"/>
          <p:cNvSpPr/>
          <p:nvPr/>
        </p:nvSpPr>
        <p:spPr>
          <a:xfrm rot="5400000">
            <a:off x="3975840" y="272016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64"/>
          <p:cNvSpPr/>
          <p:nvPr/>
        </p:nvSpPr>
        <p:spPr>
          <a:xfrm rot="5400000">
            <a:off x="4963320" y="2542320"/>
            <a:ext cx="17136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65"/>
          <p:cNvSpPr/>
          <p:nvPr/>
        </p:nvSpPr>
        <p:spPr>
          <a:xfrm rot="2901600">
            <a:off x="4793760" y="2227320"/>
            <a:ext cx="171720" cy="666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66"/>
          <p:cNvSpPr/>
          <p:nvPr/>
        </p:nvSpPr>
        <p:spPr>
          <a:xfrm rot="8557200">
            <a:off x="4149360" y="223200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70"/>
          <p:cNvSpPr/>
          <p:nvPr/>
        </p:nvSpPr>
        <p:spPr>
          <a:xfrm>
            <a:off x="5076720" y="257004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71"/>
          <p:cNvSpPr/>
          <p:nvPr/>
        </p:nvSpPr>
        <p:spPr>
          <a:xfrm>
            <a:off x="5076720" y="273852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72"/>
          <p:cNvSpPr/>
          <p:nvPr/>
        </p:nvSpPr>
        <p:spPr>
          <a:xfrm>
            <a:off x="5076720" y="289872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73"/>
          <p:cNvSpPr/>
          <p:nvPr/>
        </p:nvSpPr>
        <p:spPr>
          <a:xfrm>
            <a:off x="5076720" y="30988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74"/>
          <p:cNvSpPr/>
          <p:nvPr/>
        </p:nvSpPr>
        <p:spPr>
          <a:xfrm>
            <a:off x="5076720" y="32608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75"/>
          <p:cNvSpPr/>
          <p:nvPr/>
        </p:nvSpPr>
        <p:spPr>
          <a:xfrm>
            <a:off x="5076720" y="34606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76"/>
          <p:cNvSpPr/>
          <p:nvPr/>
        </p:nvSpPr>
        <p:spPr>
          <a:xfrm>
            <a:off x="5076720" y="362124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77"/>
          <p:cNvSpPr/>
          <p:nvPr/>
        </p:nvSpPr>
        <p:spPr>
          <a:xfrm>
            <a:off x="5076720" y="378144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78"/>
          <p:cNvSpPr/>
          <p:nvPr/>
        </p:nvSpPr>
        <p:spPr>
          <a:xfrm>
            <a:off x="5076720" y="394164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79"/>
          <p:cNvSpPr/>
          <p:nvPr/>
        </p:nvSpPr>
        <p:spPr>
          <a:xfrm>
            <a:off x="5076720" y="41022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80"/>
          <p:cNvSpPr/>
          <p:nvPr/>
        </p:nvSpPr>
        <p:spPr>
          <a:xfrm>
            <a:off x="5076720" y="42228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81"/>
          <p:cNvSpPr/>
          <p:nvPr/>
        </p:nvSpPr>
        <p:spPr>
          <a:xfrm>
            <a:off x="5076720" y="43434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82"/>
          <p:cNvSpPr/>
          <p:nvPr/>
        </p:nvSpPr>
        <p:spPr>
          <a:xfrm>
            <a:off x="5086440" y="450216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utoShape 83"/>
          <p:cNvSpPr/>
          <p:nvPr/>
        </p:nvSpPr>
        <p:spPr>
          <a:xfrm>
            <a:off x="5100480" y="462276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88"/>
          <p:cNvSpPr/>
          <p:nvPr/>
        </p:nvSpPr>
        <p:spPr>
          <a:xfrm>
            <a:off x="5045040" y="2417760"/>
            <a:ext cx="306360" cy="39600"/>
          </a:xfrm>
          <a:custGeom>
            <a:avLst/>
            <a:gdLst>
              <a:gd name="textAreaLeft" fmla="*/ 0 w 306360"/>
              <a:gd name="textAreaRight" fmla="*/ 306360 w 306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89"/>
          <p:cNvSpPr/>
          <p:nvPr/>
        </p:nvSpPr>
        <p:spPr>
          <a:xfrm rot="19789800">
            <a:off x="4978080" y="22363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90"/>
          <p:cNvSpPr/>
          <p:nvPr/>
        </p:nvSpPr>
        <p:spPr>
          <a:xfrm rot="18750600">
            <a:off x="4865040" y="2103840"/>
            <a:ext cx="312480" cy="38160"/>
          </a:xfrm>
          <a:custGeom>
            <a:avLst/>
            <a:gdLst>
              <a:gd name="textAreaLeft" fmla="*/ 0 w 312480"/>
              <a:gd name="textAreaRight" fmla="*/ 312840 w 312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91"/>
          <p:cNvSpPr/>
          <p:nvPr/>
        </p:nvSpPr>
        <p:spPr>
          <a:xfrm rot="18519000">
            <a:off x="4712760" y="2013120"/>
            <a:ext cx="314280" cy="39600"/>
          </a:xfrm>
          <a:custGeom>
            <a:avLst/>
            <a:gdLst>
              <a:gd name="textAreaLeft" fmla="*/ 0 w 314280"/>
              <a:gd name="textAreaRight" fmla="*/ 314640 w 314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92"/>
          <p:cNvSpPr/>
          <p:nvPr/>
        </p:nvSpPr>
        <p:spPr>
          <a:xfrm rot="16834800">
            <a:off x="4543200" y="1949040"/>
            <a:ext cx="312840" cy="39600"/>
          </a:xfrm>
          <a:custGeom>
            <a:avLst/>
            <a:gdLst>
              <a:gd name="textAreaLeft" fmla="*/ 0 w 312840"/>
              <a:gd name="textAreaRight" fmla="*/ 313200 w 31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93"/>
          <p:cNvSpPr/>
          <p:nvPr/>
        </p:nvSpPr>
        <p:spPr>
          <a:xfrm rot="16188000">
            <a:off x="4380480" y="1953000"/>
            <a:ext cx="314280" cy="39600"/>
          </a:xfrm>
          <a:custGeom>
            <a:avLst/>
            <a:gdLst>
              <a:gd name="textAreaLeft" fmla="*/ 0 w 314280"/>
              <a:gd name="textAreaRight" fmla="*/ 314640 w 314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94"/>
          <p:cNvSpPr/>
          <p:nvPr/>
        </p:nvSpPr>
        <p:spPr>
          <a:xfrm rot="15461400">
            <a:off x="4211640" y="1979640"/>
            <a:ext cx="312480" cy="39600"/>
          </a:xfrm>
          <a:custGeom>
            <a:avLst/>
            <a:gdLst>
              <a:gd name="textAreaLeft" fmla="*/ 0 w 312480"/>
              <a:gd name="textAreaRight" fmla="*/ 312840 w 312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95"/>
          <p:cNvSpPr/>
          <p:nvPr/>
        </p:nvSpPr>
        <p:spPr>
          <a:xfrm rot="14545800">
            <a:off x="4052520" y="2045520"/>
            <a:ext cx="314280" cy="41400"/>
          </a:xfrm>
          <a:custGeom>
            <a:avLst/>
            <a:gdLst>
              <a:gd name="textAreaLeft" fmla="*/ 0 w 314280"/>
              <a:gd name="textAreaRight" fmla="*/ 314640 w 31428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96"/>
          <p:cNvSpPr/>
          <p:nvPr/>
        </p:nvSpPr>
        <p:spPr>
          <a:xfrm rot="13860600">
            <a:off x="3922200" y="2160000"/>
            <a:ext cx="312840" cy="39600"/>
          </a:xfrm>
          <a:custGeom>
            <a:avLst/>
            <a:gdLst>
              <a:gd name="textAreaLeft" fmla="*/ 0 w 312840"/>
              <a:gd name="textAreaRight" fmla="*/ 313200 w 31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97"/>
          <p:cNvSpPr/>
          <p:nvPr/>
        </p:nvSpPr>
        <p:spPr>
          <a:xfrm rot="11930400">
            <a:off x="3820680" y="23032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98"/>
          <p:cNvSpPr/>
          <p:nvPr/>
        </p:nvSpPr>
        <p:spPr>
          <a:xfrm rot="10785600">
            <a:off x="3777480" y="2436480"/>
            <a:ext cx="306360" cy="39600"/>
          </a:xfrm>
          <a:custGeom>
            <a:avLst/>
            <a:gdLst>
              <a:gd name="textAreaLeft" fmla="*/ 0 w 306360"/>
              <a:gd name="textAreaRight" fmla="*/ 306360 w 306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04"/>
          <p:cNvSpPr/>
          <p:nvPr/>
        </p:nvSpPr>
        <p:spPr>
          <a:xfrm rot="10785600">
            <a:off x="3733200" y="2684160"/>
            <a:ext cx="307800" cy="41040"/>
          </a:xfrm>
          <a:custGeom>
            <a:avLst/>
            <a:gdLst>
              <a:gd name="textAreaLeft" fmla="*/ 0 w 307800"/>
              <a:gd name="textAreaRight" fmla="*/ 308160 w 3078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105"/>
          <p:cNvSpPr/>
          <p:nvPr/>
        </p:nvSpPr>
        <p:spPr>
          <a:xfrm rot="10785600">
            <a:off x="3733200" y="27979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106"/>
          <p:cNvSpPr/>
          <p:nvPr/>
        </p:nvSpPr>
        <p:spPr>
          <a:xfrm rot="10785600">
            <a:off x="3733200" y="29174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07"/>
          <p:cNvSpPr/>
          <p:nvPr/>
        </p:nvSpPr>
        <p:spPr>
          <a:xfrm rot="10785600">
            <a:off x="3733200" y="30571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08"/>
          <p:cNvSpPr/>
          <p:nvPr/>
        </p:nvSpPr>
        <p:spPr>
          <a:xfrm rot="10785600">
            <a:off x="3733200" y="319536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09"/>
          <p:cNvSpPr/>
          <p:nvPr/>
        </p:nvSpPr>
        <p:spPr>
          <a:xfrm rot="10785600">
            <a:off x="3733200" y="335556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110"/>
          <p:cNvSpPr/>
          <p:nvPr/>
        </p:nvSpPr>
        <p:spPr>
          <a:xfrm rot="10785600">
            <a:off x="3733200" y="350640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1"/>
          <p:cNvSpPr/>
          <p:nvPr/>
        </p:nvSpPr>
        <p:spPr>
          <a:xfrm rot="10785600">
            <a:off x="3733200" y="366948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12"/>
          <p:cNvSpPr/>
          <p:nvPr/>
        </p:nvSpPr>
        <p:spPr>
          <a:xfrm rot="10785600">
            <a:off x="3733200" y="38239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13"/>
          <p:cNvSpPr/>
          <p:nvPr/>
        </p:nvSpPr>
        <p:spPr>
          <a:xfrm rot="10785600">
            <a:off x="3733200" y="395676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14"/>
          <p:cNvSpPr/>
          <p:nvPr/>
        </p:nvSpPr>
        <p:spPr>
          <a:xfrm rot="10785600">
            <a:off x="3733200" y="42235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15"/>
          <p:cNvSpPr/>
          <p:nvPr/>
        </p:nvSpPr>
        <p:spPr>
          <a:xfrm rot="10785600">
            <a:off x="3733200" y="435888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116"/>
          <p:cNvSpPr/>
          <p:nvPr/>
        </p:nvSpPr>
        <p:spPr>
          <a:xfrm rot="10785600">
            <a:off x="3706200" y="44924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121"/>
          <p:cNvSpPr/>
          <p:nvPr/>
        </p:nvSpPr>
        <p:spPr>
          <a:xfrm rot="10785600">
            <a:off x="3733200" y="408600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22"/>
          <p:cNvSpPr/>
          <p:nvPr/>
        </p:nvSpPr>
        <p:spPr>
          <a:xfrm rot="10785600">
            <a:off x="3733200" y="25693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35"/>
          <p:cNvSpPr/>
          <p:nvPr/>
        </p:nvSpPr>
        <p:spPr>
          <a:xfrm>
            <a:off x="5553000" y="5018040"/>
            <a:ext cx="16848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136"/>
          <p:cNvSpPr/>
          <p:nvPr/>
        </p:nvSpPr>
        <p:spPr>
          <a:xfrm rot="349200">
            <a:off x="5376600" y="500364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37"/>
          <p:cNvSpPr/>
          <p:nvPr/>
        </p:nvSpPr>
        <p:spPr>
          <a:xfrm rot="1156800">
            <a:off x="5195520" y="495288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140"/>
          <p:cNvSpPr/>
          <p:nvPr/>
        </p:nvSpPr>
        <p:spPr>
          <a:xfrm rot="19873800">
            <a:off x="3709800" y="478584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141"/>
          <p:cNvSpPr/>
          <p:nvPr/>
        </p:nvSpPr>
        <p:spPr>
          <a:xfrm rot="21279600">
            <a:off x="3538440" y="483660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142"/>
          <p:cNvSpPr/>
          <p:nvPr/>
        </p:nvSpPr>
        <p:spPr>
          <a:xfrm rot="21490800">
            <a:off x="3362040" y="485100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144"/>
          <p:cNvSpPr/>
          <p:nvPr/>
        </p:nvSpPr>
        <p:spPr>
          <a:xfrm rot="16185600">
            <a:off x="2380320" y="47660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46"/>
          <p:cNvSpPr/>
          <p:nvPr/>
        </p:nvSpPr>
        <p:spPr>
          <a:xfrm rot="14617200">
            <a:off x="3542040" y="46580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47"/>
          <p:cNvSpPr/>
          <p:nvPr/>
        </p:nvSpPr>
        <p:spPr>
          <a:xfrm rot="16185600">
            <a:off x="3371040" y="46897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48"/>
          <p:cNvSpPr/>
          <p:nvPr/>
        </p:nvSpPr>
        <p:spPr>
          <a:xfrm rot="16185600">
            <a:off x="3066120" y="46897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49"/>
          <p:cNvSpPr/>
          <p:nvPr/>
        </p:nvSpPr>
        <p:spPr>
          <a:xfrm rot="16185600">
            <a:off x="2766240" y="472788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50"/>
          <p:cNvSpPr/>
          <p:nvPr/>
        </p:nvSpPr>
        <p:spPr>
          <a:xfrm rot="16185600">
            <a:off x="1847160" y="476568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51"/>
          <p:cNvSpPr/>
          <p:nvPr/>
        </p:nvSpPr>
        <p:spPr>
          <a:xfrm rot="16185600">
            <a:off x="53521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53"/>
          <p:cNvSpPr/>
          <p:nvPr/>
        </p:nvSpPr>
        <p:spPr>
          <a:xfrm rot="16185600">
            <a:off x="588564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54"/>
          <p:cNvSpPr/>
          <p:nvPr/>
        </p:nvSpPr>
        <p:spPr>
          <a:xfrm rot="16185600">
            <a:off x="5504760" y="487044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55"/>
          <p:cNvSpPr/>
          <p:nvPr/>
        </p:nvSpPr>
        <p:spPr>
          <a:xfrm rot="16185600">
            <a:off x="6190200" y="484236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159"/>
          <p:cNvSpPr/>
          <p:nvPr/>
        </p:nvSpPr>
        <p:spPr>
          <a:xfrm rot="19234200">
            <a:off x="5181480" y="478476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160"/>
          <p:cNvSpPr/>
          <p:nvPr/>
        </p:nvSpPr>
        <p:spPr>
          <a:xfrm rot="16185600">
            <a:off x="67237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164"/>
          <p:cNvSpPr/>
          <p:nvPr/>
        </p:nvSpPr>
        <p:spPr>
          <a:xfrm rot="16185600">
            <a:off x="7333200" y="484236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166"/>
          <p:cNvSpPr/>
          <p:nvPr/>
        </p:nvSpPr>
        <p:spPr>
          <a:xfrm rot="16185600">
            <a:off x="78667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170"/>
          <p:cNvSpPr/>
          <p:nvPr/>
        </p:nvSpPr>
        <p:spPr>
          <a:xfrm rot="16185600">
            <a:off x="1085040" y="48042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75"/>
          <p:cNvSpPr/>
          <p:nvPr/>
        </p:nvSpPr>
        <p:spPr>
          <a:xfrm>
            <a:off x="4427640" y="3697200"/>
            <a:ext cx="1886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76"/>
          <p:cNvSpPr/>
          <p:nvPr/>
        </p:nvSpPr>
        <p:spPr>
          <a:xfrm>
            <a:off x="4475160" y="462456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77"/>
          <p:cNvSpPr/>
          <p:nvPr/>
        </p:nvSpPr>
        <p:spPr>
          <a:xfrm>
            <a:off x="4238640" y="424512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178"/>
          <p:cNvSpPr/>
          <p:nvPr/>
        </p:nvSpPr>
        <p:spPr>
          <a:xfrm>
            <a:off x="4038480" y="572292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179"/>
          <p:cNvSpPr/>
          <p:nvPr/>
        </p:nvSpPr>
        <p:spPr>
          <a:xfrm>
            <a:off x="4664160" y="344340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180"/>
          <p:cNvSpPr/>
          <p:nvPr/>
        </p:nvSpPr>
        <p:spPr>
          <a:xfrm>
            <a:off x="4191120" y="3191040"/>
            <a:ext cx="1886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181"/>
          <p:cNvSpPr/>
          <p:nvPr/>
        </p:nvSpPr>
        <p:spPr>
          <a:xfrm>
            <a:off x="4805280" y="2979720"/>
            <a:ext cx="1904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182"/>
          <p:cNvSpPr/>
          <p:nvPr/>
        </p:nvSpPr>
        <p:spPr>
          <a:xfrm>
            <a:off x="4238640" y="293688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83"/>
          <p:cNvSpPr/>
          <p:nvPr/>
        </p:nvSpPr>
        <p:spPr>
          <a:xfrm>
            <a:off x="4522680" y="272556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84"/>
          <p:cNvSpPr/>
          <p:nvPr/>
        </p:nvSpPr>
        <p:spPr>
          <a:xfrm>
            <a:off x="4286160" y="251460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85"/>
          <p:cNvSpPr/>
          <p:nvPr/>
        </p:nvSpPr>
        <p:spPr>
          <a:xfrm>
            <a:off x="4568760" y="2346480"/>
            <a:ext cx="1904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86"/>
          <p:cNvSpPr/>
          <p:nvPr/>
        </p:nvSpPr>
        <p:spPr>
          <a:xfrm>
            <a:off x="4616280" y="424512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87"/>
          <p:cNvSpPr/>
          <p:nvPr/>
        </p:nvSpPr>
        <p:spPr>
          <a:xfrm>
            <a:off x="4724280" y="481824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90"/>
          <p:cNvSpPr/>
          <p:nvPr/>
        </p:nvSpPr>
        <p:spPr>
          <a:xfrm>
            <a:off x="5715000" y="524196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91"/>
          <p:cNvSpPr/>
          <p:nvPr/>
        </p:nvSpPr>
        <p:spPr>
          <a:xfrm flipH="1">
            <a:off x="4800600" y="5470560"/>
            <a:ext cx="99072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92"/>
          <p:cNvSpPr/>
          <p:nvPr/>
        </p:nvSpPr>
        <p:spPr>
          <a:xfrm>
            <a:off x="4267080" y="497520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93"/>
          <p:cNvSpPr/>
          <p:nvPr/>
        </p:nvSpPr>
        <p:spPr>
          <a:xfrm>
            <a:off x="4191120" y="5318280"/>
            <a:ext cx="1886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94"/>
          <p:cNvSpPr/>
          <p:nvPr/>
        </p:nvSpPr>
        <p:spPr>
          <a:xfrm>
            <a:off x="4648320" y="5470560"/>
            <a:ext cx="1886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95"/>
          <p:cNvSpPr/>
          <p:nvPr/>
        </p:nvSpPr>
        <p:spPr>
          <a:xfrm>
            <a:off x="762120" y="53942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96"/>
          <p:cNvSpPr/>
          <p:nvPr/>
        </p:nvSpPr>
        <p:spPr>
          <a:xfrm>
            <a:off x="762120" y="2727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99"/>
          <p:cNvSpPr/>
          <p:nvPr/>
        </p:nvSpPr>
        <p:spPr>
          <a:xfrm flipH="1">
            <a:off x="5028840" y="3429000"/>
            <a:ext cx="1066680" cy="380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00"/>
          <p:cNvSpPr/>
          <p:nvPr/>
        </p:nvSpPr>
        <p:spPr>
          <a:xfrm>
            <a:off x="6080040" y="30877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DC0-8F8F-4F64-ACFE-D62330CF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OINTS TO NOTE ABOUT 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Entire cycle occurs in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RNA polymerase and RNA modification enzym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Virally 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Present in the vi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ere is no early/late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89B-C744-4716-AB18-5C781148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7040" y="21733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(POSI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662940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4343400" y="5410080"/>
            <a:ext cx="3206520" cy="307080"/>
            <a:chOff x="4343400" y="5410080"/>
            <a:chExt cx="3206520" cy="307080"/>
          </a:xfrm>
        </p:grpSpPr>
        <p:sp>
          <p:nvSpPr>
            <p:cNvPr id="71" name="Line 6"/>
            <p:cNvSpPr/>
            <p:nvPr/>
          </p:nvSpPr>
          <p:spPr>
            <a:xfrm>
              <a:off x="4496040" y="556236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7012440" y="5410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4343400" y="544824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3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Line 14"/>
          <p:cNvSpPr/>
          <p:nvPr/>
        </p:nvSpPr>
        <p:spPr>
          <a:xfrm flipV="1">
            <a:off x="571500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5029200" y="4267080"/>
            <a:ext cx="1362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48040" y="524196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A71-E28F-4D4E-BEA9-3660C460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47120" y="217332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(NEGA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85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2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Line 13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642D-4640-4AF1-9F41-3004C50C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1360" y="217332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(NEGA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A polymerase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102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2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Line 13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used, 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3B6-6076-4CB4-8078-6689E843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441360" y="21733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STRANDED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28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29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30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120" name="Line 1031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32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33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034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035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Line 1036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037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127" name="Line 1038"/>
          <p:cNvSpPr/>
          <p:nvPr/>
        </p:nvSpPr>
        <p:spPr>
          <a:xfrm>
            <a:off x="4343400" y="5562720"/>
            <a:ext cx="38098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9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40"/>
          <p:cNvSpPr/>
          <p:nvPr/>
        </p:nvSpPr>
        <p:spPr>
          <a:xfrm>
            <a:off x="4492440" y="5216400"/>
            <a:ext cx="37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uble-stranded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41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42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used, 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43"/>
          <p:cNvSpPr/>
          <p:nvPr/>
        </p:nvSpPr>
        <p:spPr>
          <a:xfrm>
            <a:off x="380880" y="31240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A polymerase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44"/>
          <p:cNvSpPr/>
          <p:nvPr/>
        </p:nvSpPr>
        <p:spPr>
          <a:xfrm>
            <a:off x="4343400" y="5715000"/>
            <a:ext cx="38098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45"/>
          <p:cNvSpPr/>
          <p:nvPr/>
        </p:nvSpPr>
        <p:spPr>
          <a:xfrm>
            <a:off x="4419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46"/>
          <p:cNvSpPr/>
          <p:nvPr/>
        </p:nvSpPr>
        <p:spPr>
          <a:xfrm>
            <a:off x="4495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47"/>
          <p:cNvSpPr/>
          <p:nvPr/>
        </p:nvSpPr>
        <p:spPr>
          <a:xfrm>
            <a:off x="4572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48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49"/>
          <p:cNvSpPr/>
          <p:nvPr/>
        </p:nvSpPr>
        <p:spPr>
          <a:xfrm>
            <a:off x="4724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50"/>
          <p:cNvSpPr/>
          <p:nvPr/>
        </p:nvSpPr>
        <p:spPr>
          <a:xfrm>
            <a:off x="4800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51"/>
          <p:cNvSpPr/>
          <p:nvPr/>
        </p:nvSpPr>
        <p:spPr>
          <a:xfrm>
            <a:off x="4876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52"/>
          <p:cNvSpPr/>
          <p:nvPr/>
        </p:nvSpPr>
        <p:spPr>
          <a:xfrm>
            <a:off x="4952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53"/>
          <p:cNvSpPr/>
          <p:nvPr/>
        </p:nvSpPr>
        <p:spPr>
          <a:xfrm>
            <a:off x="5029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54"/>
          <p:cNvSpPr/>
          <p:nvPr/>
        </p:nvSpPr>
        <p:spPr>
          <a:xfrm>
            <a:off x="5105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55"/>
          <p:cNvSpPr/>
          <p:nvPr/>
        </p:nvSpPr>
        <p:spPr>
          <a:xfrm>
            <a:off x="5181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56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57"/>
          <p:cNvSpPr/>
          <p:nvPr/>
        </p:nvSpPr>
        <p:spPr>
          <a:xfrm>
            <a:off x="5334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58"/>
          <p:cNvSpPr/>
          <p:nvPr/>
        </p:nvSpPr>
        <p:spPr>
          <a:xfrm>
            <a:off x="5486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59"/>
          <p:cNvSpPr/>
          <p:nvPr/>
        </p:nvSpPr>
        <p:spPr>
          <a:xfrm>
            <a:off x="5410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60"/>
          <p:cNvSpPr/>
          <p:nvPr/>
        </p:nvSpPr>
        <p:spPr>
          <a:xfrm>
            <a:off x="5562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61"/>
          <p:cNvSpPr/>
          <p:nvPr/>
        </p:nvSpPr>
        <p:spPr>
          <a:xfrm>
            <a:off x="5638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62"/>
          <p:cNvSpPr/>
          <p:nvPr/>
        </p:nvSpPr>
        <p:spPr>
          <a:xfrm>
            <a:off x="5715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63"/>
          <p:cNvSpPr/>
          <p:nvPr/>
        </p:nvSpPr>
        <p:spPr>
          <a:xfrm>
            <a:off x="5791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64"/>
          <p:cNvSpPr/>
          <p:nvPr/>
        </p:nvSpPr>
        <p:spPr>
          <a:xfrm>
            <a:off x="5867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65"/>
          <p:cNvSpPr/>
          <p:nvPr/>
        </p:nvSpPr>
        <p:spPr>
          <a:xfrm>
            <a:off x="5943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66"/>
          <p:cNvSpPr/>
          <p:nvPr/>
        </p:nvSpPr>
        <p:spPr>
          <a:xfrm>
            <a:off x="6019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67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68"/>
          <p:cNvSpPr/>
          <p:nvPr/>
        </p:nvSpPr>
        <p:spPr>
          <a:xfrm>
            <a:off x="6248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69"/>
          <p:cNvSpPr/>
          <p:nvPr/>
        </p:nvSpPr>
        <p:spPr>
          <a:xfrm>
            <a:off x="6172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70"/>
          <p:cNvSpPr/>
          <p:nvPr/>
        </p:nvSpPr>
        <p:spPr>
          <a:xfrm>
            <a:off x="6324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71"/>
          <p:cNvSpPr/>
          <p:nvPr/>
        </p:nvSpPr>
        <p:spPr>
          <a:xfrm>
            <a:off x="6400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72"/>
          <p:cNvSpPr/>
          <p:nvPr/>
        </p:nvSpPr>
        <p:spPr>
          <a:xfrm>
            <a:off x="6477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73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74"/>
          <p:cNvSpPr/>
          <p:nvPr/>
        </p:nvSpPr>
        <p:spPr>
          <a:xfrm>
            <a:off x="6629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75"/>
          <p:cNvSpPr/>
          <p:nvPr/>
        </p:nvSpPr>
        <p:spPr>
          <a:xfrm>
            <a:off x="6705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76"/>
          <p:cNvSpPr/>
          <p:nvPr/>
        </p:nvSpPr>
        <p:spPr>
          <a:xfrm>
            <a:off x="6858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77"/>
          <p:cNvSpPr/>
          <p:nvPr/>
        </p:nvSpPr>
        <p:spPr>
          <a:xfrm>
            <a:off x="6781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78"/>
          <p:cNvSpPr/>
          <p:nvPr/>
        </p:nvSpPr>
        <p:spPr>
          <a:xfrm>
            <a:off x="6934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79"/>
          <p:cNvSpPr/>
          <p:nvPr/>
        </p:nvSpPr>
        <p:spPr>
          <a:xfrm>
            <a:off x="7010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80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81"/>
          <p:cNvSpPr/>
          <p:nvPr/>
        </p:nvSpPr>
        <p:spPr>
          <a:xfrm>
            <a:off x="7162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8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83"/>
          <p:cNvSpPr/>
          <p:nvPr/>
        </p:nvSpPr>
        <p:spPr>
          <a:xfrm>
            <a:off x="7315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84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85"/>
          <p:cNvSpPr/>
          <p:nvPr/>
        </p:nvSpPr>
        <p:spPr>
          <a:xfrm>
            <a:off x="7391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86"/>
          <p:cNvSpPr/>
          <p:nvPr/>
        </p:nvSpPr>
        <p:spPr>
          <a:xfrm>
            <a:off x="7543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87"/>
          <p:cNvSpPr/>
          <p:nvPr/>
        </p:nvSpPr>
        <p:spPr>
          <a:xfrm>
            <a:off x="7620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88"/>
          <p:cNvSpPr/>
          <p:nvPr/>
        </p:nvSpPr>
        <p:spPr>
          <a:xfrm>
            <a:off x="7696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89"/>
          <p:cNvSpPr/>
          <p:nvPr/>
        </p:nvSpPr>
        <p:spPr>
          <a:xfrm>
            <a:off x="7772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90"/>
          <p:cNvSpPr/>
          <p:nvPr/>
        </p:nvSpPr>
        <p:spPr>
          <a:xfrm>
            <a:off x="7848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91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92"/>
          <p:cNvSpPr/>
          <p:nvPr/>
        </p:nvSpPr>
        <p:spPr>
          <a:xfrm>
            <a:off x="8077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93"/>
          <p:cNvSpPr/>
          <p:nvPr/>
        </p:nvSpPr>
        <p:spPr>
          <a:xfrm>
            <a:off x="8001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0E3-A4AF-4B21-B660-96CE58AC8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41360" y="21733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62940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1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13"/>
          <p:cNvSpPr/>
          <p:nvPr/>
        </p:nvSpPr>
        <p:spPr>
          <a:xfrm>
            <a:off x="4267080" y="46483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+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524560" y="35053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5181480" y="42670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28195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verse transcriptase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 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E49E-F0BD-47F0-8BA8-A48A50CC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1447920"/>
          <a:ext cx="8001000" cy="4724280"/>
        </p:xfrm>
        <a:graphic>
          <a:graphicData uri="http://schemas.openxmlformats.org/drawingml/2006/table">
            <a:tbl>
              <a:tblPr/>
              <a:tblGrid>
                <a:gridCol w="2000520"/>
                <a:gridCol w="2114280"/>
                <a:gridCol w="1828800"/>
                <a:gridCol w="20574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-dependent RNA polymer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transcriptase) IN VI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vity of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event in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Plus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gative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Double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viruses that do NOT have a DNA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8:27:14Z</dcterms:created>
  <dc:creator>Preferred Customer</dc:creator>
  <dc:description/>
  <dc:language>en-US</dc:language>
  <cp:lastModifiedBy>sarim shahid</cp:lastModifiedBy>
  <cp:lastPrinted>1999-10-12T20:25:45Z</cp:lastPrinted>
  <dcterms:modified xsi:type="dcterms:W3CDTF">2010-11-29T12:22:48Z</dcterms:modified>
  <cp:revision>80</cp:revision>
  <dc:subject/>
  <dc:title>RNA VIRUS REPLICATION STRATEGIES</dc:title>
</cp:coreProperties>
</file>