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715C-73BB-42A7-BD3F-941FA293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E358-E081-4EAB-9B09-4122E42E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AB6E-4D95-4614-A5D5-438DCD1D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E517-D2BF-4FDA-8C57-274868B5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21DE-F90F-4FF0-B1EE-600DD326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0C42-36F3-42DD-BA00-45DDE316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BEF9-DC4D-4458-81EA-800E0C42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195-C5C1-4EFF-BF51-AD7ACF10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83B9-3859-4B54-B619-B785015B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48A3-CE31-4D74-8265-30CAD959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3144-ACEB-4D7D-81DE-87D986AF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E86-958F-45D4-B666-80234660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132D-0325-4BE8-B30D-9FD2A8009B76}" type="slidenum">
              <a:rPr b="0" lang="en-US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5B0C-5955-4A7A-9FD6-FCE283EEBB80}" type="slidenum"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/16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0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0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0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0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0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1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1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1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2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2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26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28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29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32" name="Picture 1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34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35" name="Picture 13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4">
              <a:hlinkClick r:id="rId7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39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41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42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45" name="Picture 10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47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48" name="Picture 13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4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8:06:47Z</dcterms:created>
  <dc:creator>최봉수</dc:creator>
  <dc:description/>
  <dc:language>en-US</dc:language>
  <cp:lastModifiedBy>맛있다 군만두</cp:lastModifiedBy>
  <dcterms:modified xsi:type="dcterms:W3CDTF">2023-07-13T08:19:45Z</dcterms:modified>
  <cp:revision>4</cp:revision>
  <dc:subject/>
  <dc:title>슬라이드 1</dc:title>
</cp:coreProperties>
</file>