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ED4-A0F7-4789-BBAE-AB8F30D4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E73-9E36-4492-907F-2DE9DD8D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8B4-F926-4A45-B150-6BCA7A8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4B5-2970-432D-983D-2555CD7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D91-733C-4D3E-8099-B4F6A9A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AE2-F33A-4B4B-AC26-A4BEEAF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005-20EF-47DD-863C-1D3D16E2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9AB-402E-49A8-8A2D-E35457D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BF4-E484-4413-99CB-DCBCC35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BA9-8058-4982-84B6-985B015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33F-D087-42FD-92CC-7BAB78C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001-DF9B-4B4D-8EFD-8C900D5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C46-523B-4D9D-B231-07A728947713}" type="slidenum">
              <a:rPr b="0" lang="en-US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8B6-0BD5-41F0-BCFA-39540A2D913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06:47Z</dcterms:created>
  <dc:creator>최봉수</dc:creator>
  <dc:description/>
  <dc:language>en-US</dc:language>
  <cp:lastModifiedBy>맛있다 군만두</cp:lastModifiedBy>
  <dcterms:modified xsi:type="dcterms:W3CDTF">2023-07-13T08:19:45Z</dcterms:modified>
  <cp:revision>4</cp:revision>
  <dc:subject/>
  <dc:title>슬라이드 1</dc:title>
</cp:coreProperties>
</file>