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3.jpeg" ContentType="image/jpeg"/>
  <Override PartName="/ppt/media/image28.jpeg" ContentType="image/jpeg"/>
  <Override PartName="/ppt/media/ghjg.wav" ContentType="audio/x-wav"/>
  <Override PartName="/ppt/media/image7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9.jpeg" ContentType="image/jpeg"/>
  <Override PartName="/ppt/media/image35.jpeg" ContentType="image/jpeg"/>
  <Override PartName="/ppt/media/image10.jpeg" ContentType="image/jpeg"/>
  <Override PartName="/ppt/media/image34.jpeg" ContentType="image/jpeg"/>
  <Override PartName="/ppt/media/image37.png" ContentType="image/png"/>
  <Override PartName="/ppt/media/image36.png" ContentType="image/png"/>
  <Override PartName="/ppt/media/image40.gif" ContentType="image/gif"/>
  <Override PartName="/ppt/media/image38.png" ContentType="image/png"/>
  <Override PartName="/ppt/media/image8.jpeg" ContentType="image/jpeg"/>
  <Override PartName="/ppt/media/image39.jpeg" ContentType="image/jpeg"/>
  <Override PartName="/ppt/media/Bach%20Johann%20Sebastian%20(Track%2001)%20(2).wav" ContentType="audio/x-wav"/>
  <Override PartName="/ppt/media/image5.jpeg" ContentType="image/jpeg"/>
  <Override PartName="/ppt/media/image25.jpeg" ContentType="image/jpeg"/>
  <Override PartName="/ppt/media/image32.png" ContentType="image/png"/>
  <Override PartName="/ppt/media/image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CB244-B660-46C9-A901-FFBA3BFF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499EF-76E5-4214-91E4-BA0ABE5D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98114-C56D-4C00-8CCB-85562109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92D0C-59C6-4675-98BE-0224A97F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05C0-5F08-4852-B71C-CF83156D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B0DA-C0A8-4685-96F1-824255A5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2D3C-B792-4F48-BF08-8555D53F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3C55-8201-4D47-B33E-B71B1244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0E15-4194-4237-AEEE-E7AC4098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631C-A936-468C-BBA4-5639E516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32E6-60D5-4119-BD05-E1A13C69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0EB0C-33F7-4B20-8512-ECBF713D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4697-5E0C-408C-9E33-16180ACC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7C88-BE6D-4196-9B44-4D526C8B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E934-6445-4045-BAB7-30290E37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4CAF-CD6F-45FA-A2E0-C2B6D2CE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1809-3367-4E9D-8823-5D96491C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1366B-CFB6-42D9-81A8-BA105130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6B488-F76C-4983-97D9-5E7FD5DD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375D3-2270-4FE6-A780-3ED13787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EFD1D-59AA-4E55-919F-2F107B3E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F1F74-C9A7-4E6C-B2E3-EFF52C54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79986-CFCC-488B-8C39-BFAE0517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41883-FCB0-4B7F-A891-972F891C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089B-A644-4950-BEF7-F398DF43973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F610-7BBD-4DD1-AE1D-78CB7450892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audio" Target="../media/Bach%20Johann%20Sebastian%20(Track%2001)%20(2)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ghjg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11280" y="692280"/>
            <a:ext cx="828180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oneelvriende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-Joris Alken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132000" y="5516640"/>
            <a:ext cx="2743200" cy="63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0-01-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6588000" y="5300640"/>
            <a:ext cx="2340000" cy="1143000"/>
          </a:xfrm>
          <a:prstGeom prst="rect">
            <a:avLst/>
          </a:prstGeom>
          <a:ln w="0">
            <a:noFill/>
          </a:ln>
        </p:spPr>
      </p:pic>
    </p:spTree>
  </p:cSld>
  <p:transition advTm="9000">
    <p:blinds dir="horz"/>
    <p:sndAc>
      <p:stSnd>
        <p:snd r:embed="rId6" name="Bach%20Johann%20Sebastian%20(Track%2001)%20(2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2120" y="9360"/>
            <a:ext cx="7619760" cy="68392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advTm="6000">
    <p:cover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u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71680" y="98280"/>
            <a:ext cx="7999200" cy="6659640"/>
          </a:xfrm>
          <a:prstGeom prst="rect">
            <a:avLst/>
          </a:prstGeom>
          <a:ln w="0">
            <a:noFill/>
          </a:ln>
        </p:spPr>
      </p:pic>
    </p:spTree>
  </p:cSld>
  <p:transition advTm="9000">
    <p:cut thruBlk="true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advTm="8000"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6399360" cy="1930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7999560" cy="241920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1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42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155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1155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115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115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79320" y="281160"/>
            <a:ext cx="7783560" cy="6294240"/>
          </a:xfrm>
          <a:prstGeom prst="rect">
            <a:avLst/>
          </a:prstGeom>
          <a:ln w="0">
            <a:noFill/>
          </a:ln>
        </p:spPr>
      </p:pic>
    </p:spTree>
  </p:cSld>
  <p:transition advTm="9000">
    <p:circl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79320" y="57240"/>
            <a:ext cx="7783560" cy="6742080"/>
          </a:xfrm>
          <a:prstGeom prst="rect">
            <a:avLst/>
          </a:prstGeom>
          <a:ln w="0">
            <a:noFill/>
          </a:ln>
        </p:spPr>
      </p:pic>
    </p:spTree>
  </p:cSld>
  <p:transition advTm="10000"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advTm="9000">
    <p:plus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1919160"/>
            <a:ext cx="7619760" cy="3019680"/>
          </a:xfrm>
          <a:prstGeom prst="rect">
            <a:avLst/>
          </a:prstGeom>
          <a:ln w="0">
            <a:noFill/>
          </a:ln>
        </p:spPr>
      </p:pic>
    </p:spTree>
  </p:cSld>
  <p:transition advTm="9000">
    <p:wedg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71640" y="36360"/>
            <a:ext cx="6964200" cy="6821640"/>
          </a:xfrm>
          <a:prstGeom prst="rect">
            <a:avLst/>
          </a:prstGeom>
          <a:ln w="0">
            <a:noFill/>
          </a:ln>
        </p:spPr>
      </p:pic>
    </p:spTree>
  </p:cSld>
  <p:transition advTm="8000">
    <p:strips dir="r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55600" y="2114640"/>
            <a:ext cx="6831000" cy="2627280"/>
          </a:xfrm>
          <a:prstGeom prst="rect">
            <a:avLst/>
          </a:prstGeom>
          <a:ln w="0">
            <a:noFill/>
          </a:ln>
        </p:spPr>
      </p:pic>
    </p:spTree>
  </p:cSld>
  <p:transition advTm="10000">
    <p:pull dir="l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1106640"/>
            <a:ext cx="9144000" cy="4644720"/>
          </a:xfrm>
          <a:prstGeom prst="rect">
            <a:avLst/>
          </a:prstGeom>
          <a:ln w="0">
            <a:noFill/>
          </a:ln>
        </p:spPr>
      </p:pic>
    </p:spTree>
  </p:cSld>
  <p:transition advTm="9000">
    <p:circl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155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1155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1155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1155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advTm="9000">
    <p:wheel spokes="8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94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00720" cy="3486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0" y="348300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4572000" y="3483000"/>
            <a:ext cx="4572000" cy="3375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0" y="348300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tretch/>
        </p:blipFill>
        <p:spPr>
          <a:xfrm>
            <a:off x="4572000" y="3483000"/>
            <a:ext cx="4572000" cy="3375000"/>
          </a:xfrm>
          <a:prstGeom prst="rect">
            <a:avLst/>
          </a:prstGeom>
          <a:ln w="0">
            <a:noFill/>
          </a:ln>
        </p:spPr>
      </p:pic>
    </p:spTree>
  </p:cSld>
  <p:transition advTm="20000">
    <p:wipe dir="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0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500"/>
                            </p:stCondLst>
                            <p:childTnLst>
                              <p:par>
                                <p:cTn id="3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9000"/>
                            </p:stCondLst>
                            <p:childTnLst>
                              <p:par>
                                <p:cTn id="3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9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647720"/>
            <a:ext cx="9144000" cy="3338640"/>
          </a:xfrm>
          <a:prstGeom prst="rect">
            <a:avLst/>
          </a:prstGeom>
          <a:ln w="0">
            <a:noFill/>
          </a:ln>
        </p:spPr>
      </p:pic>
    </p:spTree>
  </p:cSld>
  <p:transition advTm="10000">
    <p:split dir="in" orient="horz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79280" y="620640"/>
            <a:ext cx="8137800" cy="454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uxleyVertical BT"/>
              </a:rPr>
              <a:t>Bedankt voor de leuke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uxleyVertical BT"/>
              <a:ea typeface="HuxleyVertical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uxleyVertical BT"/>
              </a:rPr>
              <a:t>avond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uxleyVertical BT"/>
              <a:ea typeface="HuxleyVertical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uxleyVertical BT"/>
              <a:ea typeface="HuxleyVertical B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97964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8" dur="5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4567320" cy="6021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5240" y="404640"/>
            <a:ext cx="4568760" cy="6021720"/>
          </a:xfrm>
          <a:prstGeom prst="rect">
            <a:avLst/>
          </a:prstGeom>
          <a:ln w="0">
            <a:noFill/>
          </a:ln>
        </p:spPr>
      </p:pic>
    </p:spTree>
  </p:cSld>
  <p:transition advTm="22000">
    <p:zoom dir="in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14240" y="534960"/>
            <a:ext cx="7713720" cy="578664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228160" cy="6172200"/>
          </a:xfrm>
          <a:prstGeom prst="rect">
            <a:avLst/>
          </a:prstGeom>
          <a:ln w="0">
            <a:noFill/>
          </a:ln>
        </p:spPr>
      </p:pic>
    </p:spTree>
  </p:cSld>
  <p:transition advTm="7000">
    <p:checker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1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advTm="8000">
    <p:checker dir="vert"/>
    <p:sndAc>
      <p:stSnd>
        <p:snd r:embed="rId2" name="ghjg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advTm="6000"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advTm="6000">
    <p:comb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05:43:11Z</dcterms:created>
  <dc:creator>www.free-powerpoints.goedbegin.be</dc:creator>
  <dc:description/>
  <dc:language>en-US</dc:language>
  <cp:lastModifiedBy>Smets</cp:lastModifiedBy>
  <dcterms:modified xsi:type="dcterms:W3CDTF">2009-02-01T07:49:39Z</dcterms:modified>
  <cp:revision>6</cp:revision>
  <dc:subject/>
  <dc:title>Dia 1</dc:title>
</cp:coreProperties>
</file>