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26.png" ContentType="image/pn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3.jpeg" ContentType="image/jpeg"/>
  <Override PartName="/ppt/media/image28.jpeg" ContentType="image/jpeg"/>
  <Override PartName="/ppt/media/ghjg.wav" ContentType="audio/x-wav"/>
  <Override PartName="/ppt/media/image7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29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37.png" ContentType="image/png"/>
  <Override PartName="/ppt/media/image36.png" ContentType="image/png"/>
  <Override PartName="/ppt/media/image40.gif" ContentType="image/gif"/>
  <Override PartName="/ppt/media/image38.png" ContentType="image/png"/>
  <Override PartName="/ppt/media/image8.jpeg" ContentType="image/jpeg"/>
  <Override PartName="/ppt/media/image39.jpeg" ContentType="image/jpeg"/>
  <Override PartName="/ppt/media/Bach%20Johann%20Sebastian%20(Track%2001)%20(2).wav" ContentType="audio/x-wav"/>
  <Override PartName="/ppt/media/image5.jpeg" ContentType="image/jpeg"/>
  <Override PartName="/ppt/media/image25.jpeg" ContentType="image/jpeg"/>
  <Override PartName="/ppt/media/image32.png" ContentType="image/png"/>
  <Override PartName="/ppt/media/image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B6FFB7-F0B2-42A8-BEE1-269396F35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AE5BE-8772-4308-BE8B-855101434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68228-1A90-44FC-8371-161FBEBA8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3DAABC-372B-42DA-8CC3-D3ED9DAD2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80B9-F858-4713-BF09-F78DB7D08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890EB-50A0-4E4E-BB92-69FA90CDC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94FC2-2FE3-460C-8DD0-BBE6161B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9C598-521B-4E0C-8F91-8BF86F44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DA7A1-2EE2-4B26-B97F-5FF0FF948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32B9-7C91-43C4-B046-E46DEC2EC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20D1A-0FBA-45D9-B6C9-B6D3FF4D6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5F54F-0A1E-49EC-9754-5AB6DAFB6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E9ECA-DAEE-48EF-A910-A35ECD023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D8C5C-775B-48EA-A5FA-A3F94E820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10B2-A98A-4FD4-B856-94CF8D1AA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5483-8C46-476C-983F-10E98015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80F1E-B799-4E89-A7C6-5B50F7C5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40072-F4B1-4E50-9A67-41BAFBD6A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3B1EB3-2F5A-469A-8A55-81F6160DE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89896A-0B76-4C6C-A3CE-97FDD33BB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39A86-8DA8-4619-9417-552D5A12C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84438C-F2CF-4E4D-82ED-5B3F2AB02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2CF81-0E3A-4D75-B12E-CD472143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AA018-A713-45EA-9215-C8286CC9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2604-8A7A-4533-9593-2C38D737B32E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62098-14C5-46FC-98D1-7D7F19015706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gif"/><Relationship Id="rId6" Type="http://schemas.openxmlformats.org/officeDocument/2006/relationships/audio" Target="../media/Bach%20Johann%20Sebastian%20(Track%2001)%20(2).wav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jpe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image" Target="../media/image38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image" Target="../media/image40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ghjg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11280" y="692280"/>
            <a:ext cx="8281800" cy="41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Toneelvrienden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St-Joris Alken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132000" y="5516640"/>
            <a:ext cx="2743200" cy="637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0-01-2009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6588000" y="5300640"/>
            <a:ext cx="2340000" cy="1143000"/>
          </a:xfrm>
          <a:prstGeom prst="rect">
            <a:avLst/>
          </a:prstGeom>
          <a:ln w="0">
            <a:noFill/>
          </a:ln>
        </p:spPr>
      </p:pic>
    </p:spTree>
  </p:cSld>
  <p:transition advTm="9000">
    <p:blinds dir="horz"/>
    <p:sndAc>
      <p:stSnd>
        <p:snd r:embed="rId6" name="Bach%20Johann%20Sebastian%20(Track%2001)%20(2)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77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770" fill="hold"/>
                                        <p:tgtEl>
                                          <p:spTgt spid="12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3" dur="77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62120" y="9360"/>
            <a:ext cx="7619760" cy="6839280"/>
          </a:xfrm>
          <a:prstGeom prst="rect">
            <a:avLst/>
          </a:prstGeom>
          <a:ln w="0">
            <a:noFill/>
          </a:ln>
        </p:spPr>
      </p:pic>
    </p:spTree>
  </p:cSld>
  <p:transition advTm="7000">
    <p:cover dir="l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ver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u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rd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2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755640" y="549360"/>
            <a:ext cx="7620120" cy="5715000"/>
          </a:xfrm>
          <a:prstGeom prst="rect">
            <a:avLst/>
          </a:prstGeom>
          <a:ln w="0">
            <a:noFill/>
          </a:ln>
        </p:spPr>
      </p:pic>
    </p:spTree>
  </p:cSld>
  <p:transition advTm="13000">
    <p:cover dir="ru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0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xit" presetID="9">
                                  <p:stCondLst>
                                    <p:cond delay="20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58" dur="5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571680" y="98280"/>
            <a:ext cx="7999200" cy="6659640"/>
          </a:xfrm>
          <a:prstGeom prst="rect">
            <a:avLst/>
          </a:prstGeom>
          <a:ln w="0">
            <a:noFill/>
          </a:ln>
        </p:spPr>
      </p:pic>
    </p:spTree>
  </p:cSld>
  <p:transition advTm="9000">
    <p:cut thruBlk="true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8" dur="5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dissolve/>
  </p:transition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3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7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76360" y="1197000"/>
            <a:ext cx="6399360" cy="193032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39640" y="3068640"/>
            <a:ext cx="7999560" cy="2419200"/>
          </a:xfrm>
          <a:prstGeom prst="rect">
            <a:avLst/>
          </a:prstGeom>
          <a:ln w="0">
            <a:noFill/>
          </a:ln>
        </p:spPr>
      </p:pic>
    </p:spTree>
  </p:cSld>
  <p:transition advTm="10000">
    <p:wheel spokes="1"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0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0"/>
                            </p:stCondLst>
                            <p:childTnLst>
                              <p:par>
                                <p:cTn id="199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155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2" dur="1155" fill="hold"/>
                                        <p:tgtEl>
                                          <p:spTgt spid="14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4" dur="115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5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6" dur="1155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7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79320" y="281160"/>
            <a:ext cx="7783560" cy="6294240"/>
          </a:xfrm>
          <a:prstGeom prst="rect">
            <a:avLst/>
          </a:prstGeom>
          <a:ln w="0">
            <a:noFill/>
          </a:ln>
        </p:spPr>
      </p:pic>
    </p:spTree>
  </p:cSld>
  <p:transition advTm="9000">
    <p:circle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4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push dir="r"/>
  </p:transition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79320" y="57240"/>
            <a:ext cx="7783560" cy="674208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9000">
    <p:plus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1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32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3" dur="5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7000">
    <p:dissolve/>
  </p:transition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3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3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62120" y="1919160"/>
            <a:ext cx="7619760" cy="3019680"/>
          </a:xfrm>
          <a:prstGeom prst="rect">
            <a:avLst/>
          </a:prstGeom>
          <a:ln w="0">
            <a:noFill/>
          </a:ln>
        </p:spPr>
      </p:pic>
    </p:spTree>
  </p:cSld>
  <p:transition advTm="9000">
    <p:wedge/>
  </p:transition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0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971640" y="36360"/>
            <a:ext cx="6964200" cy="6821640"/>
          </a:xfrm>
          <a:prstGeom prst="rect">
            <a:avLst/>
          </a:prstGeom>
          <a:ln w="0">
            <a:noFill/>
          </a:ln>
        </p:spPr>
      </p:pic>
    </p:spTree>
  </p:cSld>
  <p:transition advTm="8000">
    <p:strips dir="rd"/>
  </p:transition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3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1155600" y="2114640"/>
            <a:ext cx="6831000" cy="2627280"/>
          </a:xfrm>
          <a:prstGeom prst="rect">
            <a:avLst/>
          </a:prstGeom>
          <a:ln w="0">
            <a:noFill/>
          </a:ln>
        </p:spPr>
      </p:pic>
    </p:spTree>
  </p:cSld>
  <p:transition advTm="10000">
    <p:pull dir="l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0" y="1106640"/>
            <a:ext cx="9144000" cy="4644720"/>
          </a:xfrm>
          <a:prstGeom prst="rect">
            <a:avLst/>
          </a:prstGeom>
          <a:ln w="0">
            <a:noFill/>
          </a:ln>
        </p:spPr>
      </p:pic>
    </p:spTree>
  </p:cSld>
  <p:transition advTm="9000">
    <p:circle/>
  </p:transition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155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8" dur="1155" fill="hold"/>
                                        <p:tgtEl>
                                          <p:spTgt spid="15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7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80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8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82" dur="1155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8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9000">
    <p:wheel spokes="8"/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90" dur="1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91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92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93" dur="600" autoRev="1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349416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00720" cy="34862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5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6"/>
          <a:stretch/>
        </p:blipFill>
        <p:spPr>
          <a:xfrm>
            <a:off x="0" y="0"/>
            <a:ext cx="4500720" cy="350028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7"/>
          <a:stretch/>
        </p:blipFill>
        <p:spPr>
          <a:xfrm>
            <a:off x="0" y="3483000"/>
            <a:ext cx="4500720" cy="33750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8"/>
          <a:stretch/>
        </p:blipFill>
        <p:spPr>
          <a:xfrm>
            <a:off x="4572000" y="3483000"/>
            <a:ext cx="4572000" cy="3375000"/>
          </a:xfrm>
          <a:prstGeom prst="rect">
            <a:avLst/>
          </a:prstGeom>
          <a:ln w="0">
            <a:noFill/>
          </a:ln>
        </p:spPr>
      </p:pic>
    </p:spTree>
  </p:cSld>
  <p:transition advTm="20000">
    <p:wipe dir="d"/>
  </p:transition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2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000"/>
                            </p:stCondLst>
                            <p:childTnLst>
                              <p:par>
                                <p:cTn id="303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2000"/>
                            </p:stCondLst>
                            <p:childTnLst>
                              <p:par>
                                <p:cTn id="306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5500"/>
                            </p:stCondLst>
                            <p:childTnLst>
                              <p:par>
                                <p:cTn id="314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5500"/>
                            </p:stCondLst>
                            <p:childTnLst>
                              <p:par>
                                <p:cTn id="317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9000"/>
                            </p:stCondLst>
                            <p:childTnLst>
                              <p:par>
                                <p:cTn id="32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9000"/>
                            </p:stCondLst>
                            <p:childTnLst>
                              <p:par>
                                <p:cTn id="328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13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647720"/>
            <a:ext cx="9144000" cy="3338640"/>
          </a:xfrm>
          <a:prstGeom prst="rect">
            <a:avLst/>
          </a:prstGeom>
          <a:ln w="0">
            <a:noFill/>
          </a:ln>
        </p:spPr>
      </p:pic>
    </p:spTree>
  </p:cSld>
  <p:transition advTm="10000">
    <p:split dir="in" orient="horz"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7" dur="3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79280" y="620640"/>
            <a:ext cx="8137800" cy="454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uxleyVertical BT"/>
              </a:rPr>
              <a:t>Bedankt voor de leuke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HuxleyVertical BT"/>
              </a:rPr>
              <a:t>avond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HuxleyVertical BT"/>
              <a:ea typeface="HuxleyVertical BT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0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autoRev="1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58" dur="500" fill="hold"/>
                                        <p:tgtEl>
                                          <p:spTgt spid="1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4567320" cy="602172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4575240" y="404640"/>
            <a:ext cx="4568760" cy="6021720"/>
          </a:xfrm>
          <a:prstGeom prst="rect">
            <a:avLst/>
          </a:prstGeom>
          <a:ln w="0">
            <a:noFill/>
          </a:ln>
        </p:spPr>
      </p:pic>
    </p:spTree>
  </p:cSld>
  <p:transition advTm="22000">
    <p:zoom dir="in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5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0"/>
                            </p:stCondLst>
                            <p:childTnLst>
                              <p:par>
                                <p:cTn id="48" nodeType="afterEffect" fill="hold" presetClass="entr" presetID="5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14240" y="534960"/>
            <a:ext cx="7713720" cy="5786640"/>
          </a:xfrm>
          <a:prstGeom prst="rect">
            <a:avLst/>
          </a:prstGeom>
          <a:ln w="0">
            <a:noFill/>
          </a:ln>
        </p:spPr>
      </p:pic>
    </p:spTree>
  </p:cSld>
  <p:transition advTm="7000">
    <p:zoom dir="out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343080"/>
            <a:ext cx="8228160" cy="6172200"/>
          </a:xfrm>
          <a:prstGeom prst="rect">
            <a:avLst/>
          </a:prstGeom>
          <a:ln w="0">
            <a:noFill/>
          </a:ln>
        </p:spPr>
      </p:pic>
    </p:spTree>
  </p:cSld>
  <p:transition advTm="7000">
    <p:checker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71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hecker dir="vert"/>
    <p:sndAc>
      <p:stSnd>
        <p:snd r:embed="rId2" name="ghjg.wav"/>
      </p:stSnd>
    </p:sndAc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3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horz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0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6000">
    <p:comb dir="ver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6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p:transition advTm="8000">
    <p:cover dir="d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3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1T05:43:11Z</dcterms:created>
  <dc:creator>www.free-powerpoints.goedbegin.be</dc:creator>
  <dc:description/>
  <dc:language>en-US</dc:language>
  <cp:lastModifiedBy>Smets</cp:lastModifiedBy>
  <dcterms:modified xsi:type="dcterms:W3CDTF">2009-02-01T07:49:39Z</dcterms:modified>
  <cp:revision>6</cp:revision>
  <dc:subject/>
  <dc:title>Dia 1</dc:title>
</cp:coreProperties>
</file>