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Gong.wav" ContentType="audio/x-wav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35C-BE58-4A4B-BC68-685838E8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5CA-E863-4745-91D9-F87ACE6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942-958A-481A-B1B4-9F3E84C7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0D1-062C-44E1-AEF0-90E194EE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CC5-2048-40E2-9A0B-210B5789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A6E-16A0-4099-AB1B-7D2505B3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D3D-5BAD-43A1-9036-EC565CE3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969-B19D-4779-8E9E-763A2C7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D8D-EF00-403E-A0D4-81526F0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093-0A4D-4869-BD33-D6545E6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C37-A67B-466C-A1DA-5EB757F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8A-A704-488B-825A-5B07C81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B8E1-E06B-4870-9104-3CCEAD0212D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Gon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on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yanmarnebb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195640" y="620640"/>
            <a:ext cx="429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46d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ÍNDIA SACR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46d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7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g20931457b21061e5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733483_abb67d0c23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irmani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ndia_del_sud_2008_1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ndia_Rajastan_nov_2007_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ndia2006BQ%20(1887)%20(Larg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ndia_Rajastan_nov_2007_6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ndia_Te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bo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26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irmania_61"/>
          <p:cNvPicPr/>
          <p:nvPr/>
        </p:nvPicPr>
        <p:blipFill>
          <a:blip r:embed="rId2"/>
          <a:stretch/>
        </p:blipFill>
        <p:spPr>
          <a:xfrm>
            <a:off x="4788000" y="260280"/>
            <a:ext cx="415908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3" name="Gon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Architectural_Wonder%2C_Taj_Mahal%2C_In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0" y="189000"/>
            <a:ext cx="2647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46d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os templo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46d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7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mini-family-at-golden-te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066252690056014438YvpTc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531031192eIwdC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yan3_mw_pic02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kIndiaB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Rundreise%20Myanmar-Shwedagon%20Pago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11084079_412174ba8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rirangam-temple-gopu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  <p:sndAc>
      <p:stSnd>
        <p:snd r:embed="rId2" name="Gon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MG_54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29147681764359703cb4e9pr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544056774_8f60e025f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439107586_b398176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39420183_098f343ab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irma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  <p:sndAc>
      <p:stSnd>
        <p:snd r:embed="rId2" name="Gon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9:49:16Z</dcterms:created>
  <dc:creator/>
  <dc:description/>
  <dc:language>en-US</dc:language>
  <cp:lastModifiedBy>NIETMANN</cp:lastModifiedBy>
  <dcterms:modified xsi:type="dcterms:W3CDTF">2009-03-08T16:52:57Z</dcterms:modified>
  <cp:revision>42</cp:revision>
  <dc:subject/>
  <dc:title>Slide 1</dc:title>
</cp:coreProperties>
</file>