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Gong.wav" ContentType="audio/x-wav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881-CCE6-47FC-937C-8D4FD92A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D64-A526-4632-8F9D-0C4DD55C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CE3-B0B8-47AE-A9FA-50BEC52C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2E5-5CFD-47EF-A8FF-F26F95D5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3E6-B02A-406F-B6D3-C7F11565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ED9-43B4-4D51-89ED-6F39274D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80B-63ED-4FCE-A2F6-A1C1D6BA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C4D-AD08-438B-A24D-71C853F9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AD1-5948-4797-9A86-F5A0090F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BA0-E67E-42F5-AAB9-7CBB623A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982-2C32-4F6F-9B25-CC9A6636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AAC-5B35-4124-BDA1-C9C3E51E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A1D8-EE67-4285-BE9E-11938290A63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Gong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yanmarnebb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195640" y="620640"/>
            <a:ext cx="4294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46d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Georgia"/>
              </a:rPr>
              <a:t>ÍNDIA SACRA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c46d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 advTm="7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img20931457b21061e5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733483_abb67d0c23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birmani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G_09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India_del_sud_2008_1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ndia_Rajastan_nov_2007_6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ndia2006BQ%20(1887)%20(Large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ndia_Rajastan_nov_2007_6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ndia_Te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bo"/>
          <p:cNvPicPr/>
          <p:nvPr/>
        </p:nvPicPr>
        <p:blipFill>
          <a:blip r:embed="rId1"/>
          <a:stretch/>
        </p:blipFill>
        <p:spPr>
          <a:xfrm>
            <a:off x="179280" y="260280"/>
            <a:ext cx="4248360" cy="626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birmania_61"/>
          <p:cNvPicPr/>
          <p:nvPr/>
        </p:nvPicPr>
        <p:blipFill>
          <a:blip r:embed="rId2"/>
          <a:stretch/>
        </p:blipFill>
        <p:spPr>
          <a:xfrm>
            <a:off x="4788000" y="260280"/>
            <a:ext cx="415908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3" name="Gon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Architectural_Wonder%2C_Taj_Mahal%2C_In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0" y="189000"/>
            <a:ext cx="26478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46d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Georgia"/>
              </a:rPr>
              <a:t>os templo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46d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 advTm="7000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mini-family-at-golden-te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066252690056014438YvpTct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531031192eIwdCt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yan3_mw_pic02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kIndiaB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Rundreise%20Myanmar-Shwedagon%20Pago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211084079_412174ba89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rirangam-temple-gopu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  <p:sndAc>
      <p:stSnd>
        <p:snd r:embed="rId2" name="Gon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IMG_54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329147681764359703cb4e9pr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544056774_8f60e025f4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1439107586_b3981762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539420183_098f343abc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birman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9:49:16Z</dcterms:created>
  <dc:creator/>
  <dc:description/>
  <dc:language>en-US</dc:language>
  <cp:lastModifiedBy>NIETMANN</cp:lastModifiedBy>
  <dcterms:modified xsi:type="dcterms:W3CDTF">2009-03-08T16:52:57Z</dcterms:modified>
  <cp:revision>42</cp:revision>
  <dc:subject/>
  <dc:title>Slide 1</dc:title>
</cp:coreProperties>
</file>