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16C-5188-4DA9-9A1F-9D5FC62A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0B9-FF85-46A7-A063-520E5F66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FA5-1689-4979-A643-9CC008DD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AFD-C57A-48E2-9004-907ABF1B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0B9-540B-4C97-9B4B-94E844C9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1DC-5F10-45D8-B14B-CFA9823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F80-EE30-427E-91CC-D55D3641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7DE-186E-4763-AB21-1168EBE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EBF-979E-43D4-A7A7-8B8D6D36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BC8-A4C3-4D9E-915F-5CF835C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4B1-3BB5-496D-A72A-272B0D7D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8AE-3221-49D1-9E3E-2E6DC08F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B45AE-1D6C-4434-B902-F703F087B9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91C92-7D8F-4D64-A564-0ECA6FD0043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2:13:37Z</dcterms:created>
  <dc:creator>최봉수</dc:creator>
  <dc:description/>
  <dc:language>en-US</dc:language>
  <cp:lastModifiedBy>맛있다 군만두</cp:lastModifiedBy>
  <dcterms:modified xsi:type="dcterms:W3CDTF">2023-07-13T08:02:55Z</dcterms:modified>
  <cp:revision>3</cp:revision>
  <dc:subject/>
  <dc:title>슬라이드 1</dc:title>
</cp:coreProperties>
</file>