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DF9-54BC-404A-9BCD-F9B47EA6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3EF-264B-4F0C-9465-CA2C99CB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0CC-8D1C-487A-A362-34918EC0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FF2-8A1A-4130-9C01-6EA1950E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848-7671-4B51-A20B-A29946CF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D5F-105E-4BFD-B95A-F2F7A6E6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0E5-28D1-4650-A933-CC6C780A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642-029D-4E0F-B656-39D99BF3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B38-918C-45A4-8085-2BA262BD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C5E-C41A-4772-8C0A-7CA33200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352-81F8-439E-A2BD-67D1E976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9A1-66F3-44EE-9B7B-7F56812A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D86E5-B7A7-4B3B-BA41-F1A926CE905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1DB33-C012-481E-865E-AFC9B00DA9E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2:13:37Z</dcterms:created>
  <dc:creator>최봉수</dc:creator>
  <dc:description/>
  <dc:language>en-US</dc:language>
  <cp:lastModifiedBy>맛있다 군만두</cp:lastModifiedBy>
  <dcterms:modified xsi:type="dcterms:W3CDTF">2023-07-13T08:02:55Z</dcterms:modified>
  <cp:revision>3</cp:revision>
  <dc:subject/>
  <dc:title>슬라이드 1</dc:title>
</cp:coreProperties>
</file>