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028F-13D3-4E1C-A0B7-FDECA362F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3ebf1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C37B-4C96-4EFA-82E0-F24F90DEF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3ebf1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7027-DF02-44AA-A621-6F5400BFC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3ebf1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1BC9-47CA-44BE-998F-81968EF21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6F2ED-5FCA-4D10-A722-1E283650A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3ebf1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2C8B5-4EA3-4A5A-97F4-E87AF1AAC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3ebf1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0D125-26B7-47D0-B718-59903EB5B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3ebf1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C5E82-98DB-461B-B92C-2E119D78B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3ebf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CD23E-CEA7-4EC9-9578-33BC8267B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7CE26-E81B-4934-A20C-FCF5E7983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3ebf1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189BA-36E9-42C2-AB11-EC505E96F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3ebf1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E8E2-F951-4886-8A13-66F819813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3ebf1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8F749-B14A-4FC4-921F-BC54B74DB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3ebf1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88389-887C-4C47-933E-857294D53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3ebf1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01DA3-C656-46E8-9839-18351C843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3ebf1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3CF84-5E9B-4DE2-83F3-72E115F03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3ebf1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EAEEC-DE6A-4E7E-BEF3-584AA4376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3ebf1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CE44-3E5D-4928-B34D-EBEC19A05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3ebf1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7470-EF07-435A-BB0E-9E2FE8B30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3ebf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B154-556B-49CD-9E85-F7A08AE45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AED9-9839-4F83-BAB8-9B02726FD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3ebf1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F0D3-F79F-4AFB-A70A-3598CC4A6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3ebf1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5145-5277-43FD-93A0-5FD5FD78C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3ebf1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F09B-4962-449F-B45C-EB0BAEA7D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bf1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e3ebf1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A6C42-C5B7-46F1-8698-E973F4534C4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09680" y="297144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bf1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e3ebf1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AA460-3053-4135-BA44-CF8146826D1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Century Gothic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Century Gothic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ds.yahoo.com/_ylt=A0Je5meP8b9FBngB0QGJzbkF;_ylu=X3oDMTBjMHZkMjZyBHBvcwMxBHNlYwNzcg--/SIG=1h8vc3uqv/EXP=1170293519/**http%3A//images.search.yahoo.com/search/images/view%3Fback=http%253A%252F%252Fimages.search.yahoo.com%252Fsearch%252Fimages%253Fp%253Dstudent%252Bsad%252Bface%2526ei%253DUTF-8%2526fr%253Dsfp%2526x%253Dwrt%26w=89%26h=105%26imgurl=www.lancs.ac.uk%252Ffss%252Fcourses%252Fling%252Fling201%252Fimages%252Fsadface.jpg%26rurl=http%253A%252F%252Fwww.lancs.ac.uk%252Ffss%252Fcourses%252Fling%252Fling201%252Fres%252Ftips.htm%26size=6.5kB%26name=sadface.jpg%26p=student%2Bsad%2Bface%26type=jpeg%26no=1%26tt=10%26oid=bc2769ff85089d42%26ei=UTF-8" TargetMode="External"/><Relationship Id="rId3" Type="http://schemas.openxmlformats.org/officeDocument/2006/relationships/image" Target="../media/image5.jpeg"/><Relationship Id="rId4" Type="http://schemas.openxmlformats.org/officeDocument/2006/relationships/hyperlink" Target="http://rds.yahoo.com/_ylt=A0Je5mil8L9FEmYANU2JzbkF;_ylu=X3oDMTBkdjI4bXVrBHBvcwMyNARzZWMDc3I-/SIG=1i4bnh3fk/EXP=1170293285/**http%3A//images.search.yahoo.com/search/images/view%3Fback=http%253A%252F%252Fimages.search.yahoo.com%252Fsearch%252Fimages%253Fp%253Dcartoon%252Bface%2526ei%253DUTF-8%2526qp_p%253Dface%252Bcartoon%2526imgsz%253Dall%2526fr%253Dsfp%2526b%253D21%26w=101%26h=80%26imgurl=www.freemobilefun.net%252Fwallp%252F101_80%252Ffun%252Fcartoonface.jpg%26rurl=http%253A%252F%252Fwww.freemobilefun.net%252Fwallpapers%252Fv%252F338%252Fcartoonface%252F101x80%26size=7.2kB%26name=cartoonface.jpg%26p=cartoon%2Bface%26type=jpeg%26no=24%26tt=6,610%26oid=384ac4fae37159f8%26ei=UTF-8" TargetMode="External"/><Relationship Id="rId5" Type="http://schemas.openxmlformats.org/officeDocument/2006/relationships/image" Target="../media/image6.jpeg"/><Relationship Id="rId6" Type="http://schemas.openxmlformats.org/officeDocument/2006/relationships/hyperlink" Target="http://rds.yahoo.com/_ylt=A0Je5mil8L9FEmYANU2JzbkF;_ylu=X3oDMTBkdjI4bXVrBHBvcwMyNARzZWMDc3I-/SIG=1i4bnh3fk/EXP=1170293285/**http%3A//images.search.yahoo.com/search/images/view%3Fback=http%253A%252F%252Fimages.search.yahoo.com%252Fsearch%252Fimages%253Fp%253Dcartoon%252Bface%2526ei%253DUTF-8%2526qp_p%253Dface%252Bcartoon%2526imgsz%253Dall%2526fr%253Dsfp%2526b%253D21%26w=101%26h=80%26imgurl=www.freemobilefun.net%252Fwallp%252F101_80%252Ffun%252Fcartoonface.jpg%26rurl=http%253A%252F%252Fwww.freemobilefun.net%252Fwallpapers%252Fv%252F338%252Fcartoonface%252F101x80%26size=7.2kB%26name=cartoonface.jpg%26p=cartoon%2Bface%26type=jpeg%26no=24%26tt=6,610%26oid=384ac4fae37159f8%26ei=UTF-8" TargetMode="External"/><Relationship Id="rId7" Type="http://schemas.openxmlformats.org/officeDocument/2006/relationships/image" Target="../media/image7.png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09680" y="297144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ebf1"/>
                </a:solidFill>
                <a:latin typeface="Century Gothic"/>
              </a:rPr>
              <a:t>LISTENING</a:t>
            </a:r>
            <a:endParaRPr b="0" lang="en-US" sz="3600" spc="-1" strike="noStrike">
              <a:solidFill>
                <a:srgbClr val="e3ebf1"/>
              </a:solidFill>
              <a:latin typeface="Century Gothic"/>
            </a:endParaRPr>
          </a:p>
        </p:txBody>
      </p:sp>
      <p:sp>
        <p:nvSpPr>
          <p:cNvPr id="83" name=""/>
          <p:cNvSpPr/>
          <p:nvPr/>
        </p:nvSpPr>
        <p:spPr>
          <a:xfrm>
            <a:off x="2324520" y="4191120"/>
            <a:ext cx="49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he Purpose of Liste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665960" y="4724280"/>
            <a:ext cx="2545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o lear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o rel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o influ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o 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o hel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029200" y="45720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94960" y="228240"/>
            <a:ext cx="466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ebf1"/>
                </a:solidFill>
                <a:latin typeface="Century Gothic"/>
              </a:rPr>
              <a:t>LISTENING</a:t>
            </a:r>
            <a:endParaRPr b="0" lang="en-US" sz="3600" spc="-1" strike="noStrike">
              <a:solidFill>
                <a:srgbClr val="e3ebf1"/>
              </a:solidFill>
              <a:latin typeface="Century Gothic"/>
            </a:endParaRPr>
          </a:p>
        </p:txBody>
      </p:sp>
      <p:sp>
        <p:nvSpPr>
          <p:cNvPr id="87" name=""/>
          <p:cNvSpPr/>
          <p:nvPr/>
        </p:nvSpPr>
        <p:spPr>
          <a:xfrm>
            <a:off x="386640" y="1752480"/>
            <a:ext cx="44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he Listening Proc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94120" y="2590920"/>
            <a:ext cx="2936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Receiv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Understand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Rememb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Evalua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Respondin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219320" y="1523880"/>
            <a:ext cx="6933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Effective Liste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making adjustments to your listening style on th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asis of the specific sit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95280" y="3276720"/>
            <a:ext cx="6858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Empathic &amp; Objective Liste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Garamond"/>
              </a:rPr>
              <a:t>* empathic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:- when you attempt to feel what the other person feel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Garamond"/>
              </a:rPr>
              <a:t>* objective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:- when you measure what you hear by some objective realit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4114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ebf1"/>
                </a:solidFill>
                <a:latin typeface="Century Gothic"/>
              </a:rPr>
              <a:t>LISTENING</a:t>
            </a:r>
            <a:endParaRPr b="0" lang="en-US" sz="3600" spc="-1" strike="noStrike">
              <a:solidFill>
                <a:srgbClr val="e3ebf1"/>
              </a:solidFill>
              <a:latin typeface="Century Gothic"/>
            </a:endParaRPr>
          </a:p>
        </p:txBody>
      </p:sp>
    </p:spTree>
  </p:cSld>
  <p:transition spd="med">
    <p:fade thruBlk="true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1600200"/>
            <a:ext cx="74674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Nonjudgmental &amp; Critical Liste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Garamond"/>
              </a:rPr>
              <a:t>* Nonjudgmental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:-  listening for understanding with an open mi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Garamond"/>
              </a:rPr>
              <a:t>* Critical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:-  listening with a view towards making some kind of eval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90720" y="4343400"/>
            <a:ext cx="74674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Surface &amp; Depth Liste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Garamond"/>
              </a:rPr>
              <a:t>* Surface-level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:-  listening to the lite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Garamond"/>
              </a:rPr>
              <a:t>* Depth-level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:-  listening deeper into the hidden mean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19000" y="247320"/>
            <a:ext cx="4057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ebf1"/>
                </a:solidFill>
                <a:latin typeface="Century Gothic"/>
              </a:rPr>
              <a:t>LISTENING</a:t>
            </a:r>
            <a:endParaRPr b="0" lang="en-US" sz="3600" spc="-1" strike="noStrike">
              <a:solidFill>
                <a:srgbClr val="e3ebf1"/>
              </a:solidFill>
              <a:latin typeface="Century Gothic"/>
            </a:endParaRPr>
          </a:p>
        </p:txBody>
      </p:sp>
    </p:spTree>
  </p:cSld>
  <p:transition spd="med">
    <p:fade thruBlk="true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81200" y="247320"/>
            <a:ext cx="4038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ebf1"/>
                </a:solidFill>
                <a:latin typeface="Century Gothic"/>
              </a:rPr>
              <a:t>LISTENING</a:t>
            </a:r>
            <a:endParaRPr b="0" lang="en-US" sz="3600" spc="-1" strike="noStrike">
              <a:solidFill>
                <a:srgbClr val="e3ebf1"/>
              </a:solidFill>
              <a:latin typeface="Century Gothic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1523880"/>
            <a:ext cx="350532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ctive Liste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Listening where you put together into some meaningful understanding of the speaker’s total mess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191120" y="2743200"/>
            <a:ext cx="4572000" cy="37368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00280" y="38160"/>
            <a:ext cx="4038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ebf1"/>
                </a:solidFill>
                <a:latin typeface="Century Gothic"/>
              </a:rPr>
              <a:t>LISTEN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76720" y="4381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ctive Liste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67320" y="1352520"/>
            <a:ext cx="2835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 can’t believe that Mrs. Stephanie ask me to redo this entire project proposal. I really put my extra effort on this proposal. Still, she’s not satisfied; and now I have to start all over agai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76800" y="4629240"/>
            <a:ext cx="1905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o what?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he is the boss. Boss are always fuss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00240" y="2419200"/>
            <a:ext cx="228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lah, just do some simple rewrite, she won’t notice the differen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60360" y="4518000"/>
            <a:ext cx="1844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w! All over again. Kasihan you.You must be tired. Hey, need any help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Go to full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505320" y="3276720"/>
            <a:ext cx="1650960" cy="19476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Go to fullsize image">
            <a:hlinkClick r:id="rId4"/>
          </p:cNvPr>
          <p:cNvPicPr/>
          <p:nvPr/>
        </p:nvPicPr>
        <p:blipFill>
          <a:blip r:embed="rId5">
            <a:grayscl/>
            <a:lum bright="32000"/>
          </a:blip>
          <a:stretch/>
        </p:blipFill>
        <p:spPr>
          <a:xfrm>
            <a:off x="533520" y="4343400"/>
            <a:ext cx="685800" cy="5428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Go to fullsize image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33520" y="2286000"/>
            <a:ext cx="685800" cy="5428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Go to fullsize image"/>
          <p:cNvPicPr/>
          <p:nvPr/>
        </p:nvPicPr>
        <p:blipFill>
          <a:blip r:embed="rId8">
            <a:grayscl/>
            <a:alphaModFix amt="26000"/>
          </a:blip>
          <a:stretch/>
        </p:blipFill>
        <p:spPr>
          <a:xfrm>
            <a:off x="7696080" y="4495680"/>
            <a:ext cx="685800" cy="5428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523880" y="4114800"/>
            <a:ext cx="7086600" cy="23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The techniques of active Liste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- paraphrase the speaker’s though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To show you are listening, repeat every so often what you think the person said — not by parroting, but by paraphrasing what you heard in your own words. For example, “Let’s see if I’m clear about this. . .”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752480" y="1447920"/>
            <a:ext cx="655344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The functions of Active Liste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- check understand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- express accept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- stimulate the speaker to explore feelings and though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43040" y="247320"/>
            <a:ext cx="4114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ebf1"/>
                </a:solidFill>
                <a:latin typeface="Century Gothic"/>
              </a:rPr>
              <a:t>LISTENING</a:t>
            </a:r>
            <a:endParaRPr b="0" lang="en-US" sz="3600" spc="-1" strike="noStrike">
              <a:solidFill>
                <a:srgbClr val="e3ebf1"/>
              </a:solidFill>
              <a:latin typeface="Century Gothic"/>
            </a:endParaRPr>
          </a:p>
        </p:txBody>
      </p:sp>
    </p:spTree>
  </p:cSld>
  <p:transition spd="med">
    <p:fade thruBlk="true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3ebf1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- express understanding of the speaker’s feeling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Putting feelings into words will often help a person to see things more objectively. To help the person begin, use “door openers” — for example, “I’m sensing that you’re feeling frustrated. . . worried. . . anxious. . .”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ask relevant question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For example, “Would you like to talk about it?” “What happened then?” Could you tell me more?”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3ebf1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body language--or what you do during communication,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voice--how you respond to the speaker, and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content --what you say when you respond to the speaker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entury Gothic"/>
              </a:rPr>
              <a:t>Body Languag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Maintain eye contact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Nod head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Don't interrupt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entury Gothic"/>
              </a:rPr>
              <a:t>Voice Content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Respond occasionally with "I see," or "Interesting."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9T02:28:36Z</dcterms:created>
  <dc:creator>NODES</dc:creator>
  <dc:description/>
  <dc:language>en-US</dc:language>
  <cp:lastModifiedBy>user</cp:lastModifiedBy>
  <dcterms:modified xsi:type="dcterms:W3CDTF">2009-02-01T11:09:58Z</dcterms:modified>
  <cp:revision>10</cp:revision>
  <dc:subject/>
  <dc:title>LISTENING</dc:title>
</cp:coreProperties>
</file>