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640D-C0BE-41E6-871D-01A9DA08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E73E-94BB-4F20-B41B-E272DE08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2B11-D769-42C0-B928-A456C26D5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4CE3-100E-4E52-BA1E-B52DF5C2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77DE-E192-49BB-B56C-6F43B7F1F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CE26-464D-4715-A75C-24E4C863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AA18-FC52-402A-B723-DAED216A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05D8-7442-412E-9B0B-D13648CE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9EFB-0FFE-440D-B79D-D56859A6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2DF5-973F-42DF-8BB5-E95C0E31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80D1-877B-47BB-A973-A8EEE4A9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E559-3363-44C6-BF72-1D216B5B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B958-1D03-4989-AE04-CE9F5B20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CA61-8908-46D3-99A7-213B745C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93AF-858F-400F-B8E8-E5B16D02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4B8C-D4EE-454B-910D-93670B466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D0EE-639E-40C8-BD56-38BDE3ABC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E958-5B23-47FC-8586-A49B03EC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4606-48FB-4AC9-8100-1125C949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B481-FBCA-4877-ACBA-9D9A1266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A05D-FED1-4CED-B583-322B21B0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0EDB-7442-4120-8F94-A47FBFE7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8732-F72A-48B5-B567-529741B2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214B-70BC-45E7-875A-7ABDDD3A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0371-35E4-4C8A-8A54-0D0FC2B4AF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09680" y="29714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1262-98A2-4422-9614-145901B90F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ds.yahoo.com/_ylt=A0Je5meP8b9FBngB0QGJzbkF;_ylu=X3oDMTBjMHZkMjZyBHBvcwMxBHNlYwNzcg--/SIG=1h8vc3uqv/EXP=1170293519/**http%3A//images.search.yahoo.com/search/images/view%3Fback=http%253A%252F%252Fimages.search.yahoo.com%252Fsearch%252Fimages%253Fp%253Dstudent%252Bsad%252Bface%2526ei%253DUTF-8%2526fr%253Dsfp%2526x%253Dwrt%26w=89%26h=105%26imgurl=www.lancs.ac.uk%252Ffss%252Fcourses%252Fling%252Fling201%252Fimages%252Fsadface.jpg%26rurl=http%253A%252F%252Fwww.lancs.ac.uk%252Ffss%252Fcourses%252Fling%252Fling201%252Fres%252Ftips.htm%26size=6.5kB%26name=sadface.jpg%26p=student%2Bsad%2Bface%26type=jpeg%26no=1%26tt=10%26oid=bc2769ff85089d42%26ei=UTF-8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rds.yahoo.com/_ylt=A0Je5mil8L9FEmYANU2JzbkF;_ylu=X3oDMTBkdjI4bXVrBHBvcwMyNARzZWMDc3I-/SIG=1i4bnh3fk/EXP=1170293285/**http%3A//images.search.yahoo.com/search/images/view%3Fback=http%253A%252F%252Fimages.search.yahoo.com%252Fsearch%252Fimages%253Fp%253Dcartoon%252Bface%2526ei%253DUTF-8%2526qp_p%253Dface%252Bcartoon%2526imgsz%253Dall%2526fr%253Dsfp%2526b%253D21%26w=101%26h=80%26imgurl=www.freemobilefun.net%252Fwallp%252F101_80%252Ffun%252Fcartoonface.jpg%26rurl=http%253A%252F%252Fwww.freemobilefun.net%252Fwallpapers%252Fv%252F338%252Fcartoonface%252F101x80%26size=7.2kB%26name=cartoonface.jpg%26p=cartoon%2Bface%26type=jpeg%26no=24%26tt=6,610%26oid=384ac4fae37159f8%26ei=UTF-8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rds.yahoo.com/_ylt=A0Je5mil8L9FEmYANU2JzbkF;_ylu=X3oDMTBkdjI4bXVrBHBvcwMyNARzZWMDc3I-/SIG=1i4bnh3fk/EXP=1170293285/**http%3A//images.search.yahoo.com/search/images/view%3Fback=http%253A%252F%252Fimages.search.yahoo.com%252Fsearch%252Fimages%253Fp%253Dcartoon%252Bface%2526ei%253DUTF-8%2526qp_p%253Dface%252Bcartoon%2526imgsz%253Dall%2526fr%253Dsfp%2526b%253D21%26w=101%26h=80%26imgurl=www.freemobilefun.net%252Fwallp%252F101_80%252Ffun%252Fcartoonface.jpg%26rurl=http%253A%252F%252Fwww.freemobilefun.net%252Fwallpapers%252Fv%252F338%252Fcartoonface%252F101x80%26size=7.2kB%26name=cartoonface.jpg%26p=cartoon%2Bface%26type=jpeg%26no=24%26tt=6,610%26oid=384ac4fae37159f8%26ei=UTF-8" TargetMode="External"/><Relationship Id="rId7" Type="http://schemas.openxmlformats.org/officeDocument/2006/relationships/image" Target="../media/image7.pn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09680" y="29714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bf1"/>
                </a:solidFill>
                <a:latin typeface="Century Gothic"/>
              </a:rPr>
              <a:t>LISTENING</a:t>
            </a: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83" name=""/>
          <p:cNvSpPr/>
          <p:nvPr/>
        </p:nvSpPr>
        <p:spPr>
          <a:xfrm>
            <a:off x="2324520" y="4191120"/>
            <a:ext cx="49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Purpose of Liste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65960" y="4724280"/>
            <a:ext cx="254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o lea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o re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o influ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o 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o he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029200" y="4572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94960" y="228240"/>
            <a:ext cx="466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bf1"/>
                </a:solidFill>
                <a:latin typeface="Century Gothic"/>
              </a:rPr>
              <a:t>LISTENING</a:t>
            </a: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87" name=""/>
          <p:cNvSpPr/>
          <p:nvPr/>
        </p:nvSpPr>
        <p:spPr>
          <a:xfrm>
            <a:off x="386640" y="175248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Listening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94120" y="2590920"/>
            <a:ext cx="293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eceiv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Understan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ememb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valu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espond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19320" y="1523880"/>
            <a:ext cx="693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ffective Liste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aking adjustments to your listening style on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asis of the specific 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3276720"/>
            <a:ext cx="685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mpathic &amp; Objective Liste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* empathic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:- when you attempt to feel what the other person fee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* objective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:- when you measure what you hear by some objective real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bf1"/>
                </a:solidFill>
                <a:latin typeface="Century Gothic"/>
              </a:rPr>
              <a:t>LISTENING</a:t>
            </a: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</p:spTree>
  </p:cSld>
  <p:transition spd="med"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600200"/>
            <a:ext cx="7467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Nonjudgmental &amp; Critical Liste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* Nonjudgmental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:-  listening for understanding with an open mi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* Critical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:-  listening with a view towards making some kind of eval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4343400"/>
            <a:ext cx="7467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urface &amp; Depth Liste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* Surface-level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:-  listening to the lit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* Depth-level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:-  listening deeper into the hidden mean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19000" y="247320"/>
            <a:ext cx="4057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bf1"/>
                </a:solidFill>
                <a:latin typeface="Century Gothic"/>
              </a:rPr>
              <a:t>LISTENING</a:t>
            </a: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</p:spTree>
  </p:cSld>
  <p:transition spd="med"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1200" y="2473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bf1"/>
                </a:solidFill>
                <a:latin typeface="Century Gothic"/>
              </a:rPr>
              <a:t>LISTENING</a:t>
            </a: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523880"/>
            <a:ext cx="35053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ctive Liste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istening where you put together into some meaningful understanding of the speaker’s total mess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191120" y="2743200"/>
            <a:ext cx="4572000" cy="3736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00280" y="3816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bf1"/>
                </a:solidFill>
                <a:latin typeface="Century Gothic"/>
              </a:rPr>
              <a:t>LISTEN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4381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ctive Liste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67320" y="1352520"/>
            <a:ext cx="2835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 can’t believe that Mrs. Stephanie ask me to redo this entire project proposal. I really put my extra effort on this proposal. Still, she’s not satisfied; and now I have to start all over agai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76800" y="4629240"/>
            <a:ext cx="190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 what?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e is the boss. Boss are always fuss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00240" y="241920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ah, just do some simple rewrite, she won’t notice the differ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60360" y="4518000"/>
            <a:ext cx="1844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w! All over again. Kasihan you.You must be tired. Hey, need any help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05320" y="3276720"/>
            <a:ext cx="1650960" cy="1947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Go to fullsize image">
            <a:hlinkClick r:id="rId4"/>
          </p:cNvPr>
          <p:cNvPicPr/>
          <p:nvPr/>
        </p:nvPicPr>
        <p:blipFill>
          <a:blip r:embed="rId5">
            <a:grayscl/>
            <a:lum bright="32000"/>
          </a:blip>
          <a:stretch/>
        </p:blipFill>
        <p:spPr>
          <a:xfrm>
            <a:off x="533520" y="4343400"/>
            <a:ext cx="685800" cy="542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Go to full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3520" y="2286000"/>
            <a:ext cx="685800" cy="542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Go to fullsize image"/>
          <p:cNvPicPr/>
          <p:nvPr/>
        </p:nvPicPr>
        <p:blipFill>
          <a:blip r:embed="rId8">
            <a:grayscl/>
            <a:alphaModFix amt="26000"/>
          </a:blip>
          <a:stretch/>
        </p:blipFill>
        <p:spPr>
          <a:xfrm>
            <a:off x="7696080" y="4495680"/>
            <a:ext cx="685800" cy="542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523880" y="4114800"/>
            <a:ext cx="7086600" cy="23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The techniques of active Liste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- paraphrase the speaker’s thou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o show you are listening, repeat every so often what you think the person said — not by parroting, but by paraphrasing what you heard in your own words. For example, “Let’s see if I’m clear about this. . .”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1447920"/>
            <a:ext cx="6553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The functions of Active Liste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- check understan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- express accep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- stimulate the speaker to explore feelings and thou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3040" y="2473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bf1"/>
                </a:solidFill>
                <a:latin typeface="Century Gothic"/>
              </a:rPr>
              <a:t>LISTENING</a:t>
            </a: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</p:spTree>
  </p:cSld>
  <p:transition spd="med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- express understanding of the speaker’s feeling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utting feelings into words will often help a person to see things more objectively. To help the person begin, use “door openers” — for example, “I’m sensing that you’re feeling frustrated. . . worried. . . anxious. . .”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ask relevant question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or example, “Would you like to talk about it?” “What happened then?” Could you tell me more?”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body language--or what you do during communication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voice--how you respond to the speaker, and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ontent --what you say when you respond to the speaker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Body Languag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aintain eye contact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Nod head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Don't interrupt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Voice Content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spond occasionally with "I see," or "Interesting."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02:28:36Z</dcterms:created>
  <dc:creator>NODES</dc:creator>
  <dc:description/>
  <dc:language>en-US</dc:language>
  <cp:lastModifiedBy>user</cp:lastModifiedBy>
  <dcterms:modified xsi:type="dcterms:W3CDTF">2009-02-01T11:09:58Z</dcterms:modified>
  <cp:revision>10</cp:revision>
  <dc:subject/>
  <dc:title>LISTENING</dc:title>
</cp:coreProperties>
</file>