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DD0-55C2-4BDC-B220-42CE7A4B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35B-2603-46DB-A6C0-A1BE29A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24E-226C-4C72-806B-9B0D0386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1C5-36B2-40EB-8027-76F3F2F2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013-134C-44EE-B547-C9375B35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FE3-6464-476A-B579-79FF56D6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9FC-86BE-454D-8A9E-1B05A45B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615-8B9C-4E70-8128-090F649C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93C-C220-4275-B705-8CBE082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3D4-C255-47FE-A26B-3014802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712-C210-41A3-8CE6-4FFFD5E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A14-878D-4EE9-A876-42453DDD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704-88EF-451B-98A3-5436690359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8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8.jpeg"/><Relationship Id="rId8" Type="http://schemas.openxmlformats.org/officeDocument/2006/relationships/slide" Target="slide1.xm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211640" y="1197000"/>
            <a:ext cx="4608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ستحق أنت وحــد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كــل مجـــد و إكــــرا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ستحق يا من ذبحت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 نهديــــك الاحترا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00720" y="1176480"/>
            <a:ext cx="4321080" cy="48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ــل اسم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ل عــرش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248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788000" y="1268280"/>
            <a:ext cx="4105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تمتلى كل الأر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ن جـــلال مجـد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تفرح كل الخليق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 تـــــرنــــم ل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45080" y="1125360"/>
            <a:ext cx="43196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ــل اسم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ل عــرش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3849840"/>
            <a:ext cx="3995640" cy="3008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0" y="1700280"/>
            <a:ext cx="3960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هللويا * هللويا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هللوا  * هللو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240" y="117360"/>
            <a:ext cx="3965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148360" y="14130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تمتلئ كل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108000" y="1281240"/>
            <a:ext cx="403236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ليتعال ف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2">
            <a:hlinkClick r:id="rId6"/>
          </p:cNvPr>
          <p:cNvSpPr/>
          <p:nvPr/>
        </p:nvSpPr>
        <p:spPr>
          <a:xfrm>
            <a:off x="755640" y="260280"/>
            <a:ext cx="252108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مستحق أنت وحد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0:58:00Z</dcterms:created>
  <dc:creator>naglaa</dc:creator>
  <dc:description/>
  <dc:language>en-US</dc:language>
  <cp:lastModifiedBy>ScOrPiOnE</cp:lastModifiedBy>
  <dcterms:modified xsi:type="dcterms:W3CDTF">2009-04-13T23:12:53Z</dcterms:modified>
  <cp:revision>9</cp:revision>
  <dc:subject/>
  <dc:title>مقدمة</dc:title>
</cp:coreProperties>
</file>