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0FF-9CD0-45A5-87BF-EB7DB917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2B8-8A4E-44A0-91D9-3A04BD6E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F38-9870-4465-BB57-98F541DD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881-8BCB-4D1F-905A-6D3F23B7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4E6-AAA8-4D67-915E-3BC0F0C2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1D6E-D5B7-40C1-889C-1FC1B078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217-2E7B-4D3A-B8A4-8E962642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BCA-79B6-4FC2-B64A-64DCD8F8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537-8AC3-46CA-8093-EEF6FBC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531-CD4C-47DB-BED7-40AB82B4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E16-41C1-4460-AFE7-6FA9755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565-B42D-4E08-8539-3B63D831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DE13-6D37-4965-B4CC-68DDE33A89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4.xml"/><Relationship Id="rId5" Type="http://schemas.openxmlformats.org/officeDocument/2006/relationships/image" Target="../media/image8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8.jpeg"/><Relationship Id="rId8" Type="http://schemas.openxmlformats.org/officeDocument/2006/relationships/slide" Target="slide1.xml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211640" y="1197000"/>
            <a:ext cx="4608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ستحق أنت وحــد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كــل مجـــد و إكــــرا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ستحق يا من ذبحت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أن نهديــــك الاحترا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4360" y="115920"/>
            <a:ext cx="216072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00720" y="1176480"/>
            <a:ext cx="4321080" cy="484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يتعالى فـــو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كـــل اسمـ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يتعالى فــو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كـل عــرش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4248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24360" y="115920"/>
            <a:ext cx="216072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788000" y="1268280"/>
            <a:ext cx="41050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تمتلى كل الأر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ن جـــلال مجـد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تفرح كل الخليق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 تـــــرنــــم ل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360" y="115920"/>
            <a:ext cx="216072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645080" y="1125360"/>
            <a:ext cx="431964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يتعالى فـــو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كـــل اسمـ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ليتعالى فــو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كـل عــرش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24360" y="115920"/>
            <a:ext cx="216072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0" y="3849840"/>
            <a:ext cx="3995640" cy="3008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0" y="1700280"/>
            <a:ext cx="3960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هللويا * هللويا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هللوا  * هللويا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240" y="117360"/>
            <a:ext cx="3965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5148360" y="1413000"/>
            <a:ext cx="3960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لتمتلئ كل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108000" y="1281240"/>
            <a:ext cx="403236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</a:t>
            </a: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ليتعال ف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92">
            <a:hlinkClick r:id="rId6"/>
          </p:cNvPr>
          <p:cNvSpPr/>
          <p:nvPr/>
        </p:nvSpPr>
        <p:spPr>
          <a:xfrm>
            <a:off x="755640" y="260280"/>
            <a:ext cx="252108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8" action="ppaction://hlinksldjump"/>
          </p:cNvPr>
          <p:cNvSpPr/>
          <p:nvPr/>
        </p:nvSpPr>
        <p:spPr>
          <a:xfrm>
            <a:off x="5148360" y="417600"/>
            <a:ext cx="396072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مستحق أنت وحد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0:58:00Z</dcterms:created>
  <dc:creator>naglaa</dc:creator>
  <dc:description/>
  <dc:language>en-US</dc:language>
  <cp:lastModifiedBy>ScOrPiOnE</cp:lastModifiedBy>
  <dcterms:modified xsi:type="dcterms:W3CDTF">2009-04-13T23:12:53Z</dcterms:modified>
  <cp:revision>9</cp:revision>
  <dc:subject/>
  <dc:title>مقدمة</dc:title>
</cp:coreProperties>
</file>