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2E1-3D25-4CCC-8C72-6AC42E23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4FA-C1D9-4F48-9D6C-AB84B026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587-CAAD-4B8D-8F12-C8FEB173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758-4B2D-4E51-8DAD-B1CABE74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2B7-0528-44FA-848C-841C42AE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3D5-933D-41EE-80A2-E3374613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6105-BD89-4015-92C8-3DC1D093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3920-6AFF-4DAB-AA13-4046C2CA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1C5-E631-4C53-AEA1-2020A36F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965B-E28E-47FB-B971-363CE964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C80-A495-450A-A48C-8ED64411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D29-030A-43B6-AE88-FA62B89C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25B51-1946-481D-8672-8A87CF28A92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3D4D2-E020-4D5B-902D-1F08A3481DEB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7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4:03:32Z</dcterms:created>
  <dc:creator>최봉수</dc:creator>
  <dc:description/>
  <dc:language>en-US</dc:language>
  <cp:lastModifiedBy>맛있다 군만두</cp:lastModifiedBy>
  <dcterms:modified xsi:type="dcterms:W3CDTF">2024-09-24T08:10:00Z</dcterms:modified>
  <cp:revision>4</cp:revision>
  <dc:subject/>
  <dc:title>슬라이드 1</dc:title>
</cp:coreProperties>
</file>