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941-002C-41AC-9BD6-66CE8062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D87-5BAD-4B55-9708-244896D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F77-F07F-4D37-8788-FDC5346B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DEB-F789-4DB0-86A8-94BB7762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2FD-7826-45FE-82A4-FBB0194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615-6A1E-4D3D-AD51-629560DD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9BA-BEB6-45ED-9DA8-6F672C5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DF8-DBAD-4836-B824-400E2063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265-8BC1-47FF-963B-74D15E0B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9E5-7E4B-45FE-BAEA-1F25AAB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9A0-BA5F-4071-9BB1-C41239B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053-4E08-4200-BFE1-33078A2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E5987-3A6A-4C3A-A10C-566B845969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B4E75-FD8A-46EC-BF01-25A015405F4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4:03:32Z</dcterms:created>
  <dc:creator>최봉수</dc:creator>
  <dc:description/>
  <dc:language>en-US</dc:language>
  <cp:lastModifiedBy>맛있다 군만두</cp:lastModifiedBy>
  <dcterms:modified xsi:type="dcterms:W3CDTF">2024-09-24T08:10:00Z</dcterms:modified>
  <cp:revision>4</cp:revision>
  <dc:subject/>
  <dc:title>슬라이드 1</dc:title>
</cp:coreProperties>
</file>