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3858-B5B3-4D8D-BD30-82425EC2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B6C0-B206-4AA6-A867-25B285B7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E142-43F1-4D52-99A2-606C0D9E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2E66-FE5D-48D9-87BE-2EB63C17D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CA87-3667-40E3-8885-D41F6659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FE7B-3550-44BB-A156-20EDD6B9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8BFD-8561-409A-8E04-B9919E81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CEA2-5A02-48D3-BA65-08D686C9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E24E-B9DB-422A-8675-CC314E15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994F-9DB7-4164-AA5E-65B5CD2B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2D56-A97B-47A8-8E0B-A60E0974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4224-A143-448B-8A96-0B382C6B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29BB-75AD-4CAF-9598-773B2BCA6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9280" y="333360"/>
            <a:ext cx="2737080" cy="159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ترنيمة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26920" y="5084640"/>
            <a:ext cx="7201080" cy="157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غريباً عشت في الدني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33600" y="0"/>
            <a:ext cx="59180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95280" y="5452920"/>
            <a:ext cx="835344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غريبا عشت فى الدني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5445000"/>
            <a:ext cx="835344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نزيلا مثال أبائ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95280" y="5445000"/>
            <a:ext cx="835344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غريبا فى أساليبى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5445000"/>
            <a:ext cx="835344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و أفكارى و أهوائ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5280" y="5524560"/>
            <a:ext cx="835344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غريبا لم أجد سمع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5280" y="5524560"/>
            <a:ext cx="835344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أفرغ فيه آرائى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</p:txBody>
      </p:sp>
    </p:spTree>
  </p:cSld>
  <p:transition>
    <p:blinds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0044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09440" y="189000"/>
            <a:ext cx="43912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يحار الناس فى ألفى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8000" y="1843200"/>
            <a:ext cx="43909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و لا يدرون ما بائى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08000" y="3498840"/>
            <a:ext cx="43909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يموج القوم فى مرج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08000" y="5229360"/>
            <a:ext cx="43909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و فى صخب و ضوضاء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9440" y="189000"/>
            <a:ext cx="43912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و أقبع ههنا وحدى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09440" y="1844640"/>
            <a:ext cx="43912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بقلبى الوادع النائى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8000" y="3500280"/>
            <a:ext cx="439092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غريبا لم اجد بيتا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8000" y="5229360"/>
            <a:ext cx="43909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و لا ركنا لايوائى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blinds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395280" y="5373720"/>
            <a:ext cx="835344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تركت مفاتن الدنيا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5280" y="5373720"/>
            <a:ext cx="835344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و لم احفل بناديها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5280" y="5380200"/>
            <a:ext cx="8353440" cy="12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و رحت أجر ترحالى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38040" y="5243400"/>
            <a:ext cx="835344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بعيدا عن ملاهيها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5380200"/>
            <a:ext cx="8353440" cy="12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خلى القلب لا اهفوه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95280" y="5380200"/>
            <a:ext cx="8353440" cy="12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لشئ من أمانينا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95280" y="5373720"/>
            <a:ext cx="835344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نزيه السمع لا أصغى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4000" y="5516640"/>
            <a:ext cx="8353440" cy="12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إلى ضوضاء أهاليها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ransition>
    <p:comb dir="horz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87164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395280" y="260280"/>
            <a:ext cx="835344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أطوف ههنا و حدى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95280" y="268200"/>
            <a:ext cx="835344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سعيدا فى بواديها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5280" y="268200"/>
            <a:ext cx="835344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بقيثارى و مزمارى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95280" y="268200"/>
            <a:ext cx="835344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و ألحــــان أغـنـيـنــا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95280" y="260280"/>
            <a:ext cx="835344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و ساعات مقدسة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5280" y="260280"/>
            <a:ext cx="835344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خلوت بخالقى فيها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260280"/>
            <a:ext cx="835344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أسير كأننى شبح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95280" y="260280"/>
            <a:ext cx="835344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يموج لمقلة الرئى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ransition>
    <p:comb dir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33600" y="0"/>
            <a:ext cx="591804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395280" y="5452920"/>
            <a:ext cx="835344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غريبا عشت فى الدني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95280" y="5445000"/>
            <a:ext cx="835344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نزيلا مثال أبائ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</p:txBody>
      </p:sp>
    </p:spTree>
  </p:cSld>
  <p:transition>
    <p:strips dir="ru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718160" y="189000"/>
            <a:ext cx="43909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كسبت العمر لا جاه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716360" y="1843200"/>
            <a:ext cx="43912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يشاغلنى و لا مال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716360" y="3498840"/>
            <a:ext cx="43912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و لا بيت يعطلنى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716360" y="5229360"/>
            <a:ext cx="43912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و لا صحب و لاآل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718160" y="189000"/>
            <a:ext cx="43909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هنا فى الدير آيات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718160" y="1844640"/>
            <a:ext cx="43909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تعزينى و أمثال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716360" y="3500280"/>
            <a:ext cx="439128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هنا الأنجيل مصباح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716360" y="5229360"/>
            <a:ext cx="43912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ولا يخفيه مكيال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split dir="out" orient="ver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49424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36360" y="189000"/>
            <a:ext cx="43912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هنا لا ترهب الرهبان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4920" y="1843200"/>
            <a:ext cx="43909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قضبان و أغلال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4920" y="3498840"/>
            <a:ext cx="43909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و لا تلهو بنا الدنيا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4920" y="5229360"/>
            <a:ext cx="43909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فادبار و اقبال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6360" y="189000"/>
            <a:ext cx="43912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أقول لكل شيطان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6360" y="1844640"/>
            <a:ext cx="43912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يريد الان إغرائى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4920" y="3500280"/>
            <a:ext cx="439092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حذارك إننى أحيا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4920" y="5229360"/>
            <a:ext cx="43909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غريبا مثل أبائى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split dir="out" orient="horz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2T11:19:02Z</dcterms:created>
  <dc:creator>Mena Morcos</dc:creator>
  <dc:description/>
  <dc:language>en-US</dc:language>
  <cp:lastModifiedBy>Mena Morcos</cp:lastModifiedBy>
  <dcterms:modified xsi:type="dcterms:W3CDTF">2004-01-25T12:58:29Z</dcterms:modified>
  <cp:revision>12</cp:revision>
  <dc:subject/>
  <dc:title>الشريحة 1</dc:title>
</cp:coreProperties>
</file>