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D4E94-4BEF-4640-9418-6D2F9F92C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63C50-12FC-4EED-88B0-3471B1D44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42E10-EFEC-484D-B7D3-62AA5E63E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FEC74-F199-4A72-9CD7-4A5ED623D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0EFBB-E701-434C-8DD8-5C6B005C5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2CF53-88F8-464E-BF2E-C3EE6F4D1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61B97-68D3-4CCE-8F90-07FF43C9E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81347-FD22-4C66-BE5C-516070CA0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46DDB-7265-4A5E-BC79-F0D6A29A9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2BB64-933A-4148-BD69-0DE31C0A2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1645A-9FD9-44AB-BEB1-28CE291DB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70961-B1FF-446F-AFA6-4A8701212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C40B2-813D-482C-89A9-9AA3490752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179280" y="333360"/>
            <a:ext cx="2737080" cy="1590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ترنيمة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826920" y="5084640"/>
            <a:ext cx="7201080" cy="1578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غريباً عشت في الدنيا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533600" y="0"/>
            <a:ext cx="591804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395280" y="5452920"/>
            <a:ext cx="8353440" cy="1289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bbe0e3"/>
                </a:solidFill>
                <a:latin typeface="Arial Black"/>
              </a:rPr>
              <a:t>غريبا عشت فى الدنيا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bbe0e3"/>
              </a:solidFill>
              <a:latin typeface="Arial Black"/>
              <a:ea typeface="Arial Black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395280" y="5445000"/>
            <a:ext cx="8353440" cy="1289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bbe0e3"/>
                </a:solidFill>
                <a:latin typeface="Arial Black"/>
              </a:rPr>
              <a:t>نزيلا مثال أبائى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bbe0e3"/>
              </a:solidFill>
              <a:latin typeface="Arial Black"/>
              <a:ea typeface="Arial Black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395280" y="5445000"/>
            <a:ext cx="8353440" cy="1289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bbe0e3"/>
                </a:solidFill>
                <a:latin typeface="Arial Black"/>
              </a:rPr>
              <a:t>غريبا فى أساليبى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bbe0e3"/>
              </a:solidFill>
              <a:latin typeface="Arial Black"/>
              <a:ea typeface="Arial Black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324000" y="5445000"/>
            <a:ext cx="8353440" cy="1289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bbe0e3"/>
                </a:solidFill>
                <a:latin typeface="Arial Black"/>
              </a:rPr>
              <a:t>و أفكارى و أهوائى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bbe0e3"/>
              </a:solidFill>
              <a:latin typeface="Arial Black"/>
              <a:ea typeface="Arial Black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395280" y="5524560"/>
            <a:ext cx="8353440" cy="1289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bbe0e3"/>
                </a:solidFill>
                <a:latin typeface="Arial Black"/>
              </a:rPr>
              <a:t>غريبا لم أجد سمعا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bbe0e3"/>
              </a:solidFill>
              <a:latin typeface="Arial Black"/>
              <a:ea typeface="Arial Black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395280" y="5524560"/>
            <a:ext cx="8353440" cy="1289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bbe0e3"/>
                </a:solidFill>
                <a:latin typeface="Arial Black"/>
              </a:rPr>
              <a:t>أفرغ فيه آرائى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bbe0e3"/>
              </a:solidFill>
              <a:latin typeface="Arial Black"/>
              <a:ea typeface="Arial Black"/>
            </a:endParaRPr>
          </a:p>
        </p:txBody>
      </p:sp>
    </p:spTree>
  </p:cSld>
  <p:transition>
    <p:blinds dir="horz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60044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 txBox="1"/>
          <p:nvPr/>
        </p:nvSpPr>
        <p:spPr>
          <a:xfrm>
            <a:off x="109440" y="189000"/>
            <a:ext cx="4391280" cy="122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يحار الناس فى ألفى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08000" y="1843200"/>
            <a:ext cx="4390920" cy="122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و لا يدرون ما بائى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108000" y="3498840"/>
            <a:ext cx="4390920" cy="122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يموج القوم فى مرج 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108000" y="5229360"/>
            <a:ext cx="4390920" cy="122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و فى صخب و ضوضاء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109440" y="189000"/>
            <a:ext cx="4391280" cy="122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و أقبع ههنا وحدى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109440" y="1844640"/>
            <a:ext cx="4391280" cy="122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بقلبى الوادع النائى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108000" y="3500280"/>
            <a:ext cx="4390920" cy="122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غريبا لم اجد بيتا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108000" y="5229360"/>
            <a:ext cx="4390920" cy="122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و لا ركنا لايوائى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>
    <p:blinds dir="vert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4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2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0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8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01336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 txBox="1"/>
          <p:nvPr/>
        </p:nvSpPr>
        <p:spPr>
          <a:xfrm>
            <a:off x="395280" y="5373720"/>
            <a:ext cx="8353440" cy="1289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0000"/>
                </a:solidFill>
                <a:latin typeface="Arial Black"/>
              </a:rPr>
              <a:t>تركت مفاتن الدنيا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395280" y="5373720"/>
            <a:ext cx="8353440" cy="1289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0000"/>
                </a:solidFill>
                <a:latin typeface="Arial Black"/>
              </a:rPr>
              <a:t>و لم احفل بناديها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395280" y="5380200"/>
            <a:ext cx="8353440" cy="128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0000"/>
                </a:solidFill>
                <a:latin typeface="Arial Black"/>
              </a:rPr>
              <a:t>و رحت أجر ترحالى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338040" y="5243400"/>
            <a:ext cx="8353440" cy="1289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0000"/>
                </a:solidFill>
                <a:latin typeface="Arial Black"/>
              </a:rPr>
              <a:t>بعيدا عن ملاهيها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395280" y="5380200"/>
            <a:ext cx="8353440" cy="128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0000"/>
                </a:solidFill>
                <a:latin typeface="Arial Black"/>
              </a:rPr>
              <a:t>خلى القلب لا اهفوه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395280" y="5380200"/>
            <a:ext cx="8353440" cy="128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0000"/>
                </a:solidFill>
                <a:latin typeface="Arial Black"/>
              </a:rPr>
              <a:t>لشئ من أمانينا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395280" y="5373720"/>
            <a:ext cx="8353440" cy="1289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0000"/>
                </a:solidFill>
                <a:latin typeface="Arial Black"/>
              </a:rPr>
              <a:t>نزيه السمع لا أصغى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324000" y="5516640"/>
            <a:ext cx="8353440" cy="128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0000"/>
                </a:solidFill>
                <a:latin typeface="Arial Black"/>
              </a:rPr>
              <a:t>إلى ضوضاء أهاليها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</p:spTree>
  </p:cSld>
  <p:transition>
    <p:comb dir="horz"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6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0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1871640"/>
            <a:ext cx="9144000" cy="501336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 txBox="1"/>
          <p:nvPr/>
        </p:nvSpPr>
        <p:spPr>
          <a:xfrm>
            <a:off x="395280" y="260280"/>
            <a:ext cx="8353440" cy="1289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0000"/>
                </a:solidFill>
                <a:latin typeface="Arial Black"/>
              </a:rPr>
              <a:t>أطوف ههنا و حدى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395280" y="268200"/>
            <a:ext cx="8353440" cy="1289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0000"/>
                </a:solidFill>
                <a:latin typeface="Arial Black"/>
              </a:rPr>
              <a:t>سعيدا فى بواديها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395280" y="268200"/>
            <a:ext cx="8353440" cy="1289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0000"/>
                </a:solidFill>
                <a:latin typeface="Arial Black"/>
              </a:rPr>
              <a:t>بقيثارى و مزمارى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395280" y="268200"/>
            <a:ext cx="8353440" cy="1289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0000"/>
                </a:solidFill>
                <a:latin typeface="Arial Black"/>
              </a:rPr>
              <a:t>و ألحــــان أغـنـيـنــا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395280" y="260280"/>
            <a:ext cx="8353440" cy="1289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0000"/>
                </a:solidFill>
                <a:latin typeface="Arial Black"/>
              </a:rPr>
              <a:t>و ساعات مقدسة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395280" y="260280"/>
            <a:ext cx="8353440" cy="1289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0000"/>
                </a:solidFill>
                <a:latin typeface="Arial Black"/>
              </a:rPr>
              <a:t>خلوت بخالقى فيها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395280" y="260280"/>
            <a:ext cx="8353440" cy="1289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0000"/>
                </a:solidFill>
                <a:latin typeface="Arial Black"/>
              </a:rPr>
              <a:t>أسير كأننى شبح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395280" y="260280"/>
            <a:ext cx="8353440" cy="1289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0000"/>
                </a:solidFill>
                <a:latin typeface="Arial Black"/>
              </a:rPr>
              <a:t>يموج لمقلة الرئى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</p:spTree>
  </p:cSld>
  <p:transition>
    <p:comb dir="vert"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3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533600" y="0"/>
            <a:ext cx="591804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 txBox="1"/>
          <p:nvPr/>
        </p:nvSpPr>
        <p:spPr>
          <a:xfrm>
            <a:off x="395280" y="5452920"/>
            <a:ext cx="8353440" cy="1289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bbe0e3"/>
                </a:solidFill>
                <a:latin typeface="Arial Black"/>
              </a:rPr>
              <a:t>غريبا عشت فى الدنيا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bbe0e3"/>
              </a:solidFill>
              <a:latin typeface="Arial Black"/>
              <a:ea typeface="Arial Black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395280" y="5445000"/>
            <a:ext cx="8353440" cy="1289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bbe0e3"/>
                </a:solidFill>
                <a:latin typeface="Arial Black"/>
              </a:rPr>
              <a:t>نزيلا مثال أبائى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bbe0e3"/>
              </a:solidFill>
              <a:latin typeface="Arial Black"/>
              <a:ea typeface="Arial Black"/>
            </a:endParaRPr>
          </a:p>
        </p:txBody>
      </p:sp>
    </p:spTree>
  </p:cSld>
  <p:transition>
    <p:strips dir="ru"/>
  </p:transition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64328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 txBox="1"/>
          <p:nvPr/>
        </p:nvSpPr>
        <p:spPr>
          <a:xfrm>
            <a:off x="4718160" y="189000"/>
            <a:ext cx="4390920" cy="122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كسبت العمر لا جاه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716360" y="1843200"/>
            <a:ext cx="4391280" cy="122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يشاغلنى و لا مال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716360" y="3498840"/>
            <a:ext cx="4391280" cy="122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و لا بيت يعطلنى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716360" y="5229360"/>
            <a:ext cx="4391280" cy="122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و لا صحب و لاآل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718160" y="189000"/>
            <a:ext cx="4390920" cy="122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هنا فى الدير آيات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718160" y="1844640"/>
            <a:ext cx="4390920" cy="122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تعزينى و أمثال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716360" y="3500280"/>
            <a:ext cx="4391280" cy="122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هنا الأنجيل مصباح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716360" y="5229360"/>
            <a:ext cx="4391280" cy="122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ولا يخفيه مكيال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>
    <p:split dir="out" orient="vert"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5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2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2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2" nodeType="with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3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2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2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0" nodeType="with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1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2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2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2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8" nodeType="with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9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2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2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494240" y="0"/>
            <a:ext cx="464328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36360" y="189000"/>
            <a:ext cx="4391280" cy="122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هنا لا ترهب الرهبان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34920" y="1843200"/>
            <a:ext cx="4390920" cy="122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قضبان و أغلال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34920" y="3498840"/>
            <a:ext cx="4390920" cy="122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و لا تلهو بنا الدنيا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34920" y="5229360"/>
            <a:ext cx="4390920" cy="122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فادبار و اقبال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36360" y="189000"/>
            <a:ext cx="4391280" cy="122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أقول لكل شيطان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36360" y="1844640"/>
            <a:ext cx="4391280" cy="122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يريد الان إغرائى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4920" y="3500280"/>
            <a:ext cx="4390920" cy="122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حذارك إننى أحيا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4920" y="5229360"/>
            <a:ext cx="4390920" cy="122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غريبا مثل أبائى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>
    <p:split dir="out" orient="horz"/>
  </p:transition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1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2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2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2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8" nodeType="with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9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0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2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2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6" nodeType="with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7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8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2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2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4" nodeType="with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5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6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2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2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5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2T11:19:02Z</dcterms:created>
  <dc:creator>Mena Morcos</dc:creator>
  <dc:description/>
  <dc:language>en-US</dc:language>
  <cp:lastModifiedBy>Mena Morcos</cp:lastModifiedBy>
  <dcterms:modified xsi:type="dcterms:W3CDTF">2004-01-25T12:58:29Z</dcterms:modified>
  <cp:revision>12</cp:revision>
  <dc:subject/>
  <dc:title>الشريحة 1</dc:title>
</cp:coreProperties>
</file>