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5076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9487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447920" y="449568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question de la mobilité urba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Méditerran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3809880"/>
            <a:ext cx="53341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22 &amp; 23 janvier 2008,  Skhirat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562720"/>
            <a:ext cx="5334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X Godard, JC Ziv, CODAT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e congestion croissante des réseaux de voirie urba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constat permanent des habitants et visit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 de données synthétiques dans le cadre de l’étude préparat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investissements routiers importants ont été faits dans la plupart des v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s le cercle vicieux bien connu fonctionne: les gains de capacité attirent un nouveau trafic… et une nouvelle 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 autorités en charge des déplacements urbains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rôle prépondérant des Eta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aisons historiques et poli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centralisation peu développ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Eclatement des responsabil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fficultés classiques de coordination des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jets d’autorités organisatrices en ge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investissement contrasté dans les transports de ma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 réalis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tro du Caire (ligne régionale, lignes urba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tro Léger (Tramway) de Tu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 projets engag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tro et tramway à Al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mway dans autres villes algérien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mway de Rab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 projets programmés ou à l’é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mway et métro à Casabla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R à Tu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tro à D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s de réalisation très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u de considération des options B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dance à délaissement des réseaux classiques d’aut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questions au Nord aus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té élevée mais qui tend à sta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ds de l’automobile dans les dépla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orts importants en faveur des TC et des modes doux, mais limites du transfert mod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bats persistants sur la mobilité d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s de Barcelone, Marseill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incipaux enjeux de la mobilité urba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ût élevé des dysfonctionnements pour la collectivit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uvelles contraintes de l’environnement et de l’énerg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ouver la bonne place pour chaque mode de déplacement (pas de solution toute fa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oir des institutions effic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’appuyer sur des données adapt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uffisances des données dispon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e des données pour le diagnostic et pour le suivi des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uffisance du dispositif de production de données sur les systèmes de mo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données existent mais ne sont pas toujours accessibles, ni traitées et analy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mélioration de la mobilité urbaine passe aussi par le renforcement du système d’information pour une meilleure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ma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160020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buClr>
                <a:srgbClr val="80808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tic mo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808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ôle des différents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808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question des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808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enj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808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80808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152280"/>
            <a:ext cx="19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ssibilité d’ajouter le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e mobilité urbaine plutôt faible mais croiss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eaux de mo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Taux de 0,6 à 0,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:, Beyrouth, Al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Taux de 0,9 à 1,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: Le Caire, Casablanca, Istanb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Taux de 1,2 ou pl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: Tu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ance à la cro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ments d’échelles de la mobilité avec la métropo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ngement des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e motorisation relativement faible mais en croissance f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mbre de véhicules pour 1000 habit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aux faible : entre 70 et 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 Caire (68 en 1998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er (69 en 1990, 83 en 2004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aux intermédiaire, entre 100 et 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nis (64 en 1994, mais 100 en 2002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ablanca (110 en 200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tanbul (160 en 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aux élevé, supérieur à 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Beyrouth (3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 initiatives de politique publique en faveur de l’automobile: les programmes « voiture populair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Tunisie ou au Maro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x des carburants très contras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 carburants parfois taxés, parfois subventionn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s une tendance structurelle à la hausse des prix du pétrole entraînant la hausse des coûts d’usage de l’auto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6400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ce des transports collectifs menac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ôle des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meurant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très importante de la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marche à pi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lus de 50% à Alger ou Casablan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clin des TC au profit de l’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intermédiaire des taxis individu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ien ou développement des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ransports spécialis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 ramassage des employés ou des élè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ux ro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t parfois un rôle d’ap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au Répartition mod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752480"/>
          <a:ext cx="8229600" cy="38862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028880"/>
                <a:gridCol w="952200"/>
                <a:gridCol w="1143000"/>
                <a:gridCol w="990720"/>
                <a:gridCol w="1028880"/>
                <a:gridCol w="1028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yr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C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ablan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tanb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n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he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8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V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4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Taxi individ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 Ro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Total Mode individ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poids significatif des transports collectifs artisanau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au : Part des transports artisana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les déplacements motor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2590920"/>
          <a:ext cx="7620120" cy="290808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193760"/>
                <a:gridCol w="1346040"/>
                <a:gridCol w="1270080"/>
                <a:gridCol w="1270080"/>
              </a:tblGrid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Ca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ablan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he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is collecti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b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artisa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5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21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3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828800"/>
          <a:ext cx="609624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624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54:34Z</dcterms:created>
  <dc:creator>Mehdi Chouikh</dc:creator>
  <dc:description/>
  <dc:language>en-US</dc:language>
  <cp:lastModifiedBy>wb293401</cp:lastModifiedBy>
  <dcterms:modified xsi:type="dcterms:W3CDTF">2008-01-18T14:31:41Z</dcterms:modified>
  <cp:revision>41</cp:revision>
  <dc:subject/>
  <dc:title>Présentation PowerPoint</dc:title>
</cp:coreProperties>
</file>