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5.wmf" ContentType="image/x-wmf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8.jpeg" ContentType="image/jpe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C34-43BB-4DD2-B509-33E2830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4BF-76A6-4041-83D4-746FB067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477-E7E8-46AF-8CC9-314CAB36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FA7-60A4-49A6-A948-A39ACC95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99E-B4FB-448B-A626-6CD82E28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C659-81D7-42C0-BF4C-9140DD6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7F48-867D-4291-81E4-9F8FAF6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2149-F02B-4C34-8B68-1A53CBC2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7F01-266E-4057-A862-68CE4BD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4D9A-9010-4F94-8CE6-6A915A27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FA3-910E-4234-B548-672574E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9E4-26AD-459B-8DFB-EC48D7CE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AD8D-80D9-4B18-864B-A36DCCB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2315-8094-49DA-88AB-60CA58A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84B-8882-473C-8DC4-B8C8190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F6DA-BC5A-423C-B8D7-A62495BE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D29-5814-42F9-94A3-FBB8EF9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215A-C3A4-499F-BF5F-87341691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979B-FB9C-464B-91FC-BEB0851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4012-C203-4149-8EF7-66AEE19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0635-1B09-40AB-96B0-5A3AB86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B743-B9F0-4A8B-8F18-6BD3FE1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78A-ACF1-4ED4-A3D8-7EC60FC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10C1-75FA-48D3-A1DE-C125451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7C39-EF6C-48BE-AAA3-C022E12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01CC-FB8A-4335-AF7C-A09E896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BE77-6724-474F-898D-8F2D1A4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14C2-BDE2-489C-A354-0D6192D8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7667-BE55-4076-9A3C-46712733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708C-D0E0-49EE-A3CA-5488D9FE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3176-DA16-4A68-B286-65B92A6C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B077-1C20-47B2-A344-1BF4A7E3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7FC3-80DE-4FBE-85A7-1531F5A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66D-C819-426B-AA48-9BDB6854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5FBB-EFDF-4970-B336-858E878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84A0-EB20-4F36-94C4-0D9EEEA4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A71E-66C4-49C0-8F38-D84462F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EBD0-FBA7-45DE-94DF-B384762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ECEA-A4CF-4A01-96F7-FCD4CA0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C34A-7E06-4708-9A6D-5EC662EF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90B5-DD69-478A-B034-1B46918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F920-172A-4E34-B30C-30AA7476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731F-BD33-48A3-8520-78B5C305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6B1-38C9-4A93-8184-F70940C7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6A4-1DCE-4FCB-804F-4E66920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A58-CB83-4C83-AD41-EB1FD8E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7A6-C8B7-4FD0-867A-2356045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24B-B7D6-465A-953F-114E3247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A7D2-7B1B-4872-ACCD-F6731F43B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5FA5-4990-4E3D-963E-5986AE26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5A6-CBFF-4C1D-852C-A6E13BC1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0465-2E4E-4400-A01A-3CEA53E7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uoc-suckhoe.com/khainiem/baiviet/phanloai043.htm" TargetMode="External"/><Relationship Id="rId3" Type="http://schemas.openxmlformats.org/officeDocument/2006/relationships/hyperlink" Target="http://en.wikipedia.org/wiki/Quinolone" TargetMode="External"/><Relationship Id="rId4" Type="http://schemas.openxmlformats.org/officeDocument/2006/relationships/hyperlink" Target="http://www.ycantho.com/qa/showthread.php?9565-Goodman-amp-Gilman-s-The-Pharmacological-Basis-of-Therapeutics-11th" TargetMode="External"/><Relationship Id="rId5" Type="http://schemas.openxmlformats.org/officeDocument/2006/relationships/hyperlink" Target="http://www.ycantho.com/qa/showthread.php?9565-Goodman-amp-Gilman-s-The-Pharmacological-Basis-of-Therapeutics-11th" TargetMode="Externa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320" y="2130120"/>
            <a:ext cx="5895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UINOL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8120" y="387144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1000" y="13651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2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( f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luoroquinolon)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noxacin, grepafloxacin, lomefloxa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ặc trưng bởi việc thêm nguyên tử fluorin vào cấu trúc quinol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ác dụng lên AND gyrase và topoisomerase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Ciprofloxacin"/>
          <p:cNvPicPr/>
          <p:nvPr/>
        </p:nvPicPr>
        <p:blipFill>
          <a:blip r:embed="rId2"/>
          <a:stretch/>
        </p:blipFill>
        <p:spPr>
          <a:xfrm>
            <a:off x="5084640" y="3778200"/>
            <a:ext cx="4059360" cy="3079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ENOXACIN"/>
          <p:cNvPicPr/>
          <p:nvPr/>
        </p:nvPicPr>
        <p:blipFill>
          <a:blip r:embed="rId3"/>
          <a:stretch/>
        </p:blipFill>
        <p:spPr>
          <a:xfrm>
            <a:off x="0" y="3816360"/>
            <a:ext cx="400860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TD :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hlamydia trachomatis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(Ofloxaci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rotatis: Norfloxacin, cifprofloxac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Pseudomonas aeruginosa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: cifprofloxa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loxa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DOLOCEP 59k/viê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Oflocet%20Lo%C3%AF%20ch%C3%B6%C3%B9a%20dung%20d%C3%B2ch%20tie%C3%A2m_1908"/>
          <p:cNvPicPr/>
          <p:nvPr/>
        </p:nvPicPr>
        <p:blipFill>
          <a:blip r:embed="rId2"/>
          <a:stretch/>
        </p:blipFill>
        <p:spPr>
          <a:xfrm>
            <a:off x="0" y="3765600"/>
            <a:ext cx="2687760" cy="3092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869000" y="3616200"/>
            <a:ext cx="4000320" cy="26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9600" y="127116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alibri"/>
              </a:rPr>
              <a:t>Tác dụ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1000" y="1655280"/>
            <a:ext cx="822636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3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gatifloxacin, levofloxacin, moxifloxacin và sparfloxa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hống vi khuẩn gram dương, đặc biệt là chống Streptococcus pneumoniae nhạy cảm và kháng penicil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Levaquin-Side-Effects"/>
          <p:cNvPicPr/>
          <p:nvPr/>
        </p:nvPicPr>
        <p:blipFill>
          <a:blip r:embed="rId2"/>
          <a:stretch/>
        </p:blipFill>
        <p:spPr>
          <a:xfrm>
            <a:off x="0" y="3726000"/>
            <a:ext cx="3292560" cy="313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Tequin"/>
          <p:cNvPicPr/>
          <p:nvPr/>
        </p:nvPicPr>
        <p:blipFill>
          <a:blip r:embed="rId3"/>
          <a:stretch/>
        </p:blipFill>
        <p:spPr>
          <a:xfrm>
            <a:off x="3294000" y="3740040"/>
            <a:ext cx="5850000" cy="31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ofloxa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0k/ l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38k/viê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k/ l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5k/ l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68440" y="1538280"/>
            <a:ext cx="2857320" cy="2149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686560" y="893880"/>
            <a:ext cx="3211200" cy="3725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66680" y="4035600"/>
            <a:ext cx="342900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xifloxa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VELOX  52k/viê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80200" y="1298520"/>
            <a:ext cx="32763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4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rovafloxacin, alatrofloxacin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rovafloxacin có tác dụng rõ rệt chống vi khuẩn kị khí, chống gram âm và gram dư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rovafloxacin tác dụng phụ nặng trên g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pills"/>
          <p:cNvPicPr/>
          <p:nvPr/>
        </p:nvPicPr>
        <p:blipFill>
          <a:blip r:embed="rId2"/>
          <a:stretch/>
        </p:blipFill>
        <p:spPr>
          <a:xfrm>
            <a:off x="4789440" y="1620720"/>
            <a:ext cx="386568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6720" y="442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 ph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70280" y="3146400"/>
            <a:ext cx="822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Dị dạng sụ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ứt gân gó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i55551636_105433_1"/>
          <p:cNvPicPr/>
          <p:nvPr/>
        </p:nvPicPr>
        <p:blipFill>
          <a:blip r:embed="rId2"/>
          <a:stretch/>
        </p:blipFill>
        <p:spPr>
          <a:xfrm>
            <a:off x="0" y="2341440"/>
            <a:ext cx="4462560" cy="45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Dược động họ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Hấp thu qua đường tiêu hó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ải qua thậ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Hafl life từ 4-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inh khả dụng cao 90-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medicine"/>
          <p:cNvPicPr/>
          <p:nvPr/>
        </p:nvPicPr>
        <p:blipFill>
          <a:blip r:embed="rId2"/>
          <a:stretch/>
        </p:blipFill>
        <p:spPr>
          <a:xfrm>
            <a:off x="3886200" y="3349800"/>
            <a:ext cx="525780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ài liệu tham khả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ược lý học lâm sàng y Hà Nội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4b73"/>
                </a:solidFill>
                <a:uFillTx/>
                <a:latin typeface="Arial"/>
                <a:hlinkClick r:id="rId2"/>
              </a:rPr>
              <a:t>http://www.thuoc-suckhoe.com/khainiem/baiviet/phanloai04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4b73"/>
                </a:solidFill>
                <a:uFillTx/>
                <a:latin typeface="Arial"/>
                <a:hlinkClick r:id="rId3"/>
              </a:rPr>
              <a:t>http://en.wikipedia.org/wiki/Quin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 biology-understanding the genetic revolution của David D.Clark bởi Đặng Xuân Nghiêm 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24b73"/>
                </a:solidFill>
                <a:uFillTx/>
                <a:latin typeface="Times New Roman"/>
                <a:hlinkClick r:id="rId4"/>
              </a:rPr>
              <a:t>Goodman &amp; Gilman's The Pharmacological Basis of Therapeutics 11</a:t>
            </a:r>
            <a:r>
              <a:rPr b="0" lang="en-US" sz="2400" spc="-1" strike="noStrike" u="sng" baseline="30000">
                <a:solidFill>
                  <a:srgbClr val="224b73"/>
                </a:solidFill>
                <a:uFillTx/>
                <a:latin typeface="Times New Roman"/>
                <a:hlinkClick r:id="rId5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5520" y="339840"/>
            <a:ext cx="819648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5480" y="2473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684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ấu t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ơ ch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ác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inh khả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ác dụng ph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ẤU T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796760"/>
            <a:ext cx="382572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Là kháng sinh hoàn toàn tổng hợ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- Thế hệ 1: acid nalidix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ế hệ 2.3.4: flouroquino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ìm ra năm 196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rcm2101_01_owen_fig3"/>
          <p:cNvPicPr/>
          <p:nvPr/>
        </p:nvPicPr>
        <p:blipFill>
          <a:blip r:embed="rId2"/>
          <a:stretch/>
        </p:blipFill>
        <p:spPr>
          <a:xfrm>
            <a:off x="4375080" y="388800"/>
            <a:ext cx="4397400" cy="629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41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Ơ CHẾ TÁC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345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Calibri"/>
              </a:rPr>
              <a:t>Negative supercoils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ồng phân topo (topoisome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poisomerase :enzym chèn thêm hay loại bỏ siêu xoắ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017960" y="1360440"/>
            <a:ext cx="4842000" cy="51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18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Ơ CHẾ TÁC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11280"/>
            <a:ext cx="41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opoisomerase II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: DNA gy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ồm 2 tiểu phân A,2 tiểu phâ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iểu phân A:cắt và nối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iểu phân B:thủy phân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4125960" y="844560"/>
            <a:ext cx="5018040" cy="54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087200"/>
            <a:ext cx="3570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poisomerase IV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NA bị lồng vào nhau khi sao mã tạo thành những chuỗi móc xích(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catenan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nút thắt(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knot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opoisomerase IV giải phóng các catenane, knot tạo vòng DNA riêng biệ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3940200" y="770040"/>
            <a:ext cx="5203800" cy="54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Cơ chế tác dụ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- Kháng sinh quinolon thế hệ 1 gắn vào protein Gy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phức hệ không hoạt động được </a:t>
            </a:r>
            <a:r>
              <a:rPr b="0" lang="en-US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quá trình sao mã ko thực hiện đượ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- Các flouroquino(quinolon thế hệ 2,3,4) tác dụng lên AND GyrA và toposomerase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kháng thuố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y đổi cấu trúc AND gy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y đổi cấu trúc topoisomerase 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</a:rPr>
              <a:t>TÁC DỤ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1844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ác quinolon thế hệ 1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(acid nalidixic và cinoxacin) chỉ diệt được Gram (-) đường niệu, tiêu hó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Được dùng trong diều trị nhiễm trùng đường tiết niệu (UTI) không biến chứ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negram"/>
          <p:cNvPicPr/>
          <p:nvPr/>
        </p:nvPicPr>
        <p:blipFill>
          <a:blip r:embed="rId2"/>
          <a:stretch/>
        </p:blipFill>
        <p:spPr>
          <a:xfrm>
            <a:off x="5578560" y="2886120"/>
            <a:ext cx="310500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1280452198-16"/>
          <p:cNvPicPr/>
          <p:nvPr/>
        </p:nvPicPr>
        <p:blipFill>
          <a:blip r:embed="rId3"/>
          <a:stretch/>
        </p:blipFill>
        <p:spPr>
          <a:xfrm>
            <a:off x="493560" y="3268800"/>
            <a:ext cx="342900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00:50:15Z</dcterms:created>
  <dc:creator>Thanh Thao</dc:creator>
  <dc:description/>
  <dc:language>en-US</dc:language>
  <cp:lastModifiedBy>Asus</cp:lastModifiedBy>
  <dcterms:modified xsi:type="dcterms:W3CDTF">2011-08-23T10:22:11Z</dcterms:modified>
  <cp:revision>23</cp:revision>
  <dc:subject/>
  <dc:title>KHÁNG SINH QUINOLONES</dc:title>
</cp:coreProperties>
</file>