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9.jpeg" ContentType="image/jpeg"/>
  <Override PartName="/ppt/media/image11.jpeg" ContentType="image/jpeg"/>
  <Override PartName="/ppt/media/image7.wmf" ContentType="image/x-wmf"/>
  <Override PartName="/ppt/media/image12.png" ContentType="image/png"/>
  <Override PartName="/ppt/media/image20.jpeg" ContentType="image/jpeg"/>
  <Override PartName="/ppt/media/image6.wmf" ContentType="image/x-wmf"/>
  <Override PartName="/ppt/media/image19.jpeg" ContentType="image/jpeg"/>
  <Override PartName="/ppt/media/image5.wmf" ContentType="image/x-wmf"/>
  <Override PartName="/ppt/media/image21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18.jpeg" ContentType="image/jpeg"/>
  <Override PartName="/ppt/media/image8.gif" ContentType="image/gi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5468-E4A5-483D-90D5-972A20285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DB3D-EB29-410D-82DA-70BA89D40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6662-1B36-4975-8C94-BC450A62F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12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540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676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12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F1B4-0898-48A1-AC3A-BFC51D1F1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C5A96-AEA5-46BB-A668-10C7C8350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90283-610F-4E12-AF3B-988DEF224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391FA-7610-4FC5-B33F-82ECBCA55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5AF86-B737-4903-937B-5CA72BD77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5339C-9F58-48BA-8335-B15F86333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5400" y="2743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C376D-544E-434C-A9F6-64ACE8D2F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269F6-6E78-4F84-9A3A-E5DE4462D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DFD1-556A-436C-A9E3-3244F25F4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779BC-ABA7-4421-BE64-376D97E72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18D52-B781-4C50-8E8A-9FF61F50E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67F0A-4F12-4595-9A1B-E9B6ECA5E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DA6EE-1C48-49FC-9261-B5CF74709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1812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540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676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1812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1ABB8-E774-477D-A55D-60DA13F43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2A1A05-FA87-41EB-B2B9-6543E12E7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4F4004-EF5D-491B-8D48-A62714730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3D5E74-9DD4-45C9-8F48-10C3B4A4E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FF603A-C5AD-4756-A7FB-2FCA299F7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44BDAC-A251-46B3-BAF3-2C88509B1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BFE3-5D8B-4AC7-80FC-3742F7B9D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5400" y="2743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AC845A-5C62-4C02-82FE-8EB9F0C19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F28094-DBD5-4122-8384-425D758CE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2BEA11-3B77-43B9-B510-6C442DA07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8FCFE6-1E67-49CC-B78E-37E938D54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748ABB-94FB-4277-9E34-2BAAE1A36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09115F-B1B6-459C-A2E1-0C17203CE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1812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540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676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1812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8C04B9-FCEA-45BB-8387-866C4B8C8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F696E3-8737-42D9-B9F8-6ABBD5B85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580469-F738-406B-89D1-4C0A68C73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A4358B-018B-42B2-9478-73FEE6F8D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DD85-EC9A-4FDD-98A8-B8C2512BB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5C582A-DD87-420B-95E6-75B4CE657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0705EB-81CA-4C6C-BD30-C65B013CE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5400" y="2743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AF57B1-1774-4AEC-B4B0-64349DF3B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2AAA8F-BD58-4B4C-93C3-212E192D4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53BBBD-3738-4D51-80A5-0AA7B001D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8B8C92-878D-4065-BB56-330CB12C2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1E7C08-C3DC-4AAB-B799-A313AB187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C33122-7E25-4335-AD9F-A9F55F08A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1812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540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676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1812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365B08-7F0D-43B4-84F7-61495B12C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566A-7F5F-4A88-B0BA-71F9A49CF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5400" y="2743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92E9-4641-4FD5-A780-CE6317D8D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99C7-2611-4091-9757-2F0206AF0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765E-BEF9-40DA-AE85-861BC5178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9BC1-1B0F-4218-96B4-61B38B9F7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32526-2FAB-4DC7-BDDD-1CFCE5A260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F9D60-CCAA-4ED9-BEAC-8D4F349172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94FA1-D1BC-4B95-BAB1-615F04261B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9C75D-F1A1-4A85-814A-AA269502AA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thuoc-suckhoe.com/khainiem/baiviet/phanloai043.htm" TargetMode="External"/><Relationship Id="rId3" Type="http://schemas.openxmlformats.org/officeDocument/2006/relationships/hyperlink" Target="http://en.wikipedia.org/wiki/Quinolone" TargetMode="External"/><Relationship Id="rId4" Type="http://schemas.openxmlformats.org/officeDocument/2006/relationships/hyperlink" Target="http://www.ycantho.com/qa/showthread.php?9565-Goodman-amp-Gilman-s-The-Pharmacological-Basis-of-Therapeutics-11th" TargetMode="External"/><Relationship Id="rId5" Type="http://schemas.openxmlformats.org/officeDocument/2006/relationships/hyperlink" Target="http://www.ycantho.com/qa/showthread.php?9565-Goodman-amp-Gilman-s-The-Pharmacological-Basis-of-Therapeutics-11th" TargetMode="External"/><Relationship Id="rId6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606320" y="2130120"/>
            <a:ext cx="589572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QUINOLON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2508120" y="3871440"/>
            <a:ext cx="4114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oup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4" descr=""/>
          <p:cNvPicPr/>
          <p:nvPr/>
        </p:nvPicPr>
        <p:blipFill>
          <a:blip r:embed="rId2"/>
          <a:stretch/>
        </p:blipFill>
        <p:spPr>
          <a:xfrm>
            <a:off x="304920" y="304920"/>
            <a:ext cx="2438280" cy="914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TÁC DỤNG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41000" y="136512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Các Quinolon thế hệ 2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:( f</a:t>
            </a:r>
            <a:r>
              <a:rPr b="0" i="1" lang="en-US" sz="2400" spc="-1" strike="noStrike">
                <a:solidFill>
                  <a:srgbClr val="c00000"/>
                </a:solidFill>
                <a:latin typeface="Calibri"/>
              </a:rPr>
              <a:t>luoroquinolon)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Enoxacin, grepafloxacin, lomefloxac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Đặc trưng bởi việc thêm nguyên tử fluorin vào cấu trúc quinol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Tác dụng lên AND gyrase và topoisomeraseI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5" descr="Ciprofloxacin"/>
          <p:cNvPicPr/>
          <p:nvPr/>
        </p:nvPicPr>
        <p:blipFill>
          <a:blip r:embed="rId2"/>
          <a:stretch/>
        </p:blipFill>
        <p:spPr>
          <a:xfrm>
            <a:off x="5084640" y="3778200"/>
            <a:ext cx="4059360" cy="30798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9" descr="ENOXACIN"/>
          <p:cNvPicPr/>
          <p:nvPr/>
        </p:nvPicPr>
        <p:blipFill>
          <a:blip r:embed="rId3"/>
          <a:stretch/>
        </p:blipFill>
        <p:spPr>
          <a:xfrm>
            <a:off x="0" y="3816360"/>
            <a:ext cx="4008600" cy="304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8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3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U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STD :</a:t>
            </a:r>
            <a:r>
              <a:rPr b="0" i="1" lang="en-US" sz="2000" spc="-1" strike="noStrike">
                <a:solidFill>
                  <a:srgbClr val="c00000"/>
                </a:solidFill>
                <a:latin typeface="Calibri"/>
              </a:rPr>
              <a:t>Chlamydia trachomatis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 (Ofloxacin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Protatis: Norfloxacin, cifprofloxaci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alibri"/>
              </a:rPr>
              <a:t>Pseudomonas aeruginosa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: cifprofloxac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loxac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 DOLOCEP 59k/viê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5" descr="Oflocet%20Lo%C3%AF%20ch%C3%B6%C3%B9a%20dung%20d%C3%B2ch%20tie%C3%A2m_1908"/>
          <p:cNvPicPr/>
          <p:nvPr/>
        </p:nvPicPr>
        <p:blipFill>
          <a:blip r:embed="rId2"/>
          <a:stretch/>
        </p:blipFill>
        <p:spPr>
          <a:xfrm>
            <a:off x="0" y="3765600"/>
            <a:ext cx="2687760" cy="30924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4869000" y="3616200"/>
            <a:ext cx="4000320" cy="2651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2" dur="1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9" dur="10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6" dur="10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3" dur="10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0" dur="10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7" dur="1000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4" dur="1000"/>
                                        <p:tgtEl>
                                          <p:spTgt spid="1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1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99600" y="1271160"/>
            <a:ext cx="8226360" cy="708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Calibri"/>
              </a:rPr>
              <a:t>Tác dụng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41000" y="1655280"/>
            <a:ext cx="8226360" cy="520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Các quinolon thế hệ 3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00000"/>
                </a:solidFill>
                <a:latin typeface="Calibri"/>
              </a:rPr>
              <a:t>gatifloxacin, levofloxacin, moxifloxacin và sparfloxac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Chống vi khuẩn gram dương, đặc biệt là chống Streptococcus pneumoniae nhạy cảm và kháng penicilli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5" descr="Levaquin-Side-Effects"/>
          <p:cNvPicPr/>
          <p:nvPr/>
        </p:nvPicPr>
        <p:blipFill>
          <a:blip r:embed="rId2"/>
          <a:stretch/>
        </p:blipFill>
        <p:spPr>
          <a:xfrm>
            <a:off x="0" y="3726000"/>
            <a:ext cx="3292560" cy="31320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6" descr="Tequin"/>
          <p:cNvPicPr/>
          <p:nvPr/>
        </p:nvPicPr>
        <p:blipFill>
          <a:blip r:embed="rId3"/>
          <a:stretch/>
        </p:blipFill>
        <p:spPr>
          <a:xfrm>
            <a:off x="3294000" y="3740040"/>
            <a:ext cx="5850000" cy="3117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5" dur="10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2" dur="10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9" dur="10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9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vofloxac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00k/ lọ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 38k/viê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3k/ l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5k/ l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568440" y="1538280"/>
            <a:ext cx="2857320" cy="214956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3"/>
          <a:stretch/>
        </p:blipFill>
        <p:spPr>
          <a:xfrm>
            <a:off x="5686560" y="893880"/>
            <a:ext cx="3211200" cy="37256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4"/>
          <a:stretch/>
        </p:blipFill>
        <p:spPr>
          <a:xfrm>
            <a:off x="166680" y="4035600"/>
            <a:ext cx="3429000" cy="282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xifloxac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VELOX  52k/viê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5380200" y="1298520"/>
            <a:ext cx="3276360" cy="198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Tác dụ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5760" y="1600200"/>
            <a:ext cx="4340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Các quinolon thế hệ 4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: </a:t>
            </a:r>
            <a:r>
              <a:rPr b="0" i="1" lang="en-US" sz="2400" spc="-1" strike="noStrike">
                <a:solidFill>
                  <a:srgbClr val="c00000"/>
                </a:solidFill>
                <a:latin typeface="Calibri"/>
              </a:rPr>
              <a:t>trovafloxacin, alatrofloxacin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Trovafloxacin có tác dụng rõ rệt chống vi khuẩn kị khí, chống gram âm và gram dươ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Trovafloxacin tác dụng phụ nặng trên ga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7" descr="pills"/>
          <p:cNvPicPr/>
          <p:nvPr/>
        </p:nvPicPr>
        <p:blipFill>
          <a:blip r:embed="rId2"/>
          <a:stretch/>
        </p:blipFill>
        <p:spPr>
          <a:xfrm>
            <a:off x="4789440" y="1620720"/>
            <a:ext cx="3865680" cy="466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0" dur="10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7" dur="10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4" dur="10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0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196720" y="44244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Tác dụng ph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670280" y="3146400"/>
            <a:ext cx="822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Dị dạng sụ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Đứt gân gó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5" descr="si55551636_105433_1"/>
          <p:cNvPicPr/>
          <p:nvPr/>
        </p:nvPicPr>
        <p:blipFill>
          <a:blip r:embed="rId2"/>
          <a:stretch/>
        </p:blipFill>
        <p:spPr>
          <a:xfrm>
            <a:off x="0" y="2341440"/>
            <a:ext cx="4462560" cy="4516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9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1000"/>
                            </p:stCondLst>
                            <p:childTnLst>
                              <p:par>
                                <p:cTn id="48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6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Dược động họ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Hấp thu qua đường tiêu hó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Thải qua thậ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Hafl life từ 4-12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Sinh khả dụng cao 90-9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5" descr="medicine"/>
          <p:cNvPicPr/>
          <p:nvPr/>
        </p:nvPicPr>
        <p:blipFill>
          <a:blip r:embed="rId2"/>
          <a:stretch/>
        </p:blipFill>
        <p:spPr>
          <a:xfrm>
            <a:off x="3886200" y="3349800"/>
            <a:ext cx="5257800" cy="3508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500"/>
                            </p:stCondLst>
                            <p:childTnLst>
                              <p:par>
                                <p:cTn id="50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0" dur="10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7" dur="10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4" dur="10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1" dur="1000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Tài liệu tham khảo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ược lý học lâm sàng y Hà Nội 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224b73"/>
                </a:solidFill>
                <a:uFillTx/>
                <a:latin typeface="Arial"/>
                <a:hlinkClick r:id="rId2"/>
              </a:rPr>
              <a:t>http://www.thuoc-suckhoe.com/khainiem/baiviet/phanloai043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224b73"/>
                </a:solidFill>
                <a:uFillTx/>
                <a:latin typeface="Arial"/>
                <a:hlinkClick r:id="rId3"/>
              </a:rPr>
              <a:t>http://en.wikipedia.org/wiki/Quinol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lecula biology-understanding the genetic revolution của David D.Clark bởi Đặng Xuân Nghiêm 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224b73"/>
                </a:solidFill>
                <a:uFillTx/>
                <a:latin typeface="Times New Roman"/>
                <a:hlinkClick r:id="rId4"/>
              </a:rPr>
              <a:t>Goodman &amp; Gilman's The Pharmacological Basis of Therapeutics 11</a:t>
            </a:r>
            <a:r>
              <a:rPr b="0" lang="en-US" sz="2400" spc="-1" strike="noStrike" u="sng" baseline="30000">
                <a:solidFill>
                  <a:srgbClr val="224b73"/>
                </a:solidFill>
                <a:uFillTx/>
                <a:latin typeface="Times New Roman"/>
                <a:hlinkClick r:id="rId5"/>
              </a:rPr>
              <a:t>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55520" y="339840"/>
            <a:ext cx="8196480" cy="616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5480" y="247320"/>
            <a:ext cx="6316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NỘI D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62684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Cấu tạ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Cơ chế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Tác dụ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Sinh khả dụ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Tác dụng ph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3000"/>
                            </p:stCondLst>
                            <p:childTnLst>
                              <p:par>
                                <p:cTn id="4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4000"/>
                            </p:stCondLst>
                            <p:childTnLst>
                              <p:par>
                                <p:cTn id="4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0"/>
                            </p:stCondLst>
                            <p:childTnLst>
                              <p:par>
                                <p:cTn id="5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5880" y="-360"/>
            <a:ext cx="7313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CẤU TẠ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5400" y="1796760"/>
            <a:ext cx="3825720" cy="384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Là kháng sinh hoàn toàn tổng hợ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- Thế hệ 1: acid nalidix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Thế hệ 2.3.4: flouroquinol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Tìm ra năm 196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6" descr="rcm2101_01_owen_fig3"/>
          <p:cNvPicPr/>
          <p:nvPr/>
        </p:nvPicPr>
        <p:blipFill>
          <a:blip r:embed="rId2"/>
          <a:stretch/>
        </p:blipFill>
        <p:spPr>
          <a:xfrm>
            <a:off x="4375080" y="388800"/>
            <a:ext cx="4397400" cy="6297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44160" y="-36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CƠ CHẾ TÁC DỤ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5760" y="1600200"/>
            <a:ext cx="3450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c00000"/>
                </a:solidFill>
                <a:latin typeface="Calibri"/>
              </a:rPr>
              <a:t>Negative supercoils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Đồng phân topo (topoisomers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Topoisomerase :enzym chèn thêm hay loại bỏ siêu xoắ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c00000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4" descr=""/>
          <p:cNvPicPr/>
          <p:nvPr/>
        </p:nvPicPr>
        <p:blipFill>
          <a:blip r:embed="rId2"/>
          <a:stretch/>
        </p:blipFill>
        <p:spPr>
          <a:xfrm>
            <a:off x="4017960" y="1360440"/>
            <a:ext cx="4842000" cy="5141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9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9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9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900" fill="hold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1880" y="-36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CƠ CHẾ TÁC DỤ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0" y="1511280"/>
            <a:ext cx="4100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Topoisomerase II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: DNA gyr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Gồm 2 tiểu phân A,2 tiểu phân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Tiểu phân A:cắt và nối D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Tiểu phân B:thủy phân A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4" descr=""/>
          <p:cNvPicPr/>
          <p:nvPr/>
        </p:nvPicPr>
        <p:blipFill>
          <a:blip r:embed="rId2"/>
          <a:stretch/>
        </p:blipFill>
        <p:spPr>
          <a:xfrm>
            <a:off x="4125960" y="844560"/>
            <a:ext cx="5018040" cy="543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9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9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9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9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1087200"/>
            <a:ext cx="3570120" cy="51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Topoisomerase IV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DNA bị lồng vào nhau khi sao mã tạo thành những chuỗi móc xích(</a:t>
            </a:r>
            <a:r>
              <a:rPr b="0" i="1" lang="en-US" sz="2400" spc="-1" strike="noStrike">
                <a:solidFill>
                  <a:srgbClr val="c00000"/>
                </a:solidFill>
                <a:latin typeface="Arial"/>
              </a:rPr>
              <a:t>catenane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,nút thắt(</a:t>
            </a:r>
            <a:r>
              <a:rPr b="0" i="1" lang="en-US" sz="2400" spc="-1" strike="noStrike">
                <a:solidFill>
                  <a:srgbClr val="c00000"/>
                </a:solidFill>
                <a:latin typeface="Arial"/>
              </a:rPr>
              <a:t>knot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Topoisomerase IV giải phóng các catenane, knot tạo vòng DNA riêng biệ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5" descr=""/>
          <p:cNvPicPr/>
          <p:nvPr/>
        </p:nvPicPr>
        <p:blipFill>
          <a:blip r:embed="rId2"/>
          <a:stretch/>
        </p:blipFill>
        <p:spPr>
          <a:xfrm>
            <a:off x="3940200" y="770040"/>
            <a:ext cx="5203800" cy="5464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Cơ chế tác dụng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- Kháng sinh quinolon thế hệ 1 gắn vào protein Gyr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phức hệ không hoạt động được </a:t>
            </a:r>
            <a:r>
              <a:rPr b="0" lang="en-US" sz="2400" spc="-1" strike="noStrike">
                <a:solidFill>
                  <a:srgbClr val="c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 quá trình sao mã ko thực hiện đượ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- Các flouroquino(quinolon thế hệ 2,3,4) tác dụng lên AND GyrA và toposomerase I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9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9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9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ơ chế kháng thuốc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y đổi cấu trúc AND gyr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y đổi cấu trúc topoisomerase I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TÁC DỤNG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5400" y="11844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Các quinolon thế hệ 1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 (acid nalidixic và cinoxacin) chỉ diệt được Gram (-) đường niệu, tiêu hó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Được dùng trong diều trị nhiễm trùng đường tiết niệu (UTI) không biến chứ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5" descr="negram"/>
          <p:cNvPicPr/>
          <p:nvPr/>
        </p:nvPicPr>
        <p:blipFill>
          <a:blip r:embed="rId2"/>
          <a:stretch/>
        </p:blipFill>
        <p:spPr>
          <a:xfrm>
            <a:off x="5578560" y="2886120"/>
            <a:ext cx="3105000" cy="36720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7" descr="1280452198-16"/>
          <p:cNvPicPr/>
          <p:nvPr/>
        </p:nvPicPr>
        <p:blipFill>
          <a:blip r:embed="rId3"/>
          <a:stretch/>
        </p:blipFill>
        <p:spPr>
          <a:xfrm>
            <a:off x="493560" y="3268800"/>
            <a:ext cx="3429000" cy="331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5" dur="1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2" dur="10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8T00:50:15Z</dcterms:created>
  <dc:creator>Thanh Thao</dc:creator>
  <dc:description/>
  <dc:language>en-US</dc:language>
  <cp:lastModifiedBy>Asus</cp:lastModifiedBy>
  <dcterms:modified xsi:type="dcterms:W3CDTF">2011-08-23T10:22:11Z</dcterms:modified>
  <cp:revision>23</cp:revision>
  <dc:subject/>
  <dc:title>KHÁNG SINH QUINOLONES</dc:title>
</cp:coreProperties>
</file>