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EABDB-52B0-4681-BC85-34D415F15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0824D-C029-4FDA-BDB1-1E6C3934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E008A-87BE-4D24-89B5-1554BCB69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101A5-F54B-49BB-B974-99DE39458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774BD-8BF9-42DE-BB71-9F1C5A1EC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BD164-935C-4CEB-9E20-1A5D59342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415D4-4169-4A5E-A326-FA74A8011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0B0D8-3ECB-4CD3-8B31-5E81C915A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7AE93-D611-4394-BF12-76EAC6956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1F789-44DF-4395-B52E-CC7895879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4B7A5-BD4A-4289-AD21-7F21D794A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95A5-2C69-4F4A-96B8-9A8C29D9D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DF916-18E5-4796-8907-A72ECE4A4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EFE7B-A864-4B1A-A370-BCC012E8A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AA8FA-1ABB-4482-B338-144D4124E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24ABD-D7B3-436D-9BE0-0BCEEC2CF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2868F-7DFE-4428-A761-ECB8F1E78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5C80525-1B53-4426-BBBC-4FD00E727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64C81A-CC7B-4D14-9F12-14717FFA1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29DEE7-10D8-46F9-B48B-E977EC065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CBA0DD-414E-4814-9534-AF5B6E747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AB4A64-D46E-4024-9997-817132E75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CF5A-68DF-49B2-A125-861C3FC7A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E6FE633-F24F-4609-BA54-6302D0703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B216B3-83E9-4C17-B611-97531441F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3E15E3-44B2-4475-A842-11EA4FA85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708947-2D5A-4D3F-B292-77432046F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66F154-36EF-47A0-8F9D-AEFB236F8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0778394-206D-4556-ADFE-44CC69A043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FE9B0E-6E08-42D5-86AF-5778F00563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178F9-5C1D-48CE-9A86-592E013C93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4BECF-D3A9-40C4-8FD0-EA7C1C956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A8A48-0AE6-4C9B-9E55-FB0AAE8F5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B6B7F-ACAC-4F51-887C-79B77E176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AA41F-4F41-4D9B-A3EF-CC790743C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73F78-800E-4E88-92CA-7C4037C46B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1EFA2-E19A-45AA-AF93-2A37239EA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F3B05-D436-4C22-88DA-F3D866218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B9F94-D5D6-42B1-B5BF-B06601BEC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A892B-888F-4D39-8EBE-9ADA2B8AF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3FB89-400D-4E2A-9395-0F393CCFD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1E522-8CCB-4503-8DD2-704FF35591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D08446-350D-4C51-8982-BAF7DBDFE7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7F52269-3748-4A75-A525-F535D6E7A5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A90A3-A491-45DF-A216-5271A1FD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9656A7-19A0-4C15-A6C9-E174DDD16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5E6BFB-6412-4B74-A37B-B911C97FB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78324B-C36E-4F1A-BD23-FFB8012D8D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880281-BB32-4F60-80FF-06551B4C16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7FB452-626C-4BF2-B04C-396782C36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707A07-976E-4757-B5EE-75FD630FD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E898C6-9730-4589-9999-342029D7F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C66CCE-B6FC-4380-AB10-32CDB0D87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5E36DA-7965-4689-BEA0-B19E2857C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9DDC5E-967F-4D18-80C4-A91EF37AAF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1DF5F-2955-4310-AC93-574063756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C6A444-E507-4100-B509-46DC19A57B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30B02E0-1FF2-437C-B6EB-70FD2DA8A6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BF785FE-CBDC-4427-B8CF-E8E16857CB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B3AC1F3-6E3D-441B-A3E6-52934DFA5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6F618B7-9C75-4E9C-9A42-F730CFC25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E5770B3-1565-44F6-8B5F-A4A2E543D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0F66A4-7534-40D1-907D-AE3BA286E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C65538-C995-4020-96BC-3BBC0FBCB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F6FDE5C-33AD-483B-A864-2937225F4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6A5377-104C-4000-98D7-81129B14D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691F-C08A-40AB-A15D-D74D681F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82AB58-7B61-429F-A02D-15897BF7A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7047EF8-5C75-4290-A05D-3CAE832739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F3EEF32-17D4-42C5-B97C-83A564B827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1FF9E6F-CEA4-44A0-BA19-9E5EA346DC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34FD41-7DD3-43A3-B84B-635022F94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F3B4280-294A-46CA-82F8-48DE0A1CD5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E8DE091-96AB-44DF-928A-29EA9E289A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C54628-CBF9-4155-9521-2536FBA851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DFEBC5A-EB3C-45FD-B228-2F7D4314B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B8AE11-284D-445D-AE1C-DE7B747D1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8AA9-5B95-4E9E-BAE9-8C4C4D3E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E3F2F7-7783-42FB-BA54-551DCC1AF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5708C0-F2E4-42A6-B482-B13041036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535872-2835-4E69-88F9-916B4753E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06A0AE-8D05-4EF5-846C-97C16954E6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519F566-C7EC-4ED2-9656-16DE33AC0E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DC8F3-3AEE-4A8D-B015-1801897C5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1CC8-C995-4176-B095-200C664FCC12}"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AAD9-025B-4D71-B5E4-D1B811C4A2E3}"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0A66-12EF-4D01-B0FA-F6AF687C5C7C}"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22FB-E928-484E-9329-69662EC4B01A}"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AFD8-4D59-489B-A836-85890659760F}"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45A1-B403-49EF-A505-0A6800BE1BF6}"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A1EE-710A-401D-9746-C0C330B2026B}"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133720" y="838080"/>
            <a:ext cx="6858000" cy="41911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575f6d"/>
                </a:solidFill>
                <a:latin typeface="Times New Roman"/>
              </a:rPr>
              <a:t>NGHỊ QUYẾT SỐ 112/2015/QH13 CỦA QUỐC HỘI VỀ QUẢN LÝ, SỬ DỤNG ĐẤT ĐAI C</a:t>
            </a:r>
            <a:r>
              <a:rPr b="1" lang="en-US" sz="2300" spc="-1" strike="noStrike">
                <a:solidFill>
                  <a:srgbClr val="575f6d"/>
                </a:solidFill>
                <a:latin typeface="Century Schoolbook"/>
              </a:rPr>
              <a:t>Ó</a:t>
            </a:r>
            <a:r>
              <a:rPr b="1" lang="vi-VN" sz="2300" spc="-1" strike="noStrike">
                <a:solidFill>
                  <a:srgbClr val="575f6d"/>
                </a:solidFill>
                <a:latin typeface="Times New Roman"/>
              </a:rPr>
              <a:t> NGUỒN GỐC TỪ N</a:t>
            </a:r>
            <a:r>
              <a:rPr b="1" lang="en-US" sz="2300" spc="-1" strike="noStrike">
                <a:solidFill>
                  <a:srgbClr val="575f6d"/>
                </a:solidFill>
                <a:latin typeface="Century Schoolbook"/>
              </a:rPr>
              <a:t>Ô</a:t>
            </a:r>
            <a:r>
              <a:rPr b="1" lang="vi-VN" sz="2300" spc="-1" strike="noStrike">
                <a:solidFill>
                  <a:srgbClr val="575f6d"/>
                </a:solidFill>
                <a:latin typeface="Times New Roman"/>
              </a:rPr>
              <a:t>NG, L</a:t>
            </a:r>
            <a:r>
              <a:rPr b="1" lang="en-US" sz="2300" spc="-1" strike="noStrike">
                <a:solidFill>
                  <a:srgbClr val="575f6d"/>
                </a:solidFill>
                <a:latin typeface="Century Schoolbook"/>
              </a:rPr>
              <a:t>Â</a:t>
            </a:r>
            <a:r>
              <a:rPr b="1" lang="vi-VN" sz="2300" spc="-1" strike="noStrike">
                <a:solidFill>
                  <a:srgbClr val="575f6d"/>
                </a:solidFill>
                <a:latin typeface="Times New Roman"/>
              </a:rPr>
              <a:t>M TRƯỜNG QUỐC DOANH; DỰ KIẾN CHƯƠNG TR</a:t>
            </a:r>
            <a:r>
              <a:rPr b="1" lang="en-US" sz="2300" spc="-1" strike="noStrike">
                <a:solidFill>
                  <a:srgbClr val="575f6d"/>
                </a:solidFill>
                <a:latin typeface="Century Schoolbook"/>
              </a:rPr>
              <a:t>Ì</a:t>
            </a:r>
            <a:r>
              <a:rPr b="1" lang="vi-VN" sz="2300" spc="-1" strike="noStrike">
                <a:solidFill>
                  <a:srgbClr val="575f6d"/>
                </a:solidFill>
                <a:latin typeface="Times New Roman"/>
              </a:rPr>
              <a:t>NH GI</a:t>
            </a:r>
            <a:r>
              <a:rPr b="1" lang="en-US" sz="2300" spc="-1" strike="noStrike">
                <a:solidFill>
                  <a:srgbClr val="575f6d"/>
                </a:solidFill>
                <a:latin typeface="Century Schoolbook"/>
              </a:rPr>
              <a:t>Á</a:t>
            </a:r>
            <a:r>
              <a:rPr b="1" lang="vi-VN" sz="2300" spc="-1" strike="noStrike">
                <a:solidFill>
                  <a:srgbClr val="575f6d"/>
                </a:solidFill>
                <a:latin typeface="Times New Roman"/>
              </a:rPr>
              <a:t>M S</a:t>
            </a:r>
            <a:r>
              <a:rPr b="1" lang="en-US" sz="2300" spc="-1" strike="noStrike">
                <a:solidFill>
                  <a:srgbClr val="575f6d"/>
                </a:solidFill>
                <a:latin typeface="Century Schoolbook"/>
              </a:rPr>
              <a:t>Á</a:t>
            </a:r>
            <a:r>
              <a:rPr b="1" lang="vi-VN" sz="2300" spc="-1" strike="noStrike">
                <a:solidFill>
                  <a:srgbClr val="575f6d"/>
                </a:solidFill>
                <a:latin typeface="Times New Roman"/>
              </a:rPr>
              <a:t>T VIỆC THỰC HIỆN NGHỊ QUYẾT 112 CỦA HỘI ĐỒNG </a:t>
            </a:r>
            <a:r>
              <a:rPr b="1" lang="en-GB" sz="2300" spc="-1" strike="noStrike">
                <a:solidFill>
                  <a:srgbClr val="575f6d"/>
                </a:solidFill>
                <a:latin typeface="Century Schoolbook"/>
              </a:rPr>
              <a:t>        </a:t>
            </a:r>
            <a:r>
              <a:rPr b="1" lang="vi-VN" sz="2300" spc="-1" strike="noStrike">
                <a:solidFill>
                  <a:srgbClr val="575f6d"/>
                </a:solidFill>
                <a:latin typeface="Times New Roman"/>
              </a:rPr>
              <a:t>D</a:t>
            </a:r>
            <a:r>
              <a:rPr b="1" lang="en-US" sz="2300" spc="-1" strike="noStrike">
                <a:solidFill>
                  <a:srgbClr val="575f6d"/>
                </a:solidFill>
                <a:latin typeface="Century Schoolbook"/>
              </a:rPr>
              <a:t>Â</a:t>
            </a:r>
            <a:r>
              <a:rPr b="1" lang="vi-VN" sz="2300" spc="-1" strike="noStrike">
                <a:solidFill>
                  <a:srgbClr val="575f6d"/>
                </a:solidFill>
                <a:latin typeface="Times New Roman"/>
              </a:rPr>
              <a:t>N TỘC</a:t>
            </a:r>
            <a:endParaRPr b="0" lang="en-US" sz="23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hs. Nguyễn Mạnh Quỳnh</a:t>
            </a:r>
            <a:endParaRPr b="0" lang="en-US" sz="2000" spc="-1" strike="noStrike">
              <a:solidFill>
                <a:srgbClr val="000000"/>
              </a:solidFill>
              <a:latin typeface="Century Schoolbook"/>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hó Vụ trưởng, Vụ Dân tộc</a:t>
            </a:r>
            <a:r>
              <a:rPr b="0" i="1" lang="vi-VN"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Times New Roman"/>
              </a:rPr>
              <a:t>Văn phòng Quốc hội</a:t>
            </a:r>
            <a:r>
              <a:rPr b="0" i="1"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716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ẦN THỨ HAI</a:t>
            </a:r>
            <a:br>
              <a:rPr sz="2200"/>
            </a:br>
            <a:r>
              <a:rPr b="1" lang="en-US" sz="2200" spc="-1" strike="noStrike">
                <a:solidFill>
                  <a:srgbClr val="000000"/>
                </a:solidFill>
                <a:latin typeface="Times New Roman"/>
              </a:rPr>
              <a:t>KẾ HOẠCH GIÁM SÁT THỰC HIỆN NQ 112</a:t>
            </a:r>
            <a:endParaRPr b="0" lang="en-US" sz="2200" spc="-1" strike="noStrike">
              <a:solidFill>
                <a:srgbClr val="575f6d"/>
              </a:solidFill>
              <a:latin typeface="Century Schoolbook"/>
            </a:endParaRPr>
          </a:p>
        </p:txBody>
      </p:sp>
      <p:sp>
        <p:nvSpPr>
          <p:cNvPr id="369" name=""/>
          <p:cNvSpPr txBox="1"/>
          <p:nvPr/>
        </p:nvSpPr>
        <p:spPr>
          <a:xfrm>
            <a:off x="609480" y="1523880"/>
            <a:ext cx="7315200" cy="49500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1" lang="nl-NL" sz="2000" spc="-1" strike="noStrike">
                <a:solidFill>
                  <a:srgbClr val="000000"/>
                </a:solidFill>
                <a:latin typeface="Times New Roman"/>
                <a:ea typeface="Times New Roman"/>
              </a:rPr>
              <a:t>1. Sự cấn thiết tiến hành giám sát</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Qua theo dõi</a:t>
            </a:r>
            <a:r>
              <a:rPr b="0" lang="en-US" sz="2000" spc="-1" strike="noStrike">
                <a:solidFill>
                  <a:srgbClr val="000000"/>
                </a:solidFill>
                <a:latin typeface="Century Schoolbook"/>
              </a:rPr>
              <a:t> của Hội đồng Dân tộc: S</a:t>
            </a:r>
            <a:r>
              <a:rPr b="0" lang="nl-NL" sz="2000" spc="-1" strike="noStrike">
                <a:solidFill>
                  <a:srgbClr val="000000"/>
                </a:solidFill>
                <a:latin typeface="Times New Roman"/>
                <a:ea typeface="Times New Roman"/>
              </a:rPr>
              <a:t>au 2 năm </a:t>
            </a:r>
            <a:r>
              <a:rPr b="0" lang="en-US" sz="2000" spc="-1" strike="noStrike">
                <a:solidFill>
                  <a:srgbClr val="000000"/>
                </a:solidFill>
                <a:latin typeface="Century Schoolbook"/>
              </a:rPr>
              <a:t>triển khai thực hiện NQ 112/2015/QH13, kết quả thực hiện các mục tiêu chậm.</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Hội đồng Dân tộc phối hợp với Trung tâm nghiên cứu phát triển kinh tế và môi trường bền vững (thuộc LHCHHKKTVN) tiến hành nghiên cứu, khảo sát tại một số địa phương, đánh giá sơ bộ kết quả thực hiện NQ 112; xây dựng khung đề cương giám sát của Hội đồng Dân tộc về thực hiện NQ 112;</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ong Chương trình hoạt đông năm 2018 của </a:t>
            </a:r>
            <a:r>
              <a:rPr b="0" lang="en-US" sz="2000" spc="-1" strike="noStrike">
                <a:solidFill>
                  <a:srgbClr val="000000"/>
                </a:solidFill>
                <a:latin typeface="Century Schoolbook"/>
              </a:rPr>
              <a:t>Hội đồng Dân tộc đã quyết định lựa chọn giám sát chuyên đề</a:t>
            </a:r>
            <a:r>
              <a:rPr b="0" lang="nl-NL" sz="2000" spc="-1" strike="noStrike">
                <a:solidFill>
                  <a:srgbClr val="000000"/>
                </a:solidFill>
                <a:latin typeface="Times New Roman"/>
              </a:rPr>
              <a:t> “Thực hiện Nghị quyết 112/2015/QH13 về tăng cường quản lý đất đai có nguồn gốc NLTQD do Công ty NLN, BQLR và các tổ chức, hộ gia đình, cá nhân khác sử dụng”.</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52280"/>
            <a:ext cx="746748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ÁM SÁT THỰC HIỆN NQ 112/2015/QH13 (tiếp</a:t>
            </a:r>
            <a:r>
              <a:rPr b="0" lang="en-US" sz="2400" spc="-1" strike="noStrike">
                <a:solidFill>
                  <a:srgbClr val="575f6d"/>
                </a:solidFill>
                <a:latin typeface="Times New Roman"/>
              </a:rPr>
              <a:t>)</a:t>
            </a:r>
            <a:endParaRPr b="0" lang="en-US" sz="2400" spc="-1" strike="noStrike">
              <a:solidFill>
                <a:srgbClr val="575f6d"/>
              </a:solidFill>
              <a:latin typeface="Century Schoolbook"/>
            </a:endParaRPr>
          </a:p>
        </p:txBody>
      </p:sp>
      <p:sp>
        <p:nvSpPr>
          <p:cNvPr id="371" name=""/>
          <p:cNvSpPr txBox="1"/>
          <p:nvPr/>
        </p:nvSpPr>
        <p:spPr>
          <a:xfrm>
            <a:off x="456840" y="609480"/>
            <a:ext cx="8077320" cy="6096240"/>
          </a:xfrm>
          <a:prstGeom prst="rect">
            <a:avLst/>
          </a:prstGeom>
          <a:noFill/>
          <a:ln w="0">
            <a:noFill/>
          </a:ln>
        </p:spPr>
        <p:txBody>
          <a:bodyPr anchor="t">
            <a:normAutofit fontScale="96000"/>
          </a:bodyPr>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1" lang="nl-NL" sz="2000" spc="-1" strike="noStrike">
                <a:solidFill>
                  <a:srgbClr val="000000"/>
                </a:solidFill>
                <a:latin typeface="Century Schoolbook"/>
              </a:rPr>
              <a:t>2. Nội dung và mục tiêu giám sát</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Thực hiện trách nhiệm của Hội đồng Dân tộc về giám sát việc thực hiện NQ 112/QH13; </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ánh giá những kết quả, chỉ rõ nguyên nhân của các tồn tại, vướng mắc trong thực hiện NQ 112/QH13; xác định trách nhiệm của các cơ quan ở trung ương, địa phương trong</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ệc quản lý, sử dụng </a:t>
            </a:r>
            <a:r>
              <a:rPr b="0" lang="es-ES" sz="2000" spc="-1" strike="noStrike">
                <a:solidFill>
                  <a:srgbClr val="000000"/>
                </a:solidFill>
                <a:latin typeface="Times New Roman"/>
                <a:ea typeface="Times New Roman"/>
              </a:rPr>
              <a:t>đất đai có nguồn gốc từ đất NLT. </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ề xuất những giải pháp: (i) Hoàn thiện chính sách, pháp luật về quản lý, sử dụng </a:t>
            </a:r>
            <a:r>
              <a:rPr b="0" lang="es-ES" sz="2000" spc="-1" strike="noStrike">
                <a:solidFill>
                  <a:srgbClr val="000000"/>
                </a:solidFill>
                <a:latin typeface="Times New Roman"/>
                <a:ea typeface="Times New Roman"/>
              </a:rPr>
              <a:t>đất đai; ( ii) Khắc phục các tồn tại, hạn chế về </a:t>
            </a:r>
            <a:r>
              <a:rPr b="0" lang="en-US" sz="2000" spc="-1" strike="noStrike">
                <a:solidFill>
                  <a:srgbClr val="000000"/>
                </a:solidFill>
                <a:latin typeface="Times New Roman"/>
                <a:ea typeface="Times New Roman"/>
              </a:rPr>
              <a:t>quản lý, sử dụng </a:t>
            </a:r>
            <a:r>
              <a:rPr b="0" lang="es-ES" sz="2000" spc="-1" strike="noStrike">
                <a:solidFill>
                  <a:srgbClr val="000000"/>
                </a:solidFill>
                <a:latin typeface="Times New Roman"/>
                <a:ea typeface="Times New Roman"/>
              </a:rPr>
              <a:t>đất đai có nguồn gốc từ đất NLT; (iii) Sửa đổi Luật đất đai; </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s-ES" sz="2000" spc="-1" strike="noStrike">
                <a:solidFill>
                  <a:srgbClr val="000000"/>
                </a:solidFill>
                <a:latin typeface="Times New Roman"/>
                <a:ea typeface="Times New Roman"/>
              </a:rPr>
              <a:t>ăng cường hiệu lực, hiệu quả sử dụng đất đai và nguồn tài chính, tài nguyên quốc gia. </a:t>
            </a:r>
            <a:endParaRPr b="0" lang="en-US" sz="2000" spc="-1" strike="noStrike">
              <a:solidFill>
                <a:srgbClr val="000000"/>
              </a:solidFill>
              <a:latin typeface="Century Schoolbook"/>
            </a:endParaRPr>
          </a:p>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3</a:t>
            </a:r>
            <a:r>
              <a:rPr b="1" lang="nl-NL" sz="2000" spc="-1" strike="noStrike">
                <a:solidFill>
                  <a:srgbClr val="000000"/>
                </a:solidFill>
                <a:latin typeface="Times New Roman"/>
              </a:rPr>
              <a:t>. </a:t>
            </a:r>
            <a:r>
              <a:rPr b="1" lang="en-US" sz="2000" spc="-1" strike="noStrike">
                <a:solidFill>
                  <a:srgbClr val="000000"/>
                </a:solidFill>
                <a:latin typeface="Times New Roman"/>
              </a:rPr>
              <a:t>C</a:t>
            </a:r>
            <a:r>
              <a:rPr b="1" lang="vi-VN" sz="2000" spc="-1" strike="noStrike">
                <a:solidFill>
                  <a:srgbClr val="000000"/>
                </a:solidFill>
                <a:latin typeface="Times New Roman"/>
              </a:rPr>
              <a:t>hủ thể giám</a:t>
            </a:r>
            <a:r>
              <a:rPr b="1" lang="en-US" sz="2000" spc="-1" strike="noStrike">
                <a:solidFill>
                  <a:srgbClr val="000000"/>
                </a:solidFill>
                <a:latin typeface="Times New Roman"/>
              </a:rPr>
              <a:t> sát</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ội đồng Dân tộc và các cơ quan của Quốc hội;</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oàn đại biểu Quốc hội và các đại biểu Quốc hội;</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ội đồng nhân dân và đại biểu Hội đồng nhân dân các cấp;</a:t>
            </a:r>
            <a:endParaRPr b="0" lang="en-US" sz="2000" spc="-1" strike="noStrike">
              <a:solidFill>
                <a:srgbClr val="000000"/>
              </a:solidFill>
              <a:latin typeface="Century Schoolbook"/>
            </a:endParaRPr>
          </a:p>
          <a:p>
            <a:pPr marL="261720" indent="-26172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Ủy ban Mặt trận Tổ quốc Việt Nam và các tổ chức thành viên của Mặt trận.</a:t>
            </a:r>
            <a:endParaRPr b="0" lang="en-US" sz="2000" spc="-1" strike="noStrike">
              <a:solidFill>
                <a:srgbClr val="000000"/>
              </a:solidFill>
              <a:latin typeface="Century Schoolbook"/>
            </a:endParaRPr>
          </a:p>
          <a:p>
            <a:pPr marL="261720" indent="-26172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172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 </a:t>
            </a:r>
            <a:endParaRPr b="0" lang="en-US" sz="2000" spc="-1" strike="noStrike">
              <a:solidFill>
                <a:srgbClr val="000000"/>
              </a:solidFill>
              <a:latin typeface="Century Schoolbook"/>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79280"/>
            <a:ext cx="7467480" cy="409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M SÁT THỰC HIỆN NQ 112/2015/QH13 (tiếp)</a:t>
            </a:r>
            <a:endParaRPr b="0" lang="en-US" sz="2000" spc="-1" strike="noStrike">
              <a:solidFill>
                <a:srgbClr val="575f6d"/>
              </a:solidFill>
              <a:latin typeface="Century Schoolbook"/>
            </a:endParaRPr>
          </a:p>
        </p:txBody>
      </p:sp>
      <p:sp>
        <p:nvSpPr>
          <p:cNvPr id="373" name=""/>
          <p:cNvSpPr txBox="1"/>
          <p:nvPr/>
        </p:nvSpPr>
        <p:spPr>
          <a:xfrm>
            <a:off x="457200" y="685800"/>
            <a:ext cx="8229600" cy="578808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4</a:t>
            </a:r>
            <a:r>
              <a:rPr b="1" lang="en-US" sz="1800" spc="-1" strike="noStrike">
                <a:solidFill>
                  <a:srgbClr val="000000"/>
                </a:solidFill>
                <a:latin typeface="Century Schoolbook"/>
              </a:rPr>
              <a:t>. C</a:t>
            </a:r>
            <a:r>
              <a:rPr b="1" lang="vi-VN" sz="1800" spc="-1" strike="noStrike">
                <a:solidFill>
                  <a:srgbClr val="000000"/>
                </a:solidFill>
                <a:latin typeface="Times New Roman"/>
              </a:rPr>
              <a:t>ơ quan, tổ chức, cá nhân chịu sự giám sá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ính phủ, Thủ tướng Chính phủ;</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ác Bộ, ngành, cơ quan Trung ương;</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ội đồng nhân dân, Ủy ban nhân dân các cấp;</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ác Ct</a:t>
            </a:r>
            <a:r>
              <a:rPr b="0" lang="nl-NL" sz="1800" spc="-1" strike="noStrike">
                <a:solidFill>
                  <a:srgbClr val="000000"/>
                </a:solidFill>
                <a:latin typeface="Times New Roman"/>
              </a:rPr>
              <a:t>y NLN, BQLR và các tổ chức, hộ gia đình, cá nhân sử dụng đất NL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5. Phương thức giám sát</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 </a:t>
            </a:r>
            <a:r>
              <a:rPr b="0" i="1" lang="en-US" sz="1800" spc="-1" strike="noStrike">
                <a:solidFill>
                  <a:srgbClr val="000000"/>
                </a:solidFill>
                <a:latin typeface="Century Schoolbook"/>
              </a:rPr>
              <a:t>Giám sát qua văn bản</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ghiên cứu báo cáo của các Bộ, ngành (Tài nguyên &amp; Môi trường, Nông nghiệp &amp; PTNT, Tài chính, Kế hoạch &amp; Đầu tư…) </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ghiên cứu báo cáo của các tỉnh, thành phố;</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Giám sát trực tiếp</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hành lập 4 đoàn giám sát, trực tiếp làm việc tại 9 tỉnh: Quảng Ninh; Tuyên Quang; Thái Nguyên; Sơn La; Yên Bái; Phú Thọ; Đắc Lắc; Gia Lai và Đăk Nông</a:t>
            </a:r>
            <a:endParaRPr b="0" lang="en-US" sz="18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ổ chức giám sát, làm việc với các Bộ: nghe các Bộ báo cáo, giải trình làm rõ các yêu cầu của Hội đồng Dân tộc.</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680"/>
            <a:ext cx="7467480" cy="48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M SÁT THỰC HIỆN NQ 112/2015/QH13 (tiếp)</a:t>
            </a:r>
            <a:endParaRPr b="0" lang="en-US" sz="1800" spc="-1" strike="noStrike">
              <a:solidFill>
                <a:srgbClr val="575f6d"/>
              </a:solidFill>
              <a:latin typeface="Century Schoolbook"/>
            </a:endParaRPr>
          </a:p>
        </p:txBody>
      </p:sp>
      <p:sp>
        <p:nvSpPr>
          <p:cNvPr id="375" name=""/>
          <p:cNvSpPr txBox="1"/>
          <p:nvPr/>
        </p:nvSpPr>
        <p:spPr>
          <a:xfrm>
            <a:off x="761760" y="1298160"/>
            <a:ext cx="7467480" cy="411156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5. Tiến độ thực hiện kế hoạch giám sát</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Tiến độ triển khai</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Triển khai thực hiện từ tháng 6 đến tháng 10/2018.</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 </a:t>
            </a:r>
            <a:r>
              <a:rPr b="0" i="1" lang="en-US" sz="2000" spc="-1" strike="noStrike">
                <a:solidFill>
                  <a:srgbClr val="000000"/>
                </a:solidFill>
                <a:latin typeface="Century Schoolbook"/>
              </a:rPr>
              <a:t>Báo cáo kết quả giám sát</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ác Đoàn giám sát báo cáo Thường trực Hội đồng Dân tộc (sau khi kết thúc giám sát tại các địa phương);</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ường trực Hội đồng Dân tộc  báo cáo Ủy ban Thường vụ Quốc hội (đầu tháng 10/2018);</a:t>
            </a:r>
            <a:endParaRPr b="0" lang="en-US" sz="2000" spc="-1" strike="noStrike">
              <a:solidFill>
                <a:srgbClr val="000000"/>
              </a:solidFill>
              <a:latin typeface="Century Schoolbook"/>
            </a:endParaRPr>
          </a:p>
          <a:p>
            <a:pPr marL="272880" indent="-2728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ội đồng Dân tộc báo cáo Quốc hội (tại kỳ họp 6- tháng 10/2018).</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2437920"/>
            <a:ext cx="746784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RÂN TRỌNG CẢM ƠN</a:t>
            </a:r>
            <a:br>
              <a:rPr sz="3200"/>
            </a:br>
            <a:endParaRPr b="0" lang="en-US" sz="32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6840" y="151920"/>
            <a:ext cx="7467480" cy="83844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PHẦN THỨ NHẤT</a:t>
            </a:r>
            <a:br>
              <a:rPr sz="2000"/>
            </a:br>
            <a:r>
              <a:rPr b="1" lang="en-US" sz="2000" spc="-1" strike="noStrike">
                <a:solidFill>
                  <a:srgbClr val="000000"/>
                </a:solidFill>
                <a:latin typeface="Times New Roman"/>
              </a:rPr>
              <a:t>NGHỊ QUYẾT 112/2005/QH13 </a:t>
            </a:r>
            <a:endParaRPr b="0" lang="en-US" sz="2000" spc="-1" strike="noStrike">
              <a:solidFill>
                <a:srgbClr val="000000"/>
              </a:solidFill>
              <a:latin typeface="Century Schoolbook"/>
            </a:endParaRPr>
          </a:p>
        </p:txBody>
      </p:sp>
      <p:sp>
        <p:nvSpPr>
          <p:cNvPr id="353" name="Rectangle 6"/>
          <p:cNvSpPr/>
          <p:nvPr/>
        </p:nvSpPr>
        <p:spPr>
          <a:xfrm>
            <a:off x="533520" y="1219320"/>
            <a:ext cx="8001000" cy="548640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ối cảnh ra đời: </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Q 112/2015/QH13 “Về tăng cường quản lý đất đai có nguồn gốc từ nông trường, lâm trường quốc doanh do các công ty nông nghiệp, công ty lâm nghiệp, ban quản lý rừng và các tổ chức,hộ gia đình, cá nhân khác sử dụng” (thông qua tại kỳ họp 10 - QH khóa XIII, ngày 27/11/2015).</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Q được ban hành “</a:t>
            </a:r>
            <a:r>
              <a:rPr b="0" lang="vi-VN" sz="1800" spc="-1" strike="noStrike">
                <a:solidFill>
                  <a:srgbClr val="000000"/>
                </a:solidFill>
                <a:latin typeface="Times New Roman"/>
                <a:ea typeface="Times New Roman"/>
              </a:rPr>
              <a:t>Trên cơ sở xem xét Báo cáo số 958/BC-UBTVQH</a:t>
            </a:r>
            <a:r>
              <a:rPr b="0" lang="en-US" sz="1800" spc="-1" strike="noStrike">
                <a:solidFill>
                  <a:srgbClr val="000000"/>
                </a:solidFill>
                <a:latin typeface="Times New Roman"/>
                <a:ea typeface="Times New Roman"/>
              </a:rPr>
              <a:t>1</a:t>
            </a:r>
            <a:r>
              <a:rPr b="0" lang="vi-VN" sz="1800" spc="-1" strike="noStrike">
                <a:solidFill>
                  <a:srgbClr val="000000"/>
                </a:solidFill>
                <a:latin typeface="Times New Roman"/>
                <a:ea typeface="Times New Roman"/>
              </a:rPr>
              <a:t>3 ngày 16 tháng 10 năm 2015 của Ủy ban thường vụ Quốc hội về kết quả giám sát việc thực hiện ch</a:t>
            </a:r>
            <a:r>
              <a:rPr b="0" lang="en-US" sz="1800" spc="-1" strike="noStrike">
                <a:solidFill>
                  <a:srgbClr val="000000"/>
                </a:solidFill>
                <a:latin typeface="Times New Roman"/>
                <a:ea typeface="Times New Roman"/>
              </a:rPr>
              <a:t>í</a:t>
            </a:r>
            <a:r>
              <a:rPr b="0" lang="vi-VN" sz="1800" spc="-1" strike="noStrike">
                <a:solidFill>
                  <a:srgbClr val="000000"/>
                </a:solidFill>
                <a:latin typeface="Times New Roman"/>
                <a:ea typeface="Times New Roman"/>
              </a:rPr>
              <a:t>nh sách, pháp luật về quản lý, sử dụng đất đai tại các nông trường, lâm trường quốc doanh giai đoạn 2004 - 2014 và ý kiến của đại biểu Quốc hội</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285840" indent="-2858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80000"/>
              </a:lnSpc>
              <a:spcBef>
                <a:spcPts val="601"/>
              </a:spcBef>
              <a:buClr>
                <a:srgbClr val="000000"/>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ội dung Nghị quyết: </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ốc hội tán thành với Báo cáo giám sát của UBTVQH.</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ính phủ, các bộ ngành, địa phương, các nông, lâm trường quốc doanh đã có nhiều cố gắng, tích cực thực hiện Nghị quyết số 28-NQ/TW ngày 16/6/2003 của Bộ Chính trị. </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ốc hội chỉ ra những tồn tại, hạn chế của việc quản lý, sử dụng đất đai tại các nông, lâm trường quốc doanh.</a:t>
            </a:r>
            <a:endParaRPr b="0" lang="en-US" sz="1800" spc="-1" strike="noStrike">
              <a:solidFill>
                <a:srgbClr val="000000"/>
              </a:solidFill>
              <a:latin typeface="Times New Roman"/>
            </a:endParaRPr>
          </a:p>
          <a:p>
            <a:pPr lvl="1" marL="743040" indent="-28584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ốc hội yêu cầu Chính phủ thực hiện 05 giải pháp để tăng cường hiệu lực quản lý, hiệu quả sử dụng đất đai và nguồn tài chính, tài nguyên quốc gia. </a:t>
            </a:r>
            <a:endParaRPr b="0" lang="en-US" sz="1800" spc="-1" strike="noStrike">
              <a:solidFill>
                <a:srgbClr val="000000"/>
              </a:solidFill>
              <a:latin typeface="Times New Roman"/>
            </a:endParaRPr>
          </a:p>
          <a:p>
            <a:pPr marL="285840" indent="-2858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28600"/>
            <a:ext cx="7467480" cy="9907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HỮNG KẾT QUẢ CỦA VIỆC QUẢN LÝ, SỬ DỤNG ĐẤT ĐAI TẠI CÁC NLTQD </a:t>
            </a:r>
            <a:endParaRPr b="0" lang="en-US" sz="2000" spc="-1" strike="noStrike">
              <a:solidFill>
                <a:srgbClr val="575f6d"/>
              </a:solidFill>
              <a:latin typeface="Century Schoolbook"/>
            </a:endParaRPr>
          </a:p>
        </p:txBody>
      </p:sp>
      <p:sp>
        <p:nvSpPr>
          <p:cNvPr id="355" name=""/>
          <p:cNvSpPr txBox="1"/>
          <p:nvPr/>
        </p:nvSpPr>
        <p:spPr>
          <a:xfrm>
            <a:off x="456840" y="1599840"/>
            <a:ext cx="8001000" cy="4724280"/>
          </a:xfrm>
          <a:prstGeom prst="rect">
            <a:avLst/>
          </a:prstGeom>
          <a:noFill/>
          <a:ln w="0">
            <a:noFill/>
          </a:ln>
        </p:spPr>
        <p:txBody>
          <a:bodyPr anchor="t">
            <a:normAutofit/>
          </a:bodyPr>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hực hiện NQ 28-NQ/TW, ngày 16/6/2003 của BCT về tiếp tục sắp xếp, đổi mới các NLTQD, Chính phủ, các bộ ngành, địa phương, các Cty NLN, BQLRPH… Qua hơn 10 năm, đã có nhiều cố gắng trong đổi mới mô hình tổ chức, quản lý sản suất, kinh doanh</a:t>
            </a:r>
            <a:r>
              <a:rPr b="0" lang="vi-VN" sz="2000" spc="-1" strike="noStrike">
                <a:solidFill>
                  <a:srgbClr val="000000"/>
                </a:solidFill>
                <a:latin typeface="Times New Roman"/>
                <a:ea typeface="Times New Roman"/>
              </a:rPr>
              <a:t>, đổi mới về quản lý, sử dụng đất</a:t>
            </a:r>
            <a:r>
              <a:rPr b="0" lang="en-US" sz="2000" spc="-1" strike="noStrike">
                <a:solidFill>
                  <a:srgbClr val="000000"/>
                </a:solidFill>
                <a:latin typeface="Times New Roman"/>
                <a:ea typeface="Times New Roman"/>
              </a:rPr>
              <a:t> đai. </a:t>
            </a: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vi-VN" sz="2000" spc="-1" strike="noStrike">
                <a:solidFill>
                  <a:srgbClr val="000000"/>
                </a:solidFill>
                <a:latin typeface="Times New Roman"/>
                <a:ea typeface="Times New Roman"/>
              </a:rPr>
              <a:t>ình trạng </a:t>
            </a:r>
            <a:r>
              <a:rPr b="0" lang="en-US" sz="2000" spc="-1" strike="noStrike">
                <a:solidFill>
                  <a:srgbClr val="000000"/>
                </a:solidFill>
                <a:latin typeface="Times New Roman"/>
                <a:ea typeface="Times New Roman"/>
              </a:rPr>
              <a:t>lấn chiếm, tranh chấp đất đai, cho thuê, mượn</a:t>
            </a:r>
            <a:r>
              <a:rPr b="0" lang="vi-VN" sz="2000" spc="-1" strike="noStrike">
                <a:solidFill>
                  <a:srgbClr val="000000"/>
                </a:solidFill>
                <a:latin typeface="Times New Roman"/>
                <a:ea typeface="Times New Roman"/>
              </a:rPr>
              <a:t> đất đai</a:t>
            </a:r>
            <a:r>
              <a:rPr b="0" lang="en-US" sz="2000" spc="-1" strike="noStrike">
                <a:solidFill>
                  <a:srgbClr val="000000"/>
                </a:solidFill>
                <a:latin typeface="Times New Roman"/>
                <a:ea typeface="Times New Roman"/>
              </a:rPr>
              <a:t> trái pháp luật đã giảm; hiệu quả</a:t>
            </a:r>
            <a:r>
              <a:rPr b="0" lang="vi-VN" sz="2000" spc="-1" strike="noStrike">
                <a:solidFill>
                  <a:srgbClr val="000000"/>
                </a:solidFill>
                <a:latin typeface="Times New Roman"/>
                <a:ea typeface="Times New Roman"/>
              </a:rPr>
              <a:t> quản lý, sử dụng đất</a:t>
            </a:r>
            <a:r>
              <a:rPr b="0" lang="en-US" sz="2000" spc="-1" strike="noStrike">
                <a:solidFill>
                  <a:srgbClr val="000000"/>
                </a:solidFill>
                <a:latin typeface="Times New Roman"/>
                <a:ea typeface="Times New Roman"/>
              </a:rPr>
              <a:t> đai đã được nâng lên; góp phần nâng cao đời sống người lao động tại các NLT. </a:t>
            </a: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ến 2014, 17,1% diện tích đất do các NLT quản lý đã chuyển sang giao đất có thu tiền và thuê đất; 46% diện tích đất của các Cty NN, 73% diện tích các Cty LN, 64% diện tích các BQLR, VQG đã được cấp GCNQSDĐ. </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457200"/>
            <a:ext cx="7467480" cy="5335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ỒN TẠI, HẠN CHẾ VỀ QUẢN LÝ ĐẤT ĐAI</a:t>
            </a:r>
            <a:endParaRPr b="0" lang="en-US" sz="2000" spc="-1" strike="noStrike">
              <a:solidFill>
                <a:srgbClr val="575f6d"/>
              </a:solidFill>
              <a:latin typeface="Century Schoolbook"/>
            </a:endParaRPr>
          </a:p>
        </p:txBody>
      </p:sp>
      <p:sp>
        <p:nvSpPr>
          <p:cNvPr id="357" name=""/>
          <p:cNvSpPr txBox="1"/>
          <p:nvPr/>
        </p:nvSpPr>
        <p:spPr>
          <a:xfrm>
            <a:off x="533160" y="1219320"/>
            <a:ext cx="7848360" cy="5333760"/>
          </a:xfrm>
          <a:prstGeom prst="rect">
            <a:avLst/>
          </a:prstGeom>
          <a:noFill/>
          <a:ln w="0">
            <a:noFill/>
          </a:ln>
        </p:spPr>
        <p:txBody>
          <a:bodyPr anchor="t">
            <a:normAutofit/>
          </a:bodyPr>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ến độ rà soát, sắp xếp, đổi mới về quản lý, sử dụng đất đai của các NLT còn chậm; hiệu quả sử dụng đất đai còn thấp.</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ản đồ, hồ sơ quản lý đất đai thiếu chính xác; không phản ánh đúng thực tế quản lý, sử dụng đất đai. Diện tích đất bàn giao cho địa phương hầu hết chưa được đo vẽ, lập bàn đồ địa chính và phương án quản lý, sử dụng.</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ệc cấp GCNQSDĐ cho các NLT chậm, không chính xác với thực địa.</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vi-VN" sz="2000" spc="-1" strike="noStrike">
                <a:solidFill>
                  <a:srgbClr val="000000"/>
                </a:solidFill>
                <a:latin typeface="Times New Roman"/>
                <a:ea typeface="Times New Roman"/>
              </a:rPr>
              <a:t>ình trạng tranh chấp, vi phạm pháp luật về đất đai</a:t>
            </a:r>
            <a:r>
              <a:rPr b="0" lang="en-US"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trong các nông, lâm trường còn nhiều</a:t>
            </a:r>
            <a:r>
              <a:rPr b="0" lang="en-US"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lấn chiếm, cho thuê, cho mượn, chuyển mục đích, chuyển nhượng trái pháp luật</a:t>
            </a:r>
            <a:r>
              <a:rPr b="0" lang="en-US"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Công tác quản lý, giám sát, thanh, kiểm tra, xử lý trách nhiệm tổ chức, cá nhân vi phạm còn nhiều hạn chế, chưa thực hiện thường xuyên</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nghiêm túc</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Quá trình chuyển đổi mô hình tổ chức </a:t>
            </a:r>
            <a:r>
              <a:rPr b="0" lang="en-US" sz="2000" spc="-1" strike="noStrike">
                <a:solidFill>
                  <a:srgbClr val="000000"/>
                </a:solidFill>
                <a:latin typeface="Times New Roman"/>
                <a:ea typeface="Times New Roman"/>
              </a:rPr>
              <a:t>các NLT</a:t>
            </a:r>
            <a:r>
              <a:rPr b="0" lang="vi-VN" sz="2000" spc="-1" strike="noStrike">
                <a:solidFill>
                  <a:srgbClr val="000000"/>
                </a:solidFill>
                <a:latin typeface="Times New Roman"/>
                <a:ea typeface="Times New Roman"/>
              </a:rPr>
              <a:t> còn lúng túng; hầu hết mới chuyển đổi tên gọi</a:t>
            </a:r>
            <a:r>
              <a:rPr b="0" lang="en-US" sz="2000" spc="-1" strike="noStrike">
                <a:solidFill>
                  <a:srgbClr val="000000"/>
                </a:solidFill>
                <a:latin typeface="Times New Roman"/>
                <a:ea typeface="Times New Roman"/>
              </a:rPr>
              <a:t> (NLT</a:t>
            </a:r>
            <a:r>
              <a:rPr b="0" lang="vi-VN" sz="2000" spc="-1" strike="noStrike">
                <a:solidFill>
                  <a:srgbClr val="000000"/>
                </a:solidFill>
                <a:latin typeface="Times New Roman"/>
                <a:ea typeface="Times New Roman"/>
              </a:rPr>
              <a:t> thành </a:t>
            </a:r>
            <a:r>
              <a:rPr b="0" lang="en-US" sz="2000" spc="-1" strike="noStrike">
                <a:solidFill>
                  <a:srgbClr val="000000"/>
                </a:solidFill>
                <a:latin typeface="Times New Roman"/>
                <a:ea typeface="Times New Roman"/>
              </a:rPr>
              <a:t>Cty</a:t>
            </a:r>
            <a:r>
              <a:rPr b="0" lang="vi-VN" sz="2000" spc="-1" strike="noStrike">
                <a:solidFill>
                  <a:srgbClr val="000000"/>
                </a:solidFill>
                <a:latin typeface="Times New Roman"/>
                <a:ea typeface="Times New Roman"/>
              </a:rPr>
              <a:t> hoặc </a:t>
            </a:r>
            <a:r>
              <a:rPr b="0" lang="en-US" sz="2000" spc="-1" strike="noStrike">
                <a:solidFill>
                  <a:srgbClr val="000000"/>
                </a:solidFill>
                <a:latin typeface="Times New Roman"/>
                <a:ea typeface="Times New Roman"/>
              </a:rPr>
              <a:t>BQL);</a:t>
            </a:r>
            <a:r>
              <a:rPr b="0" lang="vi-VN" sz="2000" spc="-1" strike="noStrike">
                <a:solidFill>
                  <a:srgbClr val="000000"/>
                </a:solidFill>
                <a:latin typeface="Times New Roman"/>
                <a:ea typeface="Times New Roman"/>
              </a:rPr>
              <a:t> chưa có sự thay đổi căn bản về phương thức hoạt động, cơ chế quản lý</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điều hành</a:t>
            </a:r>
            <a:r>
              <a:rPr b="0" lang="en-US"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ệu quả sản xuất, kinh doanh rất thấp; quản lý, sử dụng đất đai còn lãng phí và kém hiệu quả, c</a:t>
            </a:r>
            <a:r>
              <a:rPr b="0" lang="vi-VN" sz="2000" spc="-1" strike="noStrike">
                <a:solidFill>
                  <a:srgbClr val="000000"/>
                </a:solidFill>
                <a:latin typeface="Times New Roman"/>
                <a:ea typeface="Times New Roman"/>
              </a:rPr>
              <a:t>òn thất thoát lớn tài nguyên, tài chính quốc g</a:t>
            </a:r>
            <a:r>
              <a:rPr b="0" lang="en-US" sz="2000" spc="-1" strike="noStrike">
                <a:solidFill>
                  <a:srgbClr val="000000"/>
                </a:solidFill>
                <a:latin typeface="Times New Roman"/>
                <a:ea typeface="Times New Roman"/>
              </a:rPr>
              <a:t>i</a:t>
            </a:r>
            <a:r>
              <a:rPr b="0" lang="vi-VN" sz="2000" spc="-1" strike="noStrike">
                <a:solidFill>
                  <a:srgbClr val="000000"/>
                </a:solidFill>
                <a:latin typeface="Times New Roman"/>
                <a:ea typeface="Times New Roman"/>
              </a:rPr>
              <a:t>a.</a:t>
            </a:r>
            <a:endParaRPr b="0" lang="en-US" sz="2000" spc="-1" strike="noStrike">
              <a:solidFill>
                <a:srgbClr val="000000"/>
              </a:solidFill>
              <a:latin typeface="Century Schoolbook"/>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274680"/>
            <a:ext cx="7010280" cy="48744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IỆM VỤ, GIẢI PHÁP CHỦ YẾU </a:t>
            </a:r>
            <a:endParaRPr b="0" lang="en-US" sz="2000" spc="-1" strike="noStrike">
              <a:solidFill>
                <a:srgbClr val="575f6d"/>
              </a:solidFill>
              <a:latin typeface="Century Schoolbook"/>
            </a:endParaRPr>
          </a:p>
        </p:txBody>
      </p:sp>
      <p:sp>
        <p:nvSpPr>
          <p:cNvPr id="359" name=""/>
          <p:cNvSpPr txBox="1"/>
          <p:nvPr/>
        </p:nvSpPr>
        <p:spPr>
          <a:xfrm>
            <a:off x="456840" y="990720"/>
            <a:ext cx="8001000" cy="57117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a:t>
            </a:r>
            <a:r>
              <a:rPr b="1" lang="vi-VN" sz="2000" spc="-1" strike="noStrike">
                <a:solidFill>
                  <a:srgbClr val="000000"/>
                </a:solidFill>
                <a:latin typeface="Times New Roman"/>
                <a:ea typeface="Times New Roman"/>
              </a:rPr>
              <a:t>Chỉ đạo các bộ, ngành và </a:t>
            </a:r>
            <a:r>
              <a:rPr b="1" lang="en-US" sz="2000" spc="-1" strike="noStrike">
                <a:solidFill>
                  <a:srgbClr val="000000"/>
                </a:solidFill>
                <a:latin typeface="Times New Roman"/>
                <a:ea typeface="Times New Roman"/>
              </a:rPr>
              <a:t>UBND</a:t>
            </a:r>
            <a:r>
              <a:rPr b="1" lang="vi-VN" sz="2000" spc="-1" strike="noStrike">
                <a:solidFill>
                  <a:srgbClr val="000000"/>
                </a:solidFill>
                <a:latin typeface="Times New Roman"/>
                <a:ea typeface="Times New Roman"/>
              </a:rPr>
              <a:t> tỉnh, thành phố tiếp tục triển khai thực hiện nghiêm túc N</a:t>
            </a:r>
            <a:r>
              <a:rPr b="1" lang="en-US" sz="2000" spc="-1" strike="noStrike">
                <a:solidFill>
                  <a:srgbClr val="000000"/>
                </a:solidFill>
                <a:latin typeface="Times New Roman"/>
                <a:ea typeface="Times New Roman"/>
              </a:rPr>
              <a:t>Q</a:t>
            </a:r>
            <a:r>
              <a:rPr b="1" lang="vi-VN" sz="2000" spc="-1" strike="noStrike">
                <a:solidFill>
                  <a:srgbClr val="000000"/>
                </a:solidFill>
                <a:latin typeface="Times New Roman"/>
                <a:ea typeface="Times New Roman"/>
              </a:rPr>
              <a:t> 30-NQ/TW ngày 12/3/2014 của B</a:t>
            </a:r>
            <a:r>
              <a:rPr b="1" lang="en-US" sz="2000" spc="-1" strike="noStrike">
                <a:solidFill>
                  <a:srgbClr val="000000"/>
                </a:solidFill>
                <a:latin typeface="Times New Roman"/>
                <a:ea typeface="Times New Roman"/>
              </a:rPr>
              <a:t>CT</a:t>
            </a:r>
            <a:r>
              <a:rPr b="1" lang="vi-VN" sz="2000" spc="-1" strike="noStrike">
                <a:solidFill>
                  <a:srgbClr val="000000"/>
                </a:solidFill>
                <a:latin typeface="Times New Roman"/>
                <a:ea typeface="Times New Roman"/>
              </a:rPr>
              <a:t> về tiếp tục sắp xếp, đổi mới và phát triển, nâng cao hiệu quả hoạt động của </a:t>
            </a:r>
            <a:r>
              <a:rPr b="1" lang="en-US" sz="2000" spc="-1" strike="noStrike">
                <a:solidFill>
                  <a:srgbClr val="000000"/>
                </a:solidFill>
                <a:latin typeface="Times New Roman"/>
                <a:ea typeface="Times New Roman"/>
              </a:rPr>
              <a:t>Ct</a:t>
            </a:r>
            <a:r>
              <a:rPr b="1" lang="vi-VN" sz="2000" spc="-1" strike="noStrike">
                <a:solidFill>
                  <a:srgbClr val="000000"/>
                </a:solidFill>
                <a:latin typeface="Times New Roman"/>
                <a:ea typeface="Times New Roman"/>
              </a:rPr>
              <a:t>y </a:t>
            </a:r>
            <a:r>
              <a:rPr b="1" lang="en-US" sz="2000" spc="-1" strike="noStrike">
                <a:solidFill>
                  <a:srgbClr val="000000"/>
                </a:solidFill>
                <a:latin typeface="Times New Roman"/>
                <a:ea typeface="Times New Roman"/>
              </a:rPr>
              <a:t>NLN</a:t>
            </a:r>
            <a:r>
              <a:rPr b="1" lang="vi-VN"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Khẩn trương xây dựng, thẩm định và hoàn thành việc phê duyệt đề án sắp xếp, đổi mới </a:t>
            </a:r>
            <a:r>
              <a:rPr b="0" lang="en-US" sz="2000" spc="-1" strike="noStrike">
                <a:solidFill>
                  <a:srgbClr val="000000"/>
                </a:solidFill>
                <a:latin typeface="Times New Roman"/>
                <a:ea typeface="Times New Roman"/>
              </a:rPr>
              <a:t>Cty NLN</a:t>
            </a:r>
            <a:r>
              <a:rPr b="0" lang="vi-VN" sz="2000" spc="-1" strike="noStrike">
                <a:solidFill>
                  <a:srgbClr val="000000"/>
                </a:solidFill>
                <a:latin typeface="Times New Roman"/>
                <a:ea typeface="Times New Roman"/>
              </a:rPr>
              <a:t> để tổ chức thực hiện theo mô hình mới.</a:t>
            </a:r>
            <a:endParaRPr b="0" lang="en-US" sz="2000" spc="-1" strike="noStrike">
              <a:solidFill>
                <a:srgbClr val="000000"/>
              </a:solidFill>
              <a:latin typeface="Century Schoolbook"/>
            </a:endParaRPr>
          </a:p>
          <a:p>
            <a:pPr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Thực hiện việc rà soát, xác định ranh giới, cắm mốc giới, đo đạc, lập bản đồ địa chính và hồ sơ ranh giới sử dụng đất, cấp </a:t>
            </a:r>
            <a:r>
              <a:rPr b="0" lang="en-US" sz="2000" spc="-1" strike="noStrike">
                <a:solidFill>
                  <a:srgbClr val="000000"/>
                </a:solidFill>
                <a:latin typeface="Times New Roman"/>
                <a:ea typeface="Times New Roman"/>
              </a:rPr>
              <a:t>GCNQSDĐ. T</a:t>
            </a:r>
            <a:r>
              <a:rPr b="0" lang="vi-VN" sz="2000" spc="-1" strike="noStrike">
                <a:solidFill>
                  <a:srgbClr val="000000"/>
                </a:solidFill>
                <a:latin typeface="Times New Roman"/>
                <a:ea typeface="Times New Roman"/>
              </a:rPr>
              <a:t>hực hiện thủ tục giao đất, cho thuê đất, xác định giá đất, thu tiền sử dụng đất, tiền thuê đất theo đúng quy định của pháp luật đối với các </a:t>
            </a:r>
            <a:r>
              <a:rPr b="0" lang="en-US" sz="2000" spc="-1" strike="noStrike">
                <a:solidFill>
                  <a:srgbClr val="000000"/>
                </a:solidFill>
                <a:latin typeface="Times New Roman"/>
                <a:ea typeface="Times New Roman"/>
              </a:rPr>
              <a:t>C</a:t>
            </a:r>
            <a:r>
              <a:rPr b="0" lang="vi-VN" sz="2000" spc="-1" strike="noStrike">
                <a:solidFill>
                  <a:srgbClr val="000000"/>
                </a:solidFill>
                <a:latin typeface="Times New Roman"/>
                <a:ea typeface="Times New Roman"/>
              </a:rPr>
              <a:t>ty </a:t>
            </a:r>
            <a:r>
              <a:rPr b="0" lang="en-US" sz="2000" spc="-1" strike="noStrike">
                <a:solidFill>
                  <a:srgbClr val="000000"/>
                </a:solidFill>
                <a:latin typeface="Times New Roman"/>
                <a:ea typeface="Times New Roman"/>
              </a:rPr>
              <a:t>NLN</a:t>
            </a:r>
            <a:r>
              <a:rPr b="0" lang="vi-VN"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t>
            </a:r>
            <a:r>
              <a:rPr b="0" lang="vi-VN" sz="2000" spc="-1" strike="noStrike">
                <a:solidFill>
                  <a:srgbClr val="000000"/>
                </a:solidFill>
                <a:latin typeface="Times New Roman"/>
                <a:ea typeface="Times New Roman"/>
              </a:rPr>
              <a:t>ến hết năm 2016</a:t>
            </a:r>
            <a:r>
              <a:rPr b="0" lang="en-US" sz="2000" spc="-1" strike="noStrike">
                <a:solidFill>
                  <a:srgbClr val="000000"/>
                </a:solidFill>
                <a:latin typeface="Times New Roman"/>
                <a:ea typeface="Times New Roman"/>
              </a:rPr>
              <a:t>: (i) C</a:t>
            </a:r>
            <a:r>
              <a:rPr b="0" lang="vi-VN" sz="2000" spc="-1" strike="noStrike">
                <a:solidFill>
                  <a:srgbClr val="000000"/>
                </a:solidFill>
                <a:latin typeface="Times New Roman"/>
                <a:ea typeface="Times New Roman"/>
              </a:rPr>
              <a:t>ó phương án, kế hoạch giải quyết dứt điểm cơ bản</a:t>
            </a:r>
            <a:r>
              <a:rPr b="0" lang="en-US" sz="2000" spc="-1" strike="noStrike">
                <a:solidFill>
                  <a:srgbClr val="000000"/>
                </a:solidFill>
                <a:latin typeface="Times New Roman"/>
                <a:ea typeface="Times New Roman"/>
              </a:rPr>
              <a:t> t</a:t>
            </a:r>
            <a:r>
              <a:rPr b="0" lang="vi-VN" sz="2000" spc="-1" strike="noStrike">
                <a:solidFill>
                  <a:srgbClr val="000000"/>
                </a:solidFill>
                <a:latin typeface="Times New Roman"/>
                <a:ea typeface="Times New Roman"/>
              </a:rPr>
              <a:t>ình hình tranh chấp đất đai; </a:t>
            </a:r>
            <a:r>
              <a:rPr b="0" lang="en-US" sz="2000" spc="-1" strike="noStrike">
                <a:solidFill>
                  <a:srgbClr val="000000"/>
                </a:solidFill>
                <a:latin typeface="Times New Roman"/>
                <a:ea typeface="Times New Roman"/>
              </a:rPr>
              <a:t>(ii) </a:t>
            </a:r>
            <a:r>
              <a:rPr b="0" lang="vi-VN" sz="2000" spc="-1" strike="noStrike">
                <a:solidFill>
                  <a:srgbClr val="000000"/>
                </a:solidFill>
                <a:latin typeface="Times New Roman"/>
                <a:ea typeface="Times New Roman"/>
              </a:rPr>
              <a:t>xử lý các vi phạm, đặc biệt là tình trạng lấn chiếm, chuyển nhượng, chuyển mục đích, cho thuê, cho mượn, giao khoán đất trái pháp luật</a:t>
            </a:r>
            <a:r>
              <a:rPr b="0" lang="en-US" sz="2000" spc="-1" strike="noStrike">
                <a:solidFill>
                  <a:srgbClr val="000000"/>
                </a:solidFill>
                <a:latin typeface="Times New Roman"/>
                <a:ea typeface="Times New Roman"/>
              </a:rPr>
              <a:t>, không thực hiện đúng nghĩa vụ tài chính; (iii) giải quyết dứt điểm các trường hợp tự ý xây dựng công trình, cư trú trái pháp luật; thu hồi tài sản, đất đai cho nhà nước.</a:t>
            </a:r>
            <a:endParaRPr b="0" lang="en-US" sz="20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680"/>
            <a:ext cx="7467480" cy="411120"/>
          </a:xfrm>
          <a:prstGeom prst="rect">
            <a:avLst/>
          </a:prstGeom>
          <a:noFill/>
          <a:ln w="0">
            <a:noFill/>
          </a:ln>
        </p:spPr>
        <p:txBody>
          <a:bodyPr anchor="b">
            <a:noAutofit/>
          </a:bodyPr>
          <a:p>
            <a:pPr marL="343080" indent="-3430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en-US" sz="2000" spc="-1" strike="noStrike">
                <a:solidFill>
                  <a:srgbClr val="000000"/>
                </a:solidFill>
                <a:latin typeface="Times New Roman"/>
              </a:rPr>
              <a:t>NHIỆM VỤ, GIẢI PHÁP CHỦ YẾU (tiếp)</a:t>
            </a:r>
            <a:endParaRPr b="0" lang="en-US" sz="2000" spc="-1" strike="noStrike">
              <a:solidFill>
                <a:srgbClr val="575f6d"/>
              </a:solidFill>
              <a:latin typeface="Century Schoolbook"/>
            </a:endParaRPr>
          </a:p>
        </p:txBody>
      </p:sp>
      <p:sp>
        <p:nvSpPr>
          <p:cNvPr id="361" name=""/>
          <p:cNvSpPr txBox="1"/>
          <p:nvPr/>
        </p:nvSpPr>
        <p:spPr>
          <a:xfrm>
            <a:off x="456840" y="837720"/>
            <a:ext cx="8001000" cy="56358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 </a:t>
            </a:r>
            <a:r>
              <a:rPr b="1" lang="vi-VN" sz="2000" spc="-1" strike="noStrike">
                <a:solidFill>
                  <a:srgbClr val="000000"/>
                </a:solidFill>
                <a:latin typeface="Times New Roman"/>
                <a:ea typeface="Times New Roman"/>
              </a:rPr>
              <a:t>Năm 2016</a:t>
            </a:r>
            <a:r>
              <a:rPr b="1"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a:t>
            </a:r>
            <a:r>
              <a:rPr b="0" lang="vi-VN" sz="2000" spc="-1" strike="noStrike">
                <a:solidFill>
                  <a:srgbClr val="000000"/>
                </a:solidFill>
                <a:latin typeface="Times New Roman"/>
                <a:ea typeface="Times New Roman"/>
              </a:rPr>
              <a:t>ây dựng và hoàn thiện đề án tăng cường quản lý đối với đất đai có nguồn gốc từ các </a:t>
            </a:r>
            <a:r>
              <a:rPr b="0" lang="en-US" sz="2000" spc="-1" strike="noStrike">
                <a:solidFill>
                  <a:srgbClr val="000000"/>
                </a:solidFill>
                <a:latin typeface="Times New Roman"/>
                <a:ea typeface="Times New Roman"/>
              </a:rPr>
              <a:t>NLTQD</a:t>
            </a:r>
            <a:r>
              <a:rPr b="0" lang="vi-VN" sz="2000" spc="-1" strike="noStrike">
                <a:solidFill>
                  <a:srgbClr val="000000"/>
                </a:solidFill>
                <a:latin typeface="Times New Roman"/>
                <a:ea typeface="Times New Roman"/>
              </a:rPr>
              <a:t> hiện do các </a:t>
            </a:r>
            <a:r>
              <a:rPr b="0" lang="en-US" sz="2000" spc="-1" strike="noStrike">
                <a:solidFill>
                  <a:srgbClr val="000000"/>
                </a:solidFill>
                <a:latin typeface="Times New Roman"/>
                <a:ea typeface="Times New Roman"/>
              </a:rPr>
              <a:t>C</a:t>
            </a:r>
            <a:r>
              <a:rPr b="0" lang="vi-VN" sz="2000" spc="-1" strike="noStrike">
                <a:solidFill>
                  <a:srgbClr val="000000"/>
                </a:solidFill>
                <a:latin typeface="Times New Roman"/>
                <a:ea typeface="Times New Roman"/>
              </a:rPr>
              <a:t>ty</a:t>
            </a:r>
            <a:r>
              <a:rPr b="0" lang="en-US" sz="2000" spc="-1" strike="noStrike">
                <a:solidFill>
                  <a:srgbClr val="000000"/>
                </a:solidFill>
                <a:latin typeface="Times New Roman"/>
                <a:ea typeface="Times New Roman"/>
              </a:rPr>
              <a:t> NLN</a:t>
            </a:r>
            <a:r>
              <a:rPr b="0" lang="vi-VN" sz="2000" spc="-1" strike="noStrike">
                <a:solidFill>
                  <a:srgbClr val="000000"/>
                </a:solidFill>
                <a:latin typeface="Times New Roman"/>
                <a:ea typeface="Times New Roman"/>
              </a:rPr>
              <a:t> không thuộc diện sắp xếp lại theo N</a:t>
            </a:r>
            <a:r>
              <a:rPr b="0" lang="en-US" sz="2000" spc="-1" strike="noStrike">
                <a:solidFill>
                  <a:srgbClr val="000000"/>
                </a:solidFill>
                <a:latin typeface="Times New Roman"/>
                <a:ea typeface="Times New Roman"/>
              </a:rPr>
              <a:t>Đ 118/2014/NĐ-CP, BQLR </a:t>
            </a:r>
            <a:r>
              <a:rPr b="0" lang="vi-VN" sz="2000" spc="-1" strike="noStrike">
                <a:solidFill>
                  <a:srgbClr val="000000"/>
                </a:solidFill>
                <a:latin typeface="Times New Roman"/>
                <a:ea typeface="Times New Roman"/>
              </a:rPr>
              <a:t>và các tổ chức sự nghiệp khác, hộ gia đình, cá nhân sử dụng</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Tổ chức thực hiện nghiêm túc đề án trong giai đoạn 2016 – 2020</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Quy hoạch, sắp xếp các điểm dân cư tập trung, tách ra khỏi diện tích đất đã giao cho các công ty nông, lâm nghiệp quản lý theo quy định của pháp luật</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Tiếp tục rà soát, thu hồi diện tích đất sử dụng không hiệu quả, sử dụng không đúng mục đích</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giao lại cho địa phương để giao cho người dân, nhất là hộ đồng bào dân tộc thiểu số thiếu hoặc không có đất ở, đất sản xuất quản lý, sử dụng</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Xây dựng, hoàn chỉnh chính sách bảo đảm thực hiện tốt việc giao đất, thu đúng, thu đủ tiền thuê đất, sử dụng đất.</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Times New Roman"/>
                <a:ea typeface="Times New Roman"/>
              </a:rPr>
              <a:t>3. </a:t>
            </a:r>
            <a:r>
              <a:rPr b="1" lang="en-US" sz="2000" spc="-1" strike="noStrike">
                <a:solidFill>
                  <a:srgbClr val="000000"/>
                </a:solidFill>
                <a:latin typeface="Times New Roman"/>
                <a:ea typeface="Times New Roman"/>
              </a:rPr>
              <a:t>Hai</a:t>
            </a:r>
            <a:r>
              <a:rPr b="1" lang="vi-VN" sz="2000" spc="-1" strike="noStrike">
                <a:solidFill>
                  <a:srgbClr val="000000"/>
                </a:solidFill>
                <a:latin typeface="Times New Roman"/>
                <a:ea typeface="Times New Roman"/>
              </a:rPr>
              <a:t> năm </a:t>
            </a:r>
            <a:r>
              <a:rPr b="1" lang="en-US" sz="2000" spc="-1" strike="noStrike">
                <a:solidFill>
                  <a:srgbClr val="000000"/>
                </a:solidFill>
                <a:latin typeface="Times New Roman"/>
                <a:ea typeface="Times New Roman"/>
              </a:rPr>
              <a:t>(</a:t>
            </a:r>
            <a:r>
              <a:rPr b="1" lang="vi-VN" sz="2000" spc="-1" strike="noStrike">
                <a:solidFill>
                  <a:srgbClr val="000000"/>
                </a:solidFill>
                <a:latin typeface="Times New Roman"/>
                <a:ea typeface="Times New Roman"/>
              </a:rPr>
              <a:t>2015 – 2016</a:t>
            </a:r>
            <a:r>
              <a:rPr b="1" lang="en-US" sz="2000" spc="-1" strike="noStrike">
                <a:solidFill>
                  <a:srgbClr val="000000"/>
                </a:solidFill>
                <a:latin typeface="Times New Roman"/>
                <a:ea typeface="Times New Roman"/>
              </a:rPr>
              <a:t>),</a:t>
            </a:r>
            <a:r>
              <a:rPr b="1" lang="vi-VN" sz="2000" spc="-1" strike="noStrike">
                <a:solidFill>
                  <a:srgbClr val="000000"/>
                </a:solidFill>
                <a:latin typeface="Times New Roman"/>
                <a:ea typeface="Times New Roman"/>
              </a:rPr>
              <a:t> Ngân sách nhà nước cân đối, bố trí hỗ trợ đủ cho các địa phương thực hiện toàn bộ việc rà soát, xác định ranh giới, cắm mốc, đo đạc, lập bản đồ địa chính và hồ sơ ranh giới sử dụng đất, cấp </a:t>
            </a:r>
            <a:r>
              <a:rPr b="1" lang="en-US" sz="2000" spc="-1" strike="noStrike">
                <a:solidFill>
                  <a:srgbClr val="000000"/>
                </a:solidFill>
                <a:latin typeface="Times New Roman"/>
                <a:ea typeface="Times New Roman"/>
              </a:rPr>
              <a:t>GCNQSDĐ</a:t>
            </a:r>
            <a:r>
              <a:rPr b="1" lang="vi-VN" sz="2000" spc="-1" strike="noStrike">
                <a:solidFill>
                  <a:srgbClr val="000000"/>
                </a:solidFill>
                <a:latin typeface="Times New Roman"/>
                <a:ea typeface="Times New Roman"/>
              </a:rPr>
              <a:t> cho các </a:t>
            </a:r>
            <a:r>
              <a:rPr b="1" lang="en-US" sz="2000" spc="-1" strike="noStrike">
                <a:solidFill>
                  <a:srgbClr val="000000"/>
                </a:solidFill>
                <a:latin typeface="Times New Roman"/>
                <a:ea typeface="Times New Roman"/>
              </a:rPr>
              <a:t>C</a:t>
            </a:r>
            <a:r>
              <a:rPr b="1" lang="vi-VN" sz="2000" spc="-1" strike="noStrike">
                <a:solidFill>
                  <a:srgbClr val="000000"/>
                </a:solidFill>
                <a:latin typeface="Times New Roman"/>
                <a:ea typeface="Times New Roman"/>
              </a:rPr>
              <a:t>ty</a:t>
            </a:r>
            <a:r>
              <a:rPr b="1" lang="en-US" sz="2000" spc="-1" strike="noStrike">
                <a:solidFill>
                  <a:srgbClr val="000000"/>
                </a:solidFill>
                <a:latin typeface="Times New Roman"/>
                <a:ea typeface="Times New Roman"/>
              </a:rPr>
              <a:t> NLN</a:t>
            </a:r>
            <a:r>
              <a:rPr b="1" lang="vi-VN" sz="2000" spc="-1" strike="noStrike">
                <a:solidFill>
                  <a:srgbClr val="000000"/>
                </a:solidFill>
                <a:latin typeface="Times New Roman"/>
                <a:ea typeface="Times New Roman"/>
              </a:rPr>
              <a:t> thuộc diện sắp xếp, đổi mới theo N</a:t>
            </a:r>
            <a:r>
              <a:rPr b="1" lang="en-US" sz="2000" spc="-1" strike="noStrike">
                <a:solidFill>
                  <a:srgbClr val="000000"/>
                </a:solidFill>
                <a:latin typeface="Times New Roman"/>
                <a:ea typeface="Times New Roman"/>
              </a:rPr>
              <a:t>Đ 118/2014/NĐ-CP.</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680"/>
            <a:ext cx="7467480" cy="487440"/>
          </a:xfrm>
          <a:prstGeom prst="rect">
            <a:avLst/>
          </a:prstGeom>
          <a:noFill/>
          <a:ln w="0">
            <a:noFill/>
          </a:ln>
        </p:spPr>
        <p:txBody>
          <a:bodyPr anchor="b">
            <a:noAutofit/>
          </a:bodyPr>
          <a:p>
            <a:pPr marL="343080" indent="-343080" algn="ctr">
              <a:buClr>
                <a:srgbClr val="575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 </a:t>
            </a:r>
            <a:r>
              <a:rPr b="1" lang="en-US" sz="2000" spc="-1" strike="noStrike">
                <a:solidFill>
                  <a:srgbClr val="000000"/>
                </a:solidFill>
                <a:latin typeface="Times New Roman"/>
              </a:rPr>
              <a:t>NHIỆM VỤ, GIẢI PHÁP CHỦ YẾU (tiếp)</a:t>
            </a:r>
            <a:endParaRPr b="0" lang="en-US" sz="2000" spc="-1" strike="noStrike">
              <a:solidFill>
                <a:srgbClr val="575f6d"/>
              </a:solidFill>
              <a:latin typeface="Century Schoolbook"/>
            </a:endParaRPr>
          </a:p>
        </p:txBody>
      </p:sp>
      <p:sp>
        <p:nvSpPr>
          <p:cNvPr id="363" name=""/>
          <p:cNvSpPr txBox="1"/>
          <p:nvPr/>
        </p:nvSpPr>
        <p:spPr>
          <a:xfrm>
            <a:off x="456840" y="837720"/>
            <a:ext cx="8001000" cy="56358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4. Nghiên cứu sửa đổi, bổ sung</a:t>
            </a:r>
            <a:r>
              <a:rPr b="1" lang="en-US" sz="1800" spc="-1" strike="noStrike">
                <a:solidFill>
                  <a:srgbClr val="000000"/>
                </a:solidFill>
                <a:latin typeface="Century Schoolbook"/>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H</a:t>
            </a:r>
            <a:r>
              <a:rPr b="0" lang="vi-VN" sz="1800" spc="-1" strike="noStrike">
                <a:solidFill>
                  <a:srgbClr val="000000"/>
                </a:solidFill>
                <a:latin typeface="Times New Roman"/>
                <a:ea typeface="Times New Roman"/>
              </a:rPr>
              <a:t>ình thức phá sản </a:t>
            </a: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Century Schoolbook"/>
                <a:ea typeface="Times New Roman"/>
              </a:rPr>
              <a:t>NLN</a:t>
            </a:r>
            <a:r>
              <a:rPr b="0" lang="vi-VN" sz="1800" spc="-1" strike="noStrike">
                <a:solidFill>
                  <a:srgbClr val="000000"/>
                </a:solidFill>
                <a:latin typeface="Times New Roman"/>
                <a:ea typeface="Times New Roman"/>
              </a:rPr>
              <a:t>, giải thể đối với các đơn vị sản xuất kinh doanh không hiệu quả, thua lỗ kéo dài;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ơ chế giao khoán sử dụng đất nông nghiệp của các tổ chức được Nhà nước giao đất, cho thuê đấ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 </a:t>
            </a:r>
            <a:r>
              <a:rPr b="0" lang="vi-VN" sz="1800" spc="-1" strike="noStrike">
                <a:solidFill>
                  <a:srgbClr val="000000"/>
                </a:solidFill>
                <a:latin typeface="Times New Roman"/>
                <a:ea typeface="Times New Roman"/>
              </a:rPr>
              <a:t>Ban hành cơ chế, chính sách bảo vệ rừng, gắn với giảm nghèo bền vững; hỗ trợ đồng bào d</a:t>
            </a:r>
            <a:r>
              <a:rPr b="0" lang="en-US" sz="1800" spc="-1" strike="noStrike">
                <a:solidFill>
                  <a:srgbClr val="000000"/>
                </a:solidFill>
                <a:latin typeface="Century Schoolbook"/>
                <a:ea typeface="Times New Roman"/>
              </a:rPr>
              <a:t>â</a:t>
            </a:r>
            <a:r>
              <a:rPr b="0" lang="vi-VN" sz="1800" spc="-1" strike="noStrike">
                <a:solidFill>
                  <a:srgbClr val="000000"/>
                </a:solidFill>
                <a:latin typeface="Times New Roman"/>
                <a:ea typeface="Times New Roman"/>
              </a:rPr>
              <a:t>n tộc thiểu số, người trồng rừng, quản lý, bảo vệ rừng có thu nhập từ rừng để bảo đảm ổn định cuộc sống.</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R</a:t>
            </a:r>
            <a:r>
              <a:rPr b="0" lang="vi-VN" sz="1800" spc="-1" strike="noStrike">
                <a:solidFill>
                  <a:srgbClr val="000000"/>
                </a:solidFill>
                <a:latin typeface="Times New Roman"/>
                <a:ea typeface="Times New Roman"/>
              </a:rPr>
              <a:t>à soát, điều chỉnh quy hoạch ba loại rừng, xác định những diện tích đất, rừng phòng hộ xung yếu; quy hoạch, đưa diện tích đất, rừng bỏ hoang chưa sử dụng hợp lý, chuyển sang rừng sản xuất để phát huy hiệu quả kinh tế.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Nhà nước bảo đảm lực lượng, kinh phí để quản lý, bảo vệ nghiêm ngặt, phát triển rừng phòng hộ, rừng đặc dụng.</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5. Tổ chức thanh tra, kiểm tra, kiểm toán các </a:t>
            </a:r>
            <a:r>
              <a:rPr b="1" lang="en-US" sz="1800" spc="-1" strike="noStrike">
                <a:solidFill>
                  <a:srgbClr val="000000"/>
                </a:solidFill>
                <a:latin typeface="Century Schoolbook"/>
                <a:ea typeface="Times New Roman"/>
              </a:rPr>
              <a:t>C</a:t>
            </a:r>
            <a:r>
              <a:rPr b="1" lang="vi-VN" sz="1800" spc="-1" strike="noStrike">
                <a:solidFill>
                  <a:srgbClr val="000000"/>
                </a:solidFill>
                <a:latin typeface="Times New Roman"/>
                <a:ea typeface="Times New Roman"/>
              </a:rPr>
              <a:t>ty </a:t>
            </a:r>
            <a:r>
              <a:rPr b="1" lang="en-US" sz="1800" spc="-1" strike="noStrike">
                <a:solidFill>
                  <a:srgbClr val="000000"/>
                </a:solidFill>
                <a:latin typeface="Century Schoolbook"/>
                <a:ea typeface="Times New Roman"/>
              </a:rPr>
              <a:t>NLN</a:t>
            </a:r>
            <a:r>
              <a:rPr b="1" lang="vi-VN" sz="1800" spc="-1" strike="noStrike">
                <a:solidFill>
                  <a:srgbClr val="000000"/>
                </a:solidFill>
                <a:latin typeface="Times New Roman"/>
                <a:ea typeface="Times New Roman"/>
              </a:rPr>
              <a:t>, </a:t>
            </a:r>
            <a:r>
              <a:rPr b="1" lang="en-US" sz="1800" spc="-1" strike="noStrike">
                <a:solidFill>
                  <a:srgbClr val="000000"/>
                </a:solidFill>
                <a:latin typeface="Century Schoolbook"/>
                <a:ea typeface="Times New Roman"/>
              </a:rPr>
              <a:t>BQLR</a:t>
            </a:r>
            <a:r>
              <a:rPr b="1" lang="vi-VN" sz="1800" spc="-1" strike="noStrike">
                <a:solidFill>
                  <a:srgbClr val="000000"/>
                </a:solidFill>
                <a:latin typeface="Times New Roman"/>
                <a:ea typeface="Times New Roman"/>
              </a:rPr>
              <a:t> và các tổ chức, cá nhân khác</a:t>
            </a:r>
            <a:r>
              <a:rPr b="1" lang="en-US" sz="1800" spc="-1" strike="noStrike">
                <a:solidFill>
                  <a:srgbClr val="000000"/>
                </a:solidFill>
                <a:latin typeface="Century Schoolbook"/>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T</a:t>
            </a:r>
            <a:r>
              <a:rPr b="0" lang="vi-VN" sz="1800" spc="-1" strike="noStrike">
                <a:solidFill>
                  <a:srgbClr val="000000"/>
                </a:solidFill>
                <a:latin typeface="Times New Roman"/>
                <a:ea typeface="Times New Roman"/>
              </a:rPr>
              <a:t>ập trung vào các </a:t>
            </a: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ty có biểu hiện vi phạm pháp luật về quản lý, sử dụng đất đai;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X</a:t>
            </a:r>
            <a:r>
              <a:rPr b="0" lang="vi-VN" sz="1800" spc="-1" strike="noStrike">
                <a:solidFill>
                  <a:srgbClr val="000000"/>
                </a:solidFill>
                <a:latin typeface="Times New Roman"/>
                <a:ea typeface="Times New Roman"/>
              </a:rPr>
              <a:t>ác định rõ trách nhiệm</a:t>
            </a:r>
            <a:r>
              <a:rPr b="0" lang="en-US" sz="1800" spc="-1" strike="noStrike">
                <a:solidFill>
                  <a:srgbClr val="000000"/>
                </a:solidFill>
                <a:latin typeface="Century Schoolbook"/>
                <a:ea typeface="Times New Roman"/>
              </a:rPr>
              <a:t>,</a:t>
            </a:r>
            <a:r>
              <a:rPr b="0" lang="vi-VN" sz="1800" spc="-1" strike="noStrike">
                <a:solidFill>
                  <a:srgbClr val="000000"/>
                </a:solidFill>
                <a:latin typeface="Times New Roman"/>
                <a:ea typeface="Times New Roman"/>
              </a:rPr>
              <a:t> xử lý nghiêm các vi phạm trong quản lý, sử dụng đất có nguồn gốc từ </a:t>
            </a:r>
            <a:r>
              <a:rPr b="0" lang="en-US" sz="1800" spc="-1" strike="noStrike">
                <a:solidFill>
                  <a:srgbClr val="000000"/>
                </a:solidFill>
                <a:latin typeface="Century Schoolbook"/>
                <a:ea typeface="Times New Roman"/>
              </a:rPr>
              <a:t>NLTQD </a:t>
            </a:r>
            <a:r>
              <a:rPr b="0" lang="vi-VN" sz="1800" spc="-1" strike="noStrike">
                <a:solidFill>
                  <a:srgbClr val="000000"/>
                </a:solidFill>
                <a:latin typeface="Times New Roman"/>
                <a:ea typeface="Times New Roman"/>
              </a:rPr>
              <a:t>tại </a:t>
            </a:r>
            <a:r>
              <a:rPr b="0" lang="en-US" sz="1800" spc="-1" strike="noStrike">
                <a:solidFill>
                  <a:srgbClr val="000000"/>
                </a:solidFill>
                <a:latin typeface="Century Schoolbook"/>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Century Schoolbook"/>
                <a:ea typeface="Times New Roman"/>
              </a:rPr>
              <a:t>NLN</a:t>
            </a:r>
            <a:r>
              <a:rPr b="0" lang="vi-VN" sz="1800" spc="-1" strike="noStrike">
                <a:solidFill>
                  <a:srgbClr val="000000"/>
                </a:solidFill>
                <a:latin typeface="Times New Roman"/>
                <a:ea typeface="Times New Roman"/>
              </a:rPr>
              <a:t>,</a:t>
            </a:r>
            <a:r>
              <a:rPr b="0" lang="en-US" sz="1800" spc="-1" strike="noStrike">
                <a:solidFill>
                  <a:srgbClr val="000000"/>
                </a:solidFill>
                <a:latin typeface="Century Schoolbook"/>
                <a:ea typeface="Times New Roman"/>
              </a:rPr>
              <a:t> BQLR</a:t>
            </a:r>
            <a:r>
              <a:rPr b="0" lang="vi-VN" sz="1800" spc="-1" strike="noStrike">
                <a:solidFill>
                  <a:srgbClr val="000000"/>
                </a:solidFill>
                <a:latin typeface="Times New Roman"/>
                <a:ea typeface="Times New Roman"/>
              </a:rPr>
              <a:t> và các tổ chức, cá nhân khác</a:t>
            </a:r>
            <a:r>
              <a:rPr b="0" lang="en-US" sz="1800" spc="-1" strike="noStrike">
                <a:solidFill>
                  <a:srgbClr val="000000"/>
                </a:solidFill>
                <a:latin typeface="Century Schoolbook"/>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X</a:t>
            </a:r>
            <a:r>
              <a:rPr b="0" lang="vi-VN" sz="1800" spc="-1" strike="noStrike">
                <a:solidFill>
                  <a:srgbClr val="000000"/>
                </a:solidFill>
                <a:latin typeface="Times New Roman"/>
                <a:ea typeface="Times New Roman"/>
              </a:rPr>
              <a:t>ử lý, thu hồi tài sản, đất đai, tài chính theo quy định của pháp luật.</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28240"/>
            <a:ext cx="7467480" cy="7621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TRÁCH NHIỆM CỦA CÁC CẤP CHÍNH QUYỀN &amp; CÔNG TY NÔNG, LÂM NGHIỆP</a:t>
            </a:r>
            <a:endParaRPr b="0" lang="en-US" sz="2000" spc="-1" strike="noStrike">
              <a:solidFill>
                <a:srgbClr val="575f6d"/>
              </a:solidFill>
              <a:latin typeface="Century Schoolbook"/>
            </a:endParaRPr>
          </a:p>
        </p:txBody>
      </p:sp>
      <p:sp>
        <p:nvSpPr>
          <p:cNvPr id="365" name=""/>
          <p:cNvSpPr txBox="1"/>
          <p:nvPr/>
        </p:nvSpPr>
        <p:spPr>
          <a:xfrm>
            <a:off x="304920" y="990720"/>
            <a:ext cx="8229600" cy="541008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1. Chính phủ, Thủ tướng Chính phủ, các Bộ, ngành Trung ương, HĐND, UBND các cấp: chỉ đạo và tổ chức thực hiện NQ 112/2015/QH13 và những kiến nghị của UBTVQH tại Báo cáo 958/BC-UBTVQH13 ngày 16/10/2015 về kết quả giám sát việc thực hiện chính sách, pháp luật về quản lý, sử dụng đất đai tại các nông, lâm trường quốc doanh giai đoạn 2004 - 2014.</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 UBND các </a:t>
            </a:r>
            <a:r>
              <a:rPr b="1" lang="vi-VN" sz="1800" spc="-1" strike="noStrike">
                <a:solidFill>
                  <a:srgbClr val="000000"/>
                </a:solidFill>
                <a:latin typeface="Times New Roman"/>
                <a:ea typeface="Times New Roman"/>
              </a:rPr>
              <a:t>tỉnh, thành phố có </a:t>
            </a:r>
            <a:r>
              <a:rPr b="1" lang="en-US" sz="1800" spc="-1" strike="noStrike">
                <a:solidFill>
                  <a:srgbClr val="000000"/>
                </a:solidFill>
                <a:latin typeface="Times New Roman"/>
                <a:ea typeface="Times New Roman"/>
              </a:rPr>
              <a:t>C</a:t>
            </a:r>
            <a:r>
              <a:rPr b="1" lang="vi-VN" sz="1800" spc="-1" strike="noStrike">
                <a:solidFill>
                  <a:srgbClr val="000000"/>
                </a:solidFill>
                <a:latin typeface="Times New Roman"/>
                <a:ea typeface="Times New Roman"/>
              </a:rPr>
              <a:t>ty </a:t>
            </a:r>
            <a:r>
              <a:rPr b="1" lang="en-US" sz="1800" spc="-1" strike="noStrike">
                <a:solidFill>
                  <a:srgbClr val="000000"/>
                </a:solidFill>
                <a:latin typeface="Times New Roman"/>
                <a:ea typeface="Times New Roman"/>
              </a:rPr>
              <a:t>NLN</a:t>
            </a:r>
            <a:r>
              <a:rPr b="1" lang="vi-V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QLR</a:t>
            </a:r>
            <a:r>
              <a:rPr b="1" lang="vi-VN" sz="1800" spc="-1" strike="noStrike">
                <a:solidFill>
                  <a:srgbClr val="000000"/>
                </a:solidFill>
                <a:latin typeface="Times New Roman"/>
                <a:ea typeface="Times New Roman"/>
              </a:rPr>
              <a:t> chịu trách nhiệm</a:t>
            </a:r>
            <a:r>
              <a:rPr b="1" lang="en-US" sz="1800" spc="-1" strike="noStrike">
                <a:solidFill>
                  <a:srgbClr val="000000"/>
                </a:solidFill>
                <a:latin typeface="Times New Roman"/>
                <a:ea typeface="Times New Roman"/>
              </a:rPr>
              <a:t>:</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lang="vi-VN" sz="1800" spc="-1" strike="noStrike">
                <a:solidFill>
                  <a:srgbClr val="000000"/>
                </a:solidFill>
                <a:latin typeface="Times New Roman"/>
                <a:ea typeface="Times New Roman"/>
              </a:rPr>
              <a:t>ổ chức thực hiện nhiệm vụ quản lý nhà nước về đất đai tại địa phương;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Xâ</a:t>
            </a:r>
            <a:r>
              <a:rPr b="0" lang="vi-VN" sz="1800" spc="-1" strike="noStrike">
                <a:solidFill>
                  <a:srgbClr val="000000"/>
                </a:solidFill>
                <a:latin typeface="Times New Roman"/>
                <a:ea typeface="Times New Roman"/>
              </a:rPr>
              <a:t>y dựng phương án phát triển </a:t>
            </a:r>
            <a:r>
              <a:rPr b="0" lang="en-US" sz="1800" spc="-1" strike="noStrike">
                <a:solidFill>
                  <a:srgbClr val="000000"/>
                </a:solidFill>
                <a:latin typeface="Times New Roman"/>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Times New Roman"/>
                <a:ea typeface="Times New Roman"/>
              </a:rPr>
              <a:t>NLN</a:t>
            </a:r>
            <a:r>
              <a:rPr b="0" lang="vi-VN" sz="1800" spc="-1" strike="noStrike">
                <a:solidFill>
                  <a:srgbClr val="000000"/>
                </a:solidFill>
                <a:latin typeface="Times New Roman"/>
                <a:ea typeface="Times New Roman"/>
              </a:rPr>
              <a:t> gắn với đổi mới mô hình quản trị doanh nghiệp, tái cơ cấu sản xuất ngành nông nghiệp, phát triển bền vững, kết hợp với giảm nghèo.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ea typeface="Times New Roman"/>
              </a:rPr>
              <a:t>Triển khai các giải pháp cụ thể, phù hợp để thực hiện có hiệu quả công tác quản lý, sử dụng đất đai tại các </a:t>
            </a:r>
            <a:r>
              <a:rPr b="0" lang="en-US" sz="1800" spc="-1" strike="noStrike">
                <a:solidFill>
                  <a:srgbClr val="000000"/>
                </a:solidFill>
                <a:latin typeface="Times New Roman"/>
                <a:ea typeface="Times New Roman"/>
              </a:rPr>
              <a:t>C</a:t>
            </a:r>
            <a:r>
              <a:rPr b="0" lang="vi-VN" sz="1800" spc="-1" strike="noStrike">
                <a:solidFill>
                  <a:srgbClr val="000000"/>
                </a:solidFill>
                <a:latin typeface="Times New Roman"/>
                <a:ea typeface="Times New Roman"/>
              </a:rPr>
              <a:t>ty </a:t>
            </a:r>
            <a:r>
              <a:rPr b="0" lang="en-US" sz="1800" spc="-1" strike="noStrike">
                <a:solidFill>
                  <a:srgbClr val="000000"/>
                </a:solidFill>
                <a:latin typeface="Times New Roman"/>
                <a:ea typeface="Times New Roman"/>
              </a:rPr>
              <a:t>NLN</a:t>
            </a:r>
            <a:r>
              <a:rPr b="0" lang="vi-V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BQLR</a:t>
            </a:r>
            <a:r>
              <a:rPr b="0" lang="vi-VN" sz="1800" spc="-1" strike="noStrike">
                <a:solidFill>
                  <a:srgbClr val="000000"/>
                </a:solidFill>
                <a:latin typeface="Times New Roman"/>
                <a:ea typeface="Times New Roman"/>
              </a:rPr>
              <a:t> và các tổ chức, cá nhân khác; </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r>
              <a:rPr b="0" lang="vi-VN" sz="1800" spc="-1" strike="noStrike">
                <a:solidFill>
                  <a:srgbClr val="000000"/>
                </a:solidFill>
                <a:latin typeface="Times New Roman"/>
                <a:ea typeface="Times New Roman"/>
              </a:rPr>
              <a:t>ông khai việc quản lý, sử dụng đất đai ở các </a:t>
            </a:r>
            <a:r>
              <a:rPr b="0" lang="en-US" sz="1800" spc="-1" strike="noStrike">
                <a:solidFill>
                  <a:srgbClr val="000000"/>
                </a:solidFill>
                <a:latin typeface="Times New Roman"/>
                <a:ea typeface="Times New Roman"/>
              </a:rPr>
              <a:t>Ct</a:t>
            </a:r>
            <a:r>
              <a:rPr b="0" lang="vi-VN" sz="1800" spc="-1" strike="noStrike">
                <a:solidFill>
                  <a:srgbClr val="000000"/>
                </a:solidFill>
                <a:latin typeface="Times New Roman"/>
                <a:ea typeface="Times New Roman"/>
              </a:rPr>
              <a:t>y </a:t>
            </a:r>
            <a:r>
              <a:rPr b="0" lang="en-US" sz="1800" spc="-1" strike="noStrike">
                <a:solidFill>
                  <a:srgbClr val="000000"/>
                </a:solidFill>
                <a:latin typeface="Times New Roman"/>
                <a:ea typeface="Times New Roman"/>
              </a:rPr>
              <a:t>NLN</a:t>
            </a:r>
            <a:r>
              <a:rPr b="0" lang="vi-VN" sz="1800" spc="-1" strike="noStrike">
                <a:solidFill>
                  <a:srgbClr val="000000"/>
                </a:solidFill>
                <a:latin typeface="Times New Roman"/>
                <a:ea typeface="Times New Roman"/>
              </a:rPr>
              <a:t>; phát huy dân chủ, minh bạch trong quá trình thực hiện chính sách, pháp luật về đất đai tại địa phương.</a:t>
            </a:r>
            <a:endParaRPr b="0" lang="en-US" sz="18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Hằng năm, UBND tỉnh, thành phố báo cáo Thủ tướng Chính phủ; Chính phủ báo cáo Quốc hội về kết quả thực hiện</a:t>
            </a:r>
            <a:r>
              <a:rPr b="1" lang="en-US" sz="1800" spc="-1" strike="noStrike">
                <a:solidFill>
                  <a:srgbClr val="000000"/>
                </a:solidFill>
                <a:latin typeface="Century Schoolbook"/>
              </a:rPr>
              <a:t> NQ 112/2015/QH13.</a:t>
            </a:r>
            <a:r>
              <a:rPr b="1" lang="en-US" sz="1800" spc="-1" strike="noStrike">
                <a:solidFill>
                  <a:srgbClr val="000000"/>
                </a:solidFill>
                <a:latin typeface="Times New Roman"/>
                <a:ea typeface="Times New Roman"/>
              </a:rPr>
              <a:t> </a:t>
            </a: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7467480" cy="411120"/>
          </a:xfrm>
          <a:prstGeom prst="rect">
            <a:avLst/>
          </a:prstGeom>
          <a:noFill/>
          <a:ln w="0">
            <a:noFill/>
          </a:ln>
        </p:spPr>
        <p:txBody>
          <a:bodyPr anchor="b">
            <a:no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ÁCH NHIỆM CỦA CÁC CƠ QUAN DÂN CỬ</a:t>
            </a:r>
            <a:endParaRPr b="0" lang="en-US" sz="2000" spc="-1" strike="noStrike">
              <a:solidFill>
                <a:srgbClr val="575f6d"/>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ách nhiệm của cơ quan dân cử các cấp:giám sát việc thực hiện </a:t>
            </a:r>
            <a:r>
              <a:rPr b="0" lang="en-US" sz="2000" spc="-1" strike="noStrike">
                <a:solidFill>
                  <a:srgbClr val="000000"/>
                </a:solidFill>
                <a:latin typeface="Century Schoolbook"/>
              </a:rPr>
              <a:t>NQ 112/2015/QH13.</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quan, tổ chức có trách nhiệm giám sát: (1) Ủy ban thường vụ Quốc hội; (2) Hội đồng Dân tộc, các Ủy ban của Quốc hội; (3) Đoàn đại biểu Quốc hội các tỉnh, thành phố; (4) Đại biểu Quốc hội; (5) Hội đồng nhân dân các cấp; (6) Đại biểu Hội đồng nhân dân các cấp; (7) Mặt trận Tổ quốc Việt Nam và các tổ chức thành viên của Mặt trận Tổ quốc Việt Nam.</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7T03:25:13Z</dcterms:created>
  <dc:creator>tienngv</dc:creator>
  <dc:description/>
  <dc:language>en-US</dc:language>
  <cp:lastModifiedBy>Nam</cp:lastModifiedBy>
  <cp:lastPrinted>2018-01-10T02:35:41Z</cp:lastPrinted>
  <dcterms:modified xsi:type="dcterms:W3CDTF">2018-01-10T02:46:34Z</dcterms:modified>
  <cp:revision>79</cp:revision>
  <dc:subject/>
  <dc:title>Slide 1</dc:title>
</cp:coreProperties>
</file>