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8C9-CCA3-4D4F-81B3-EAE12DD8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1DE-AB82-439D-9133-2D339E7A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DB2-3489-4942-9494-214B500F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FE2-01DD-4FDD-9A30-AA181B13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954-657C-47A9-9F37-8893AE9C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2C6-550A-45D0-9E79-AC9306F3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E36-8E56-4E19-BB54-738DC823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232-2EF2-41B2-969B-C545405A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9F7-87A6-4D86-B145-2A228E70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24F-12CA-4684-8FF7-EEAA5A30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4BB-28EA-4CD5-8B3A-54B4776F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6DA-3E66-4F6F-9C72-EBB9EA18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CC99F-74FC-46F6-94BC-01C2ED2902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D2EFE-11BD-43C2-966A-9FDEE1C56F4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8:37:06Z</dcterms:created>
  <dc:creator>최봉수</dc:creator>
  <dc:description/>
  <dc:language>en-US</dc:language>
  <cp:lastModifiedBy>맛있다 군만두</cp:lastModifiedBy>
  <dcterms:modified xsi:type="dcterms:W3CDTF">2024-10-01T02:54:09Z</dcterms:modified>
  <cp:revision>4</cp:revision>
  <dc:subject/>
  <dc:title>슬라이드 1</dc:title>
</cp:coreProperties>
</file>