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9A3-8CD5-4397-B99C-83755C6B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E96-E13D-49F2-B836-81786565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D261-1995-4C47-AE47-F1FDCA20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8E8F-15F7-4DAB-BB63-817AA9AA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B309-CE68-4464-A653-DE0AA73F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CC8B-0A84-4BCF-9029-FBB6513C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570-5699-4260-8FA2-7A0E1450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6D1-8936-440E-9079-0D5C5D20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2515-E287-48E5-9EAB-B907AFD3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9D1-4269-4B3C-9E98-08B3FDCD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A2FE-28A5-4A60-B0A6-EC0B7A4A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15AC-ABC6-4B2F-BB12-B8F962F8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BFE2D-1C82-452B-90EA-FD5DBF0F298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48D87-0B37-42BE-994C-EBA7F3AD3BDD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08:37:06Z</dcterms:created>
  <dc:creator>최봉수</dc:creator>
  <dc:description/>
  <dc:language>en-US</dc:language>
  <cp:lastModifiedBy>맛있다 군만두</cp:lastModifiedBy>
  <dcterms:modified xsi:type="dcterms:W3CDTF">2024-10-01T02:54:09Z</dcterms:modified>
  <cp:revision>4</cp:revision>
  <dc:subject/>
  <dc:title>슬라이드 1</dc:title>
</cp:coreProperties>
</file>