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B6FE-DCA9-44F8-9AEA-267D74A93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66E4-C37D-4497-82D1-1397D773E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5530-16FB-4DD0-8E09-8CA13390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D962-1EB3-4ED8-8BE8-BC7BA65D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DF21C-35FC-467D-A04E-97AB7C20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1FB32-7392-424F-9FFF-C9C0320D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9D56B-796A-4B3D-92E9-66AA5EFE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C1365-9895-4654-8CD2-C0E28276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87E3B-3572-4821-AB4A-06F22AE6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1360D-664F-4052-9ACB-813027E8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60FEC-0DCE-4A6F-941C-D4B4A09A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566C1-D502-4404-8966-C7B9D4DE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D503E-37F8-45DD-9740-C9CEBF47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FB320-21E6-48B5-9C65-E5EE97AE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891-7A76-43C7-BBEC-7478A3B2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5C3AA-384E-4AFD-8DC2-41E1A043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D41D6-2201-4C70-B862-D9A757BA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76E10-CC31-4815-A62A-441A7185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D602F-4A85-4C45-839C-9ED3549E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2E524-C17D-4BB2-AA74-6FC19050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5A4C6-FA62-41BF-B3D0-DFE1C30F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E31F1-CBC0-44FE-93DD-9A2D2FDC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CE1FD-C025-4B75-81CB-6990E294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BE635-69E9-458E-9814-8BDF0557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6087E-66F0-4A46-BF5A-91382B88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98F-70A4-4321-85EF-262E6A27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BBA0C-6107-43A2-AFC7-130B114D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5E19B-F3DD-46C0-A374-88D00368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33F6F-E1F0-4C6E-A4DC-4FE54040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02DDE-371E-46A8-8D49-0FAA19A8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058C8-2312-4196-B758-5664326C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DCFE7-1BA4-4AEA-8693-5F34555C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7952E-F710-4150-B1FA-F7B71AA9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A2978-61E6-41E2-91AB-BFC1D26E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CF437-9E5A-4FB2-BAD5-FA1FC108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81614-0292-4570-ABE1-EE7B7776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9F89-A6F0-4F3E-A8A5-BC0F0630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94C06-4092-4478-B6DC-0C2B5042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7E949-2EF6-4018-AFC4-EFD61FF6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48328-DFE4-48BB-807C-C5C78D5B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274C-EBEE-4528-A410-285F2235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51A6-BEEC-4371-9079-849FCDFF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77F4-824F-48F0-90D3-E4929CE3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B267-EE58-461D-8923-3EF88FF6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C4DD-027E-4952-85A1-A41A737A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B926-78F6-409A-BFE4-2178CAB2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F56D-9921-4878-9BD4-569688BD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269A-0C74-40EB-BE1F-56107A8A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FE75-B74A-40BB-95D1-6EC4BCC3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1088-CD84-4ABF-BDC0-BFEBE2A9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4176-A5F8-4926-8C75-F55BFF4C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5587-90A6-4322-8460-F4B5FEBF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1439B-8EB5-4EB5-9639-59CEBB73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71586-0A69-4C1D-AA06-887AB331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9E043-B4B6-407D-A806-C80992D3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2D3FB-093D-401E-B7A7-36DD72E7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E05B-9909-42F9-A75D-EA1A9F71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83E-3825-4A11-BC7C-35CB6EAB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BC6FA-73F1-46A9-98AF-53D45386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F87C6-42D7-4E67-86B0-CD5FD803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C29B1-AC09-4F14-8935-5B6CA8FE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4FEC2-BC63-489E-A0E6-02189A26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CBBFD-9331-4A41-B4AA-4580D308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64231-BF78-4C18-8B07-D67B63BE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0FAB6-F3CD-4509-8328-09FC905F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4B66B-1608-4824-8F8D-4C66FBB3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48899-08C4-4584-B47A-38C06479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4A6D7-0D3D-4817-9669-1256A685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81D6-9E68-4C75-8AC1-39E67146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CFC71-BDC1-4CE6-8EAC-52501037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49274-768E-4B53-8F60-41D2AD43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6B168-A29D-4EA3-B552-EB9ECEB0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5A5E4-4E26-4D7A-8CF9-1416AA80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65381-47E3-4ADE-A27B-E69D91CA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4D2DB-5D14-40D5-A1AE-55E0E922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237E7-076D-47DE-A65F-5FDC7B09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CFF58-DBA8-441E-B40D-F520B49A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D1F47-98BC-457A-9EFC-56D79FE6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F4E26-9113-45C9-B08A-8353CB77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B92-FBC8-40DD-9ECB-E9C4739A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40F8D-E324-47C6-9750-F9A6C4DC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E904C-608B-4369-BFE7-AC74F809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861AC-03FB-40AC-AA33-0ABF8EF2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85A00-FCEC-4FDE-916E-1A5A1E57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B839B-8913-449E-84B2-7C7C7DF8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68ADD-9FAD-4619-B89B-1C1A3BEA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C1801-5DA2-4B25-AC4D-3DDB864F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DB49C-A31B-482A-AD28-F17882E2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39FB5-0F83-40DD-994C-F91DABDD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3B682-C4C6-414E-BDA6-795CFA16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A8A1-59A6-455B-8AEE-2449760F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BDCBB-F320-466D-B4E3-153E7E0B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487F4-EE49-46D3-8F24-BAAB67B9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03A8D-F8D3-49AD-BCE0-D36CD8BA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BAC21-958B-4271-A7C9-B9C41EAF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2E90E-4CCF-4C48-9DF4-65F6BD43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40839-3D2F-4DB6-A629-6CE57588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55B70-82B2-4A5E-A9C2-8AAD2F6E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7ABA3-B2C4-4363-B8DD-FD27A4DA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F0D07-E40E-45C3-98FD-BCB8F29E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6456D-93C5-425B-A004-E62E2C1F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6D1-C45F-4850-A9BA-91718175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867C7-991A-43FE-9BE4-EFAED9B3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D689D-558E-4E6F-B9E2-BCB15011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1DEA3-CA2D-41F3-884D-731DADEA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4CBEB-22E6-456A-A2E3-CF87F671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83F60-1061-46CC-88A0-406C7304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F7036-E231-4F6D-89EF-D6100A5F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4DF9F-D5B3-4AD5-8E41-3F98201F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60020-D599-4BA3-AF57-0445E9A9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129DF-8CD7-41D9-8B27-44739EF5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0C43A-1E88-4BB7-8571-D2CDD5BE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E031-458C-4AD2-AF79-A5EC4237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97561-50D7-4607-9B20-FCCFCDBF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9986B-1890-40A8-89EE-ED6A56F4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F269B-00C0-4549-8A0F-528A7DEF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25815-0EC9-4519-8DFA-167E0B44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9C99A-0352-43B0-A6B5-FF423C1C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5BE89-9A6B-4D4D-B6A1-6C26AE87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B4BA8-FA6D-42DC-9D5A-8DEC72A6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8317C-6EBD-4379-8C8A-F06BFAB4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9ADE1-C324-4816-889B-FEC29E70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970A2-ADA3-4D08-9222-A1B6BABB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A4C-DEC9-4472-B611-41AD07BC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BCBB6-ABE7-4CB6-B437-1C904155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36D29-B9E2-44DB-BC63-214F75D7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025C5-3781-4AA2-8CB8-DAAB2622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5E9FF-22FB-4CEE-B0A5-4CE55F55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60F5B-CE1D-4FB9-A80F-F0AA504F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2DE7B-7906-4A7D-9690-3ED646DC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72158-8ACA-4873-AF8A-49210AB0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E41DC-6F8C-4141-B4C5-512472AF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D9AC4-9CEE-4C9B-9EC2-801D2BB5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7A181-069A-49E4-AF31-A28F304A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A550-536D-4FD0-A7C6-98F78F985A0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9F43-D217-43D6-8607-58D40202C6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AA0E-92FB-4651-A12B-01640555C9F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C2A2-1CFB-4C07-B2AB-88966241CF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90CA-A15A-4AEC-8655-295A8C00F17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C3DA-17D9-45A9-A5BD-5E8A20C22A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A2A0-7584-4F52-B9F6-6071BAF3DD8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CA30-ACFB-4DCC-B9BD-6318BCD408A0}" type="slidenum"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EB13-8064-4D9B-89A6-D4D769CEBC2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2F52-77B0-46C3-A629-56C01338588D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18D8-CBCB-4CF6-8DC2-4A0444C0304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6329-8D86-4CCA-AE49-6BA051E40B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6BC9-8B85-45C0-A518-D50784AA97A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A5BD-5BF5-4DC7-9017-0034CC37AFE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15FA-5B1D-4120-A527-CA0A21A7BA1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2BB5-B8DF-4D8D-B885-8F67505DF4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327A-F52D-41C5-B34B-4F2B9115D18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0E22-2BA0-478D-8763-18E6732358C9}" type="slidenum">
              <a:rPr b="0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81AD-EAF5-47B3-B30B-113F1B6244E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B9C2-82FD-4C34-B624-215EA31751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BA10-C89D-48C8-A7DD-A03E5791954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3868-AB05-4F33-8155-0918D2FBEFAE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atma Lestari, Ph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EC4D-F577-42C3-8C07-051CACE321AE}" type="slidenum">
              <a:rPr b="0" lang="en-US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09120" y="135252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Fire Prote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e and Explosion Acci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, Standards,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2F99-9536-4993-A612-0A7260558CE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28240" y="1352520"/>
            <a:ext cx="8534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e science of reducing loss of life and property fr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re by control and extinguishment. Fire protection includes fire prevention, detection of a fire, providing systems to control or mitigate the fire, and providing manual firefighting capabilit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7E35-E139-49C1-A840-F89D77F6837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 Preven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09120" y="135252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ctivities whose purpose is to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prevent fires from starting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e protection and fire prevention go hand-in-hand. All fire protection programs include a fire prevention program. For example, control of ignition sources is very important in minimizing the risk of f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539F-B888-45D4-B672-F48E08DAEE7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560" y="343080"/>
            <a:ext cx="7848360" cy="51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s of major f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228600" y="1028880"/>
          <a:ext cx="8381880" cy="3904920"/>
        </p:xfrm>
        <a:graphic>
          <a:graphicData uri="http://schemas.openxmlformats.org/drawingml/2006/table">
            <a:tbl>
              <a:tblPr/>
              <a:tblGrid>
                <a:gridCol w="2041560"/>
                <a:gridCol w="1384200"/>
                <a:gridCol w="1749600"/>
                <a:gridCol w="3206520"/>
              </a:tblGrid>
              <a:tr h="330120">
                <a:tc rowSpan="2"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hemical involv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onseque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lace and d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ath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Inju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than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leveland, Ohio, United States, 19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PG </a:t>
                      </a:r>
                      <a:r>
                        <a:rPr b="1" lang="en-US" sz="1500" spc="-1" strike="noStrike" baseline="30000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(BLEV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eyzin, France, 19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NG </a:t>
                      </a:r>
                      <a:r>
                        <a:rPr b="1" lang="en-US" sz="1500" spc="-1" strike="noStrike" baseline="30000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taten Island, New York. United States, 19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tha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anta Cruz, Mexico, 19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LPG (BLEV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Mexico City, Mexico, 19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baseline="30000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Liquefied petroleum g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baseline="30000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Liquefied natural g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2" name="Slide Number Placehold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1908-B085-4532-835F-A18EC19F2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Major Fire Incid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1295280" y="1276200"/>
            <a:ext cx="6820200" cy="3867480"/>
          </a:xfrm>
          <a:prstGeom prst="rect">
            <a:avLst/>
          </a:prstGeom>
          <a:ln w="0">
            <a:noFill/>
          </a:ln>
        </p:spPr>
      </p:pic>
      <p:sp>
        <p:nvSpPr>
          <p:cNvPr id="475" name="Slide Number Placehold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926F-63E1-4A0B-8868-8DD944DCF034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2280" y="209160"/>
            <a:ext cx="784872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Examples of industrial explos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228600" y="857160"/>
          <a:ext cx="8915400" cy="3907080"/>
        </p:xfrm>
        <a:graphic>
          <a:graphicData uri="http://schemas.openxmlformats.org/drawingml/2006/table">
            <a:tbl>
              <a:tblPr/>
              <a:tblGrid>
                <a:gridCol w="2208240"/>
                <a:gridCol w="1144440"/>
                <a:gridCol w="1219320"/>
                <a:gridCol w="4343400"/>
              </a:tblGrid>
              <a:tr h="335160">
                <a:tc rowSpan="2"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hemical involv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seque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lace &amp; d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ath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jur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methyleth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8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udwigshafen, Germany, 19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erose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itburg, Germany, 19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sobuta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ake Charles, Louisiana, USA, 19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il slo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ernis, Netherlands, 19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pyle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ast St. Louis, Illinois, USA, 197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pa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catur, Illinois, USA, 19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yclohexa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lixborough, UK, 19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pyle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ek, Netherlands, 19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lyethyle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sadena, Houston, USA, 19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8" name="Slide Number Placeholder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ECE2-9275-4005-8800-C0899B7A3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4:53:19Z</dcterms:created>
  <dc:creator/>
  <dc:description/>
  <dc:language>en-US</dc:language>
  <cp:lastModifiedBy/>
  <dcterms:modified xsi:type="dcterms:W3CDTF">2010-03-03T16:26:2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33</vt:r8>
  </property>
  <property fmtid="{D5CDD505-2E9C-101B-9397-08002B2CF9AE}" pid="3" name="_Version">
    <vt:lpwstr>12.0.4518</vt:lpwstr>
  </property>
</Properties>
</file>