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344C-9DEC-4420-A7F4-39357969B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89D5-684D-4F3D-972C-AE034F460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41D-BDD4-4A6F-B61C-57072ADE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C30-847B-4EFC-AD77-4E4F3DC3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F1AA1-CD27-4BF1-A92C-351D3B51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5BCA8-CE69-45C4-826C-E8EA42CB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A2CAE-0C3F-4AE6-835C-9C381865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136BC-3396-4BCE-817E-F4A3EDF4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14F3C-634D-498D-9BD4-2953ADA3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E75AD-924B-4F51-90C3-C5BCECDA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63ADB-CAAE-4549-B5B1-3BE274C2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CC181-D8E9-4111-82B1-B405AF70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CCFE9-DC52-4060-8BA0-DE72F0E8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89F02-834B-4082-A3BE-09279065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94E-F2F9-4E2C-9D9C-DA286139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A94B3-DF5F-42CB-BCC7-566B4E9A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223B4-D775-4062-9829-0C28C856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CFDAD-4DAA-47AF-9A70-FDB50294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E32FC-A956-4187-A06C-F7E01635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3EB23-A83F-4E6F-953D-04337376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C51A3-6D84-4E1A-AB2D-1F7FCFCD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768FA-3F43-44BD-8BD0-9D76724B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04012-9C2B-4B45-85E4-FFDEF439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BBC7A-E041-4EC2-8149-054D0453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C0593-0158-41AB-801A-45587651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22B-25F5-4DAA-A076-3706A3FD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A2100-62F3-4EA0-80D6-84140584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6F262-AFD5-42F4-94FB-738C0893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63953-BC8E-4D59-B300-A7F5A23B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61A82-A068-4097-8857-F41D8AB2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6D3BB-555A-457E-A2C6-123265ED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FA4DB-4858-45D8-917F-D1A575B6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8184F-91E4-430A-9698-CAFF9549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D2CDE-C2F8-4DD0-9FFD-82237F7C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9D678-ABCD-4E6B-AF41-400E6ED9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A5155-EF32-4931-9366-1337FF4E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22F0-DBE3-45FA-8BB7-F07AFCB5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FCD29-250C-41A4-B9CF-9BCB4170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88191-CEBA-4893-A34D-C09129FA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483E3-927B-41F4-B917-A0A252F8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050C-B44E-4825-BB4E-1D3A1F00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7973-E9E1-4A57-A7E0-3A99CCDA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09E7-3A49-495C-8B85-19A06BAE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9558-0CA7-4406-A0AF-59DDA9DE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E050-A199-432C-90D1-147A3135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7325-E5F6-428B-98EF-71D8BB0F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AD1-CB3E-46A2-8A4D-70B93031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22E9-2085-4812-B53F-AAA84F56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CA9D-3480-408D-950A-22D48521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0054-CA2A-4BEF-ACC4-7C464F11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7ED9-4366-4A94-81F2-12BE0F52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4B3F-56AF-4ABE-837B-D8443795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A70D0-ADAF-41A1-93EC-D796D535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BFB44-27C5-446B-B13E-C798A12F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013D-DB1C-49C8-BE7F-5FF66E09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F290-738B-4F12-919A-6B8E444C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7AB0E-1853-43E1-9F31-8FD6D4CC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708-7C4C-414B-A510-DB6D3F4F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5A40D-7C5F-4ED4-8F21-4AEB3E1E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58E7-D558-47BD-AB47-4066EC1A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CD2A4-497E-45FB-8FEE-80C61AE1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086B-10E5-434F-88B9-E899A456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6C244-9D2A-4A94-9ABF-23F9FFB9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5B2BB-04F0-41DD-97B8-FF47BE31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8F22-3C60-41C9-88FF-64EA9478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186C7-A0D5-4808-B5A2-B96B2A5A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7EB5B-5CA1-405A-BAAD-0CBFD542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CC22D-25BB-4535-9E60-AC2060D5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862-7D25-40C5-B85B-9B46BC22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D9662-2860-414A-A676-B154113C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F9FAE-46DB-4BF1-AEA5-6DAC7966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8FB80-6D7F-4E9D-A1C5-56A0D9D8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A114E-CA27-4D98-927F-E557E367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E0582-867A-46E5-8B43-8EF8914E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E40C5-8560-4D37-8EA8-0018EDA9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DA259-1CAF-4F4E-8DE5-F3C3712E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6AE61-7A0C-4DA7-8508-137EDA99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69F2D-548F-4B1F-A9EE-3E4EAB30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780F5-7245-47E7-9A9D-5FDD6F52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4D1-63C6-413D-A1D7-8727CAE8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EB47C-2F6A-47FC-94EC-44F0EA28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C6B1B-CCEB-4E06-928A-FCAABC09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9826E-AF22-4C57-BAA2-69BA123F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BB95D-BACB-47D6-AC2C-B7818E97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CE144-2595-4042-87E3-22438B8E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DA4B2-F49E-439E-A2F3-0FF861D7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1D89B-E77A-40D1-A55A-89A8C877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5CC2B-EFE3-4662-8254-F2E0F7CC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333B4-A14E-4B27-833E-A95C7082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0E733-FD32-418B-A679-24A6FE00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12D-3009-420E-BB9D-5EA9B3F7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0B590-C43F-4FBB-A6F0-790D9C44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6EAB1-0DBB-4561-BA9A-B42CBDD3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01734-2D67-48A0-801B-95D8F345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16614-2203-4C79-A0E4-DADA2D69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97F0B-B6B3-4949-9375-0E8BEE30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3F131-3FDE-4411-ACC1-D1B08197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D47BC-7E4A-491D-AA41-F661762D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24713-5365-4A61-9D48-FBFF13AD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C561E-611F-403C-9092-B860C283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26E81-C767-4770-96CB-0AC64C27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009-44C6-4150-9D40-3BC7A82A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5B768-6EEF-4D5D-BE06-0C28CCD7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C58BF-215F-4C2F-AF60-BEF0813D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AAC6E-E5CE-4FFD-BD6F-8E335D87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AB0C3-7771-47D3-95B8-C0407197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359C9-414A-486C-A125-A6E72FF3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ECE69-0C63-41F2-AD0B-532B5F90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1082E-2CCB-49A9-A0FF-514DF3DC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7100D-372E-47F2-B8B2-2E569D2E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22B99-7F9B-4306-9D74-BBA028FF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5CA35-2CB6-4882-802C-F6C0D0C8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1AB-34C4-447E-8F21-E542B07B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CB25F-C294-4779-867D-8F2F2F1E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3290B-EC62-4770-8269-8751C996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93198-97F1-4411-8910-CFDBA7ED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6A83C-6C01-4B54-BA61-3E070262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16F8B-D870-4E12-AF11-96F657E3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0DA28-9999-4384-963B-68F191F4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28B11-7BCE-49F8-9D4E-6DDBF665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89B86-94B6-4CFB-AF26-D21BD90D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B6C96-F744-4B88-B843-5F1BCD7B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BF5F9-5379-47E1-8917-9AD42A66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2E5-9CCD-4E6E-899F-72E123C9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2A30F-05A0-4E4E-9F14-A9F6C684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E70F2-5AFE-4F81-B078-DACE9A49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AB796-7680-4DEE-A0F4-1017AD07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899BF-95F1-477D-A2C8-747D2DB8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0402B-AB4E-46C4-9836-8B0A0329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8DE51-3071-4137-B92E-A43CFD5D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B02AE-7FFE-4893-96BE-6247C62E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4E0FE-F9ED-4B95-B5EF-5D4CE09D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67911-CE03-48ED-8234-21FFA918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52D6D-F480-4B2A-94E0-3D33A55E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8B7B-94D8-41F4-ACA5-54B009F5954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DD12-3872-49E6-8009-B9F98876A1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7CD9-DF42-4362-9342-E379CC36D94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F15C-452B-4794-B8AD-FC14DEDC32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5E11-3E31-499A-BF54-3E0F3C764F8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B605-1865-40A2-9457-8E992C79D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F223-7C90-4F74-913B-D3A91DEC1F7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9210-0942-41EE-A69A-79ACF5E4204B}" type="slidenum"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FEA0-FB1F-4FF3-895A-8A2B546B3C6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007C-E6C1-4346-B323-DB00389C303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F5CA-6D70-43B6-9216-26E495F5AEB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A88D-4AE5-45A3-9689-0C0EAE6C11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8F00-6427-4F79-A995-10EE40FD2D2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A187-D94E-4BAD-8309-B2AFD89732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AE34-C6D6-499B-AB34-F84784B1065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1907-D43F-4BA3-B594-69452AE229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FA90-A21C-4A0E-8E0F-B4A99E1DE1B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8ACE-CA96-4B94-A78D-07833212BC65}" type="slidenum"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ABD0-2D84-4616-84A4-912B0DC9801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0E8B-05AD-46C6-9BB0-37FB0CEE50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5663-61B3-433F-B385-92B29126737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BD02-C123-4909-A923-1EF914EC1FE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atma Lestari, Ph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51CE-ED7F-48F2-B4E0-5B526F4033AB}" type="slidenum">
              <a:rPr b="0" lang="en-US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120" y="135252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Fire Prot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e and Explosion Acc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, Standards,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03BB-44CD-46FB-A138-60572CF6166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28240" y="135252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science of reducing loss of life and property fr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e by control and extinguishment. Fire protection includes fire prevention, detection of a fire, providing systems to control or mitigate the fire, and providing manual firefighting capabili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3DF2-3DC0-477A-BACF-E05AD0F801F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 Preven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09120" y="135252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ctivities whose purpose is to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prevent fires from starting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e protection and fire prevention go hand-in-hand. All fire protection programs include a fire prevention program. For example, control of ignition sources is very important in minimizing the risk of f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7D6A-12F5-4C6B-A8B7-BCA633E7AC8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343080"/>
            <a:ext cx="7848360" cy="51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s of major f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28600" y="1028880"/>
          <a:ext cx="8381880" cy="3904920"/>
        </p:xfrm>
        <a:graphic>
          <a:graphicData uri="http://schemas.openxmlformats.org/drawingml/2006/table">
            <a:tbl>
              <a:tblPr/>
              <a:tblGrid>
                <a:gridCol w="2041560"/>
                <a:gridCol w="1384200"/>
                <a:gridCol w="1749600"/>
                <a:gridCol w="3206520"/>
              </a:tblGrid>
              <a:tr h="330120">
                <a:tc rowSpan="2"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hemical involv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nseque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lace and d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ath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ju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than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leveland, Ohio, United States, 19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PG </a:t>
                      </a:r>
                      <a:r>
                        <a:rPr b="1" lang="en-US" sz="1500" spc="-1" strike="noStrike" baseline="30000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(BLEV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eyzin, France, 19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NG </a:t>
                      </a:r>
                      <a:r>
                        <a:rPr b="1" lang="en-US" sz="1500" spc="-1" strike="noStrike" baseline="30000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taten Island, New York. United States, 19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tha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anta Cruz, Mexico, 19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PG (BLEV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xico City, Mexico, 19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baseline="30000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Liquefied petroleum g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baseline="30000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Liquefied natural g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CACE-7BA9-4373-A756-6D4409B0A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Major Fire Inci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1295280" y="1276200"/>
            <a:ext cx="6820200" cy="3867480"/>
          </a:xfrm>
          <a:prstGeom prst="rect">
            <a:avLst/>
          </a:prstGeom>
          <a:ln w="0">
            <a:noFill/>
          </a:ln>
        </p:spPr>
      </p:pic>
      <p:sp>
        <p:nvSpPr>
          <p:cNvPr id="475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52E4-FDEB-4268-8F5C-A59B5E0A4EA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280" y="209160"/>
            <a:ext cx="78487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Examples of industrial explos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228600" y="857160"/>
          <a:ext cx="8915400" cy="3907080"/>
        </p:xfrm>
        <a:graphic>
          <a:graphicData uri="http://schemas.openxmlformats.org/drawingml/2006/table">
            <a:tbl>
              <a:tblPr/>
              <a:tblGrid>
                <a:gridCol w="2208240"/>
                <a:gridCol w="1144440"/>
                <a:gridCol w="1219320"/>
                <a:gridCol w="4343400"/>
              </a:tblGrid>
              <a:tr h="335160">
                <a:tc rowSpan="2"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hemical involv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seque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lace &amp; d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ath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ju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methyleth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8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udwigshafen, Germany, 19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erose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itburg, Germany, 19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sobuta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ake Charles, Louisiana, USA, 19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il slo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ernis, Netherlands, 19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pyle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ast St. Louis, Illinois, USA, 19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pa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catur, Illinois, USA, 19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yclohexa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lixborough, UK, 19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pyle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ek, Netherlands, 19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lyethyle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sadena, Houston, USA, 19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8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FE5C-C125-414F-B016-688A1F608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4:53:19Z</dcterms:created>
  <dc:creator/>
  <dc:description/>
  <dc:language>en-US</dc:language>
  <cp:lastModifiedBy/>
  <dcterms:modified xsi:type="dcterms:W3CDTF">2010-03-03T16:26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33</vt:r8>
  </property>
  <property fmtid="{D5CDD505-2E9C-101B-9397-08002B2CF9AE}" pid="3" name="_Version">
    <vt:lpwstr>12.0.4518</vt:lpwstr>
  </property>
</Properties>
</file>